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824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4192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96443-D0C2-400A-9327-02CAEBE8C0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D0BBD-F21C-4F97-9E2F-3B33FB3D09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84192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87671-D179-4E3B-8187-46E6BF5221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84192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BA8D-AD37-4E25-94A4-B9838F506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697E-5D84-40C0-A9ED-6E0B310B6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4A31-6D14-4A04-B225-7208840D0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5E8B-42C5-4085-9CFF-5104240C7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FE8F8-6D0B-4EB0-93A9-256BE1CD8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22DB9-5DAA-458A-A9EF-0B1205938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B4204-2F0A-4AC7-8A09-0E36B4BC5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67DCE-EA41-4CBC-95A6-F30EB4E15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60905-4F34-4DAE-BBE8-2FF12DF1D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09186-465D-4AC7-8EC8-EBA3E6361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3A259-05AC-4CA1-A9D6-E7CD32955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D880-A4F8-4E14-B36F-58A99EAF6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37D34-83F6-4AA0-9BA8-AFE97590B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8B680-262D-4E4E-84FB-A3DBEFEDD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DEF53-E085-452E-A6AE-FDCC21A6A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45D87-95A2-4DE8-A763-722A571AF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7C1A7-7522-4623-BE0C-B9B4D424B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95FE-DEC0-416E-9923-C9BB8B91D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21FA-6F88-4E57-99A3-9D801227B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CE15-C04C-4AC8-A442-FC3A8A311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CECB-EE7E-4144-A975-0FCB569BF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785A-E03E-4D46-B978-1F575F6C5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B7DA-38F2-4E10-8539-E6A19B332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806F-4092-4336-B5A5-D9FC20ED9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156000" y="6237000"/>
            <a:ext cx="198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71D58-B501-4945-B8D8-183FF21F622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190000" y="5373720"/>
            <a:ext cx="801720" cy="129528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4"/>
          <a:stretch/>
        </p:blipFill>
        <p:spPr>
          <a:xfrm>
            <a:off x="8028000" y="4365720"/>
            <a:ext cx="936720" cy="925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FDBFE-787B-42CB-8BE9-AFB994AC6FC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179280" y="3141720"/>
            <a:ext cx="2090880" cy="3240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7596360" y="5013360"/>
            <a:ext cx="1223640" cy="12114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000" spc="-1" strike="noStrike">
                <a:solidFill>
                  <a:srgbClr val="000000"/>
                </a:solidFill>
                <a:latin typeface="Verdana"/>
              </a:rPr>
              <a:t>International Information Literacy Standard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268360" y="3428640"/>
            <a:ext cx="6189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Verdana"/>
              </a:rPr>
              <a:t>Presented b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2400" spc="-1" strike="noStrike">
                <a:solidFill>
                  <a:srgbClr val="000000"/>
                </a:solidFill>
                <a:latin typeface="Verdana"/>
              </a:rPr>
              <a:t>Karin de Jag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Verdana"/>
              </a:rPr>
              <a:t>Email: karin.dejager@uct.ac.z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400" spc="-1" strike="noStrike">
                <a:solidFill>
                  <a:srgbClr val="000000"/>
                </a:solidFill>
                <a:latin typeface="Verdana"/>
              </a:rPr>
              <a:t>Substantial consensus on defini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Issue now what to DO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me acceptance of a standard s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E benchmark of skills and competencies – may be adjusted to any of the other mode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 all standards sole responsibility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f information work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laboration essenti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T Workshop Cape Tow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7741-DF31-4C41-AD9D-67BDB7C18D5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- 6 Oct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800" spc="-1" strike="noStrike">
                <a:solidFill>
                  <a:srgbClr val="000000"/>
                </a:solidFill>
                <a:latin typeface="Verdana"/>
              </a:rPr>
              <a:t>Acces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6280" y="1844640"/>
            <a:ext cx="800100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6699"/>
                </a:solidFill>
                <a:latin typeface="Arial"/>
              </a:rPr>
              <a:t>1. Definition and articulation of the information need</a:t>
            </a:r>
            <a:r>
              <a:rPr b="0" lang="en-US" sz="19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fines or recognizes the need for information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cides to do something to find the informat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xpress and defines the information need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nitiates the search proces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336699"/>
                </a:solidFill>
                <a:latin typeface="Arial"/>
              </a:rPr>
              <a:t>2. Location of informat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dentifies and evaluates potential sources of information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velops search strategi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ccesses the selected information sourc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lects and retrieves the located informat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T Workshop Cape Tow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8A68-A028-445B-95E5-D38E1E3EDA5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- 6 Oct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800" spc="-1" strike="noStrike">
                <a:solidFill>
                  <a:srgbClr val="000000"/>
                </a:solidFill>
                <a:latin typeface="Verdana"/>
              </a:rPr>
              <a:t>Evalu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6699"/>
                </a:solidFill>
                <a:latin typeface="Arial"/>
              </a:rPr>
              <a:t>3.</a:t>
            </a:r>
            <a:r>
              <a:rPr b="0" lang="en-US" sz="21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336699"/>
                </a:solidFill>
                <a:latin typeface="Arial"/>
              </a:rPr>
              <a:t>Assessment of information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nalyzes, examines, and extract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inform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eneralizes and interprets inform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lects and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synthesizes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inform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valuates accuracy and relevance of the retrieved inform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6699"/>
                </a:solidFill>
                <a:latin typeface="Arial"/>
              </a:rPr>
              <a:t>4.</a:t>
            </a:r>
            <a:r>
              <a:rPr b="0" lang="en-US" sz="21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336699"/>
                </a:solidFill>
                <a:latin typeface="Arial"/>
              </a:rPr>
              <a:t>Organization of information</a:t>
            </a:r>
            <a:r>
              <a:rPr b="1" lang="en-US" sz="2100" spc="-1" strike="noStrike" u="sng">
                <a:solidFill>
                  <a:srgbClr val="336699"/>
                </a:solidFill>
                <a:uFillTx/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rranges and categorizes inform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roups and organizes the retrieved information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etermines which is the best and most useful information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T Workshop Cape Tow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F523-DADD-442A-BDB6-F9D76EC11C2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- 6 Oct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800" spc="-1" strike="noStrike">
                <a:solidFill>
                  <a:srgbClr val="000000"/>
                </a:solidFill>
                <a:latin typeface="Verdana"/>
              </a:rPr>
              <a:t>Us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6699"/>
                </a:solidFill>
                <a:latin typeface="Arial"/>
              </a:rPr>
              <a:t>5.</a:t>
            </a:r>
            <a:r>
              <a:rPr b="0" lang="en-US" sz="19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336699"/>
                </a:solidFill>
                <a:latin typeface="Arial"/>
              </a:rPr>
              <a:t>Use of informat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inds new ways to communicate, present and use informat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pplies the retrieved informat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earns or internalizes information as personal knowledg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esents the information produc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6699"/>
                </a:solidFill>
                <a:latin typeface="Arial"/>
              </a:rPr>
              <a:t>6.</a:t>
            </a:r>
            <a:r>
              <a:rPr b="0" lang="en-US" sz="19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336699"/>
                </a:solidFill>
                <a:latin typeface="Arial"/>
              </a:rPr>
              <a:t>Communication and ethical use of informat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Understands ethical use of informat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espects the legal use of informat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ommunicates the learning product with acknowledgement of intellectual property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Uses the relevant acknowledgement style standards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T Workshop Cape Tow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9B36-E884-4A1F-9940-02451053B56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- 6 Oct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400" spc="-1" strike="noStrike">
                <a:solidFill>
                  <a:srgbClr val="000000"/>
                </a:solidFill>
                <a:latin typeface="Verdana"/>
              </a:rPr>
              <a:t>Mapping standards to tasks: Performance &amp; Proficienc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000000"/>
                </a:solidFill>
                <a:latin typeface="Verdana"/>
              </a:rPr>
              <a:t>ACCESS:</a:t>
            </a:r>
            <a:r>
              <a:rPr b="0" lang="en-ZA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ZA" sz="2600" spc="-1" strike="noStrike">
                <a:solidFill>
                  <a:srgbClr val="336699"/>
                </a:solidFill>
                <a:latin typeface="Verdana"/>
              </a:rPr>
              <a:t>Ne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200" spc="-1" strike="noStrike">
                <a:solidFill>
                  <a:srgbClr val="000000"/>
                </a:solidFill>
                <a:latin typeface="Verdana"/>
              </a:rPr>
              <a:t>i.e.</a:t>
            </a:r>
            <a:r>
              <a:rPr b="0" lang="en-ZA" sz="2200" spc="-1" strike="noStrike">
                <a:solidFill>
                  <a:srgbClr val="000000"/>
                </a:solidFill>
                <a:latin typeface="Verdana"/>
              </a:rPr>
              <a:t> recognising; defining; expressing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Verdana"/>
              </a:rPr>
              <a:t>Examples of tasks/questions; i.e. </a:t>
            </a:r>
            <a:r>
              <a:rPr b="1" i="1" lang="en-ZA" sz="2000" spc="-1" strike="noStrike">
                <a:solidFill>
                  <a:srgbClr val="000000"/>
                </a:solidFill>
                <a:latin typeface="Verdana"/>
              </a:rPr>
              <a:t>Performance:</a:t>
            </a:r>
            <a:r>
              <a:rPr b="0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Verdana"/>
              </a:rPr>
              <a:t>What do you do you are given a research task? (Provide option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Verdana"/>
              </a:rPr>
              <a:t>Which sources will you consult for a given task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Verdana"/>
              </a:rPr>
              <a:t>Pose a question &amp; ask how  they will go about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ZA" sz="2000" spc="-1" strike="noStrike">
                <a:solidFill>
                  <a:srgbClr val="000000"/>
                </a:solidFill>
                <a:latin typeface="Verdana"/>
              </a:rPr>
              <a:t>finding a solu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2400" spc="-1" strike="noStrike">
                <a:solidFill>
                  <a:srgbClr val="000000"/>
                </a:solidFill>
                <a:latin typeface="Verdana"/>
              </a:rPr>
              <a:t>Proficiency</a:t>
            </a:r>
            <a:r>
              <a:rPr b="0" lang="en-ZA" sz="2400" spc="-1" strike="noStrike">
                <a:solidFill>
                  <a:srgbClr val="000000"/>
                </a:solidFill>
                <a:latin typeface="Verdana"/>
              </a:rPr>
              <a:t> may be deduced from answers &amp; will inform the way forward: feedback &amp; assess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T Workshop Cape Tow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97F3-A37C-4A9B-A763-6CC7F9E5E0A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- 6 Oct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800" spc="-1" strike="noStrike">
                <a:solidFill>
                  <a:srgbClr val="000000"/>
                </a:solidFill>
                <a:latin typeface="Verdana"/>
              </a:rPr>
              <a:t>ACCESS: </a:t>
            </a:r>
            <a:r>
              <a:rPr b="1" lang="en-ZA" sz="3800" spc="-1" strike="noStrike">
                <a:solidFill>
                  <a:srgbClr val="336699"/>
                </a:solidFill>
                <a:latin typeface="Verdana"/>
              </a:rPr>
              <a:t>Loc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000000"/>
                </a:solidFill>
                <a:latin typeface="Verdana"/>
              </a:rPr>
              <a:t>i.e.</a:t>
            </a:r>
            <a:r>
              <a:rPr b="0" lang="en-ZA" sz="2600" spc="-1" strike="noStrike">
                <a:solidFill>
                  <a:srgbClr val="000000"/>
                </a:solidFill>
                <a:latin typeface="Verdana"/>
              </a:rPr>
              <a:t> formulating; identifying sources; searching &amp; selecting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000000"/>
                </a:solidFill>
                <a:latin typeface="Verdana"/>
              </a:rPr>
              <a:t>Examples of tasks/questions :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Verdana"/>
              </a:rPr>
              <a:t>Give a broad topic &amp; ask students to select most appropriate </a:t>
            </a:r>
            <a:r>
              <a:rPr b="0" i="1" lang="en-ZA" sz="2400" spc="-1" strike="noStrike">
                <a:solidFill>
                  <a:srgbClr val="000000"/>
                </a:solidFill>
                <a:latin typeface="Verdana"/>
              </a:rPr>
              <a:t>keyw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Verdana"/>
              </a:rPr>
              <a:t>Use keywords to construct a Boolean search stat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Verdana"/>
              </a:rPr>
              <a:t>Give a broad topic &amp; ask students to formulate a research </a:t>
            </a:r>
            <a:r>
              <a:rPr b="0" i="1" lang="en-ZA" sz="2400" spc="-1" strike="noStrike">
                <a:solidFill>
                  <a:srgbClr val="000000"/>
                </a:solidFill>
                <a:latin typeface="Verdana"/>
              </a:rPr>
              <a:t>question</a:t>
            </a:r>
            <a:r>
              <a:rPr b="0" lang="en-ZA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Verdana"/>
              </a:rPr>
              <a:t>Choose where you would look for an answer to the following questions (give option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T Workshop Cape Tow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EEDE-63C3-4F9A-962E-A50F9A70D39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- 6 Oct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560" y="304560"/>
            <a:ext cx="889308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400" spc="-1" strike="noStrike">
                <a:solidFill>
                  <a:srgbClr val="000000"/>
                </a:solidFill>
                <a:latin typeface="Verdana"/>
              </a:rPr>
              <a:t>EVALUATION:</a:t>
            </a:r>
            <a:r>
              <a:rPr b="1" lang="en-ZA" sz="3400" spc="-1" strike="noStrike">
                <a:solidFill>
                  <a:srgbClr val="336699"/>
                </a:solidFill>
                <a:latin typeface="Verdana"/>
              </a:rPr>
              <a:t>Assessing</a:t>
            </a:r>
            <a:r>
              <a:rPr b="0" lang="en-ZA" sz="34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1" lang="en-ZA" sz="3400" spc="-1" strike="noStrike">
                <a:solidFill>
                  <a:srgbClr val="336699"/>
                </a:solidFill>
                <a:latin typeface="Verdana"/>
              </a:rPr>
              <a:t>inform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ZA" sz="2600" spc="-1" strike="noStrike">
                <a:solidFill>
                  <a:srgbClr val="000000"/>
                </a:solidFill>
                <a:latin typeface="Verdana"/>
              </a:rPr>
              <a:t>i.e.</a:t>
            </a:r>
            <a:r>
              <a:rPr b="0" lang="en-ZA" sz="2600" spc="-1" strike="noStrike">
                <a:solidFill>
                  <a:srgbClr val="000000"/>
                </a:solidFill>
                <a:latin typeface="Verdana"/>
              </a:rPr>
              <a:t> examining, extracting, interpreting, selecting, evaluating accuracy &amp; relevance. Examples of tasks/question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Verdana"/>
              </a:rPr>
              <a:t>How does information from various sources differ? (e.g. www; magazines encyclopaedias; newspapers; journal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Verdana"/>
              </a:rPr>
              <a:t>Comparing ‘scholarly’ &amp; ‘commercial’ information on the same topic from 2 different website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Verdana"/>
              </a:rPr>
              <a:t>How to deal with too many ‘hits’ after               a search – refining a search state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T Workshop Cape Tow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BB0D-A70A-4F24-A62E-BD3D634DA71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- 6 Oct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800" spc="-1" strike="noStrike">
                <a:solidFill>
                  <a:srgbClr val="000000"/>
                </a:solidFill>
                <a:latin typeface="Verdana"/>
              </a:rPr>
              <a:t>EVALUATION: </a:t>
            </a:r>
            <a:r>
              <a:rPr b="1" lang="en-ZA" sz="3800" spc="-1" strike="noStrike">
                <a:solidFill>
                  <a:srgbClr val="336699"/>
                </a:solidFill>
                <a:latin typeface="Verdana"/>
              </a:rPr>
              <a:t>Organisi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ZA" sz="2600" spc="-1" strike="noStrike">
                <a:solidFill>
                  <a:srgbClr val="000000"/>
                </a:solidFill>
                <a:latin typeface="Verdana"/>
              </a:rPr>
              <a:t>i.e. sorting, arranging, categorising,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ZA" sz="2600" spc="-1" strike="noStrike">
                <a:solidFill>
                  <a:srgbClr val="000000"/>
                </a:solidFill>
                <a:latin typeface="Verdana"/>
              </a:rPr>
              <a:t>Examples of tasks/question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ZA" sz="2200" spc="-1" strike="noStrike">
                <a:solidFill>
                  <a:srgbClr val="000000"/>
                </a:solidFill>
                <a:latin typeface="Verdana"/>
              </a:rPr>
              <a:t>Order information from different sources under headings &amp; subheadings that belong together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Verdana"/>
              </a:rPr>
              <a:t>Order retrieved information to construct a logical argu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Verdana"/>
              </a:rPr>
              <a:t>Select, locate &amp; retrieve items in different formats  for a subject bibliography &amp; explain why they are the best sour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T Workshop Cape Tow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FDC5-0400-41BA-B53A-BD0D0BF010D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- 6 Oct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800" spc="-1" strike="noStrike">
                <a:solidFill>
                  <a:srgbClr val="000000"/>
                </a:solidFill>
                <a:latin typeface="Verdana"/>
              </a:rPr>
              <a:t>US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182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ZA" sz="2600" spc="-1" strike="noStrike">
                <a:solidFill>
                  <a:srgbClr val="000000"/>
                </a:solidFill>
                <a:latin typeface="Verdana"/>
              </a:rPr>
              <a:t>Applying &amp; presenting information to produce essay/task/dissertation in </a:t>
            </a:r>
            <a:r>
              <a:rPr b="0" i="1" lang="en-ZA" sz="2600" spc="-1" strike="noStrike">
                <a:solidFill>
                  <a:srgbClr val="000000"/>
                </a:solidFill>
                <a:latin typeface="Verdana"/>
              </a:rPr>
              <a:t>collaboration</a:t>
            </a:r>
            <a:r>
              <a:rPr b="0" lang="en-ZA" sz="2600" spc="-1" strike="noStrike">
                <a:solidFill>
                  <a:srgbClr val="000000"/>
                </a:solidFill>
                <a:latin typeface="Verdana"/>
              </a:rPr>
              <a:t> with teach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ZA" sz="2600" spc="-1" strike="noStrike">
                <a:solidFill>
                  <a:srgbClr val="000000"/>
                </a:solidFill>
                <a:latin typeface="Verdana"/>
              </a:rPr>
              <a:t>Ethical &amp; legal use - Exercises &amp; task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Verdana"/>
              </a:rPr>
              <a:t>Citation styles &amp; technique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Verdana"/>
              </a:rPr>
              <a:t>Using citation software, e.g. RefWork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Verdana"/>
              </a:rPr>
              <a:t>Recognising examples of plagiaris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Verdana"/>
              </a:rPr>
              <a:t>Writing independently without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ZA" sz="2200" spc="-1" strike="noStrike">
                <a:solidFill>
                  <a:srgbClr val="000000"/>
                </a:solidFill>
                <a:latin typeface="Verdana"/>
              </a:rPr>
              <a:t>resorting to cut &amp; paste or plagiaris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T Workshop Cape Tow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8E5C-F56B-4132-82C8-CC899A34822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- 6 Oct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36520" y="189000"/>
            <a:ext cx="7467840" cy="853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dddddd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  <a:ea typeface="Times New Roman"/>
              </a:rPr>
              <a:t>Use of the Guidelines</a:t>
            </a:r>
            <a:r>
              <a:rPr b="1" lang="es-ES" sz="3000" spc="-1" strike="noStrike">
                <a:solidFill>
                  <a:srgbClr val="cc0000"/>
                </a:solidFill>
                <a:latin typeface="Arial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627280" y="1773360"/>
            <a:ext cx="4191120" cy="473040"/>
          </a:xfrm>
          <a:prstGeom prst="rect">
            <a:avLst/>
          </a:prstGeom>
          <a:solidFill>
            <a:srgbClr val="a3b2c1">
              <a:alpha val="27000"/>
            </a:srgbClr>
          </a:solidFill>
          <a:ln cap="sq"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0000"/>
                </a:solidFill>
                <a:latin typeface="Arial"/>
                <a:ea typeface="Times New Roman"/>
              </a:rPr>
              <a:t>A framework</a:t>
            </a:r>
            <a:r>
              <a:rPr b="0" lang="es-ES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612880" y="2390760"/>
            <a:ext cx="4191120" cy="822240"/>
          </a:xfrm>
          <a:prstGeom prst="rect">
            <a:avLst/>
          </a:prstGeom>
          <a:solidFill>
            <a:srgbClr val="a3b2c1">
              <a:alpha val="27000"/>
            </a:srgbClr>
          </a:solidFill>
          <a:ln cap="sq"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  <a:ea typeface="Times New Roman"/>
              </a:rPr>
              <a:t>Adapt to 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  <a:ea typeface="Times New Roman"/>
              </a:rPr>
              <a:t>and  institutional needs</a:t>
            </a:r>
            <a:r>
              <a:rPr b="0" lang="es-ES" sz="2000" spc="-1" strike="noStrike">
                <a:solidFill>
                  <a:srgbClr val="cc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12880" y="3348000"/>
            <a:ext cx="4191120" cy="762120"/>
          </a:xfrm>
          <a:prstGeom prst="rect">
            <a:avLst/>
          </a:prstGeom>
          <a:solidFill>
            <a:srgbClr val="a3b2c1">
              <a:alpha val="27000"/>
            </a:srgbClr>
          </a:solidFill>
          <a:ln cap="sq"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  <a:ea typeface="Times New Roman"/>
              </a:rPr>
              <a:t>Be flexible  in the applic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  <a:ea typeface="Times New Roman"/>
              </a:rPr>
              <a:t>of guidelines</a:t>
            </a:r>
            <a:r>
              <a:rPr b="0" lang="es-ES" sz="2000" spc="-1" strike="noStrike">
                <a:solidFill>
                  <a:srgbClr val="cc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12880" y="4251240"/>
            <a:ext cx="4191120" cy="1049400"/>
          </a:xfrm>
          <a:prstGeom prst="rect">
            <a:avLst/>
          </a:prstGeom>
          <a:solidFill>
            <a:srgbClr val="a3b2c1">
              <a:alpha val="27000"/>
            </a:srgbClr>
          </a:solidFill>
          <a:ln cap="sq"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  <a:ea typeface="Times New Roman"/>
              </a:rPr>
              <a:t>Begin or reinforc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  <a:ea typeface="Times New Roman"/>
              </a:rPr>
              <a:t>previous 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  <a:ea typeface="Times New Roman"/>
              </a:rPr>
              <a:t>literacy work</a:t>
            </a:r>
            <a:r>
              <a:rPr b="0" lang="es-ES" sz="2000" spc="-1" strike="noStrike">
                <a:solidFill>
                  <a:srgbClr val="cc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12880" y="5481720"/>
            <a:ext cx="4191120" cy="826920"/>
          </a:xfrm>
          <a:prstGeom prst="rect">
            <a:avLst/>
          </a:prstGeom>
          <a:solidFill>
            <a:srgbClr val="a3b2c1">
              <a:alpha val="27000"/>
            </a:srgbClr>
          </a:solidFill>
          <a:ln cap="sq"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  <a:ea typeface="Times New Roman"/>
              </a:rPr>
              <a:t>Do whatever you 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  <a:ea typeface="Times New Roman"/>
              </a:rPr>
              <a:t>with the resources you have</a:t>
            </a:r>
            <a:r>
              <a:rPr b="0" lang="es-ES" sz="2000" spc="-1" strike="noStrike">
                <a:solidFill>
                  <a:srgbClr val="cc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29240" y="2247840"/>
            <a:ext cx="0" cy="152640"/>
          </a:xfrm>
          <a:prstGeom prst="line">
            <a:avLst/>
          </a:prstGeom>
          <a:ln cap="sq"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94320" y="3132000"/>
            <a:ext cx="0" cy="228600"/>
          </a:xfrm>
          <a:prstGeom prst="line">
            <a:avLst/>
          </a:prstGeom>
          <a:ln cap="sq"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94320" y="4122720"/>
            <a:ext cx="0" cy="152280"/>
          </a:xfrm>
          <a:prstGeom prst="line">
            <a:avLst/>
          </a:prstGeom>
          <a:ln cap="sq"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29240" y="5272200"/>
            <a:ext cx="0" cy="228600"/>
          </a:xfrm>
          <a:prstGeom prst="line">
            <a:avLst/>
          </a:prstGeom>
          <a:ln cap="sq"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T Workshop Cape Tow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4C04-8725-4E20-8DAA-1A4ECBDB1E2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- 6 Oct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800" spc="-1" strike="noStrike">
                <a:solidFill>
                  <a:srgbClr val="000000"/>
                </a:solidFill>
                <a:latin typeface="Verdana"/>
              </a:rPr>
              <a:t>Why Standards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000000"/>
                </a:solidFill>
                <a:latin typeface="Verdana"/>
              </a:rPr>
              <a:t>Provide a framework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Verdana"/>
              </a:rPr>
              <a:t>For librarians: specific indicators that identify I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Verdana"/>
              </a:rPr>
              <a:t>For teachers: embedding IL in curricula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Verdana"/>
              </a:rPr>
              <a:t>For students: explicit competencies required for gaining control over information environ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000000"/>
                </a:solidFill>
                <a:latin typeface="Verdana"/>
              </a:rPr>
              <a:t>Need for assessment methodologies based on abilities &amp; performa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000000"/>
                </a:solidFill>
                <a:latin typeface="Verdana"/>
              </a:rPr>
              <a:t>Pressure on libraries to demonstrate ro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ZA" sz="2600" spc="-1" strike="noStrike">
                <a:solidFill>
                  <a:srgbClr val="000000"/>
                </a:solidFill>
                <a:latin typeface="Verdana"/>
              </a:rPr>
              <a:t>in improving student performa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T Workshop Cape Tow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9607-A26F-482E-AB53-27BBA19C038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- 6 Oct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800" spc="-1" strike="noStrike">
                <a:solidFill>
                  <a:srgbClr val="000000"/>
                </a:solidFill>
                <a:latin typeface="Verdana"/>
              </a:rPr>
              <a:t>Task 1 for Portfol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6280" y="2492280"/>
            <a:ext cx="80010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Study Chapter 3 of the Guidelines and try to identify </a:t>
            </a:r>
            <a:r>
              <a:rPr b="0" i="1" lang="en-GB" sz="3000" spc="-1" strike="noStrike">
                <a:solidFill>
                  <a:srgbClr val="000000"/>
                </a:solidFill>
                <a:latin typeface="Verdana"/>
              </a:rPr>
              <a:t>at least</a:t>
            </a: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 two teaching tests or exercises for each information literacy standard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ACCESS; EVALUATION; US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T Workshop Cape Tow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ACD5-3F6D-4902-9374-01749CCFBC6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- 6 Oct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800" spc="-1" strike="noStrike">
                <a:solidFill>
                  <a:srgbClr val="000000"/>
                </a:solidFill>
                <a:latin typeface="Verdana"/>
              </a:rPr>
              <a:t>Kinds of standard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3000" spc="-1" strike="noStrike">
                <a:solidFill>
                  <a:srgbClr val="000000"/>
                </a:solidFill>
                <a:latin typeface="Verdana"/>
              </a:rPr>
              <a:t>Content </a:t>
            </a:r>
            <a:r>
              <a:rPr b="0" lang="en-ZA" sz="3000" spc="-1" strike="noStrike">
                <a:solidFill>
                  <a:srgbClr val="000000"/>
                </a:solidFill>
                <a:latin typeface="Verdana"/>
              </a:rPr>
              <a:t>standards outline what student should know &amp; be able to 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spcAft>
                <a:spcPts val="374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3000" spc="-1" strike="noStrike">
                <a:solidFill>
                  <a:srgbClr val="000000"/>
                </a:solidFill>
                <a:latin typeface="Verdana"/>
              </a:rPr>
              <a:t>Performance</a:t>
            </a:r>
            <a:r>
              <a:rPr b="0" lang="en-ZA" sz="3000" spc="-1" strike="noStrike">
                <a:solidFill>
                  <a:srgbClr val="000000"/>
                </a:solidFill>
                <a:latin typeface="Verdana"/>
              </a:rPr>
              <a:t> standards indicate how they will show that they conform to that standar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3000" spc="-1" strike="noStrike">
                <a:solidFill>
                  <a:srgbClr val="000000"/>
                </a:solidFill>
                <a:latin typeface="Verdana"/>
              </a:rPr>
              <a:t>Proficiency</a:t>
            </a:r>
            <a:r>
              <a:rPr b="0" lang="en-ZA" sz="3000" spc="-1" strike="noStrike">
                <a:solidFill>
                  <a:srgbClr val="000000"/>
                </a:solidFill>
                <a:latin typeface="Verdana"/>
              </a:rPr>
              <a:t> standards specify how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ZA" sz="3000" spc="-1" strike="noStrike">
                <a:solidFill>
                  <a:srgbClr val="000000"/>
                </a:solidFill>
                <a:latin typeface="Verdana"/>
              </a:rPr>
              <a:t>well they should perfor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T Workshop Cape Tow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C521-FBFE-4214-9D4B-B1A43639C65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- 6 Oct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000" spc="-1" strike="noStrike">
                <a:solidFill>
                  <a:srgbClr val="000000"/>
                </a:solidFill>
                <a:latin typeface="Verdana"/>
                <a:ea typeface="Osaka"/>
              </a:rPr>
              <a:t>Countries with IL standard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988640"/>
            <a:ext cx="8001000" cy="40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 (ACRL/AASL, standard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ed Kingdom (SCONUL: 7 Pillar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stralia (CAUL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xic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untries have adopted ACRL, and AASL stand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IFLA standards “based on these international experiences &amp; contributions” </a:t>
            </a: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(Guidelin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T Workshop Cape Tow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122B-828C-4778-9F6E-EAAD2AFDA24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- 6 Oct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800" spc="-1" strike="noStrike">
                <a:solidFill>
                  <a:srgbClr val="000000"/>
                </a:solidFill>
                <a:latin typeface="Verdana"/>
              </a:rPr>
              <a:t>ACRL Standard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23640" y="2060640"/>
            <a:ext cx="8001000" cy="41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Standard 1: </a:t>
            </a:r>
            <a:r>
              <a:rPr b="0" lang="en-US" sz="2600" spc="-1" strike="noStrike">
                <a:solidFill>
                  <a:srgbClr val="336699"/>
                </a:solidFill>
                <a:latin typeface="Verdana"/>
                <a:ea typeface="Times New Roman"/>
              </a:rPr>
              <a:t>“The information literate person determines the nature and extent of the information needed”</a:t>
            </a:r>
            <a:r>
              <a:rPr b="0" lang="en-US" sz="2600" spc="-1" strike="noStrike">
                <a:solidFill>
                  <a:srgbClr val="990033"/>
                </a:solidFill>
                <a:latin typeface="Verdana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Focus on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awareness of information nee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Standard 2:</a:t>
            </a:r>
            <a:r>
              <a:rPr b="0" lang="en-US" sz="2600" spc="-1" strike="noStrike">
                <a:solidFill>
                  <a:srgbClr val="660033"/>
                </a:solidFill>
                <a:latin typeface="Verdana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336699"/>
                </a:solidFill>
                <a:latin typeface="Verdana"/>
                <a:ea typeface="Times New Roman"/>
              </a:rPr>
              <a:t>“The information literate person accesses information effectively and efficiently”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Focus on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searching and search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strate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T Workshop Cape Tow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DA06-540B-43AE-8822-629ED878FF3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- 6 Oct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800" spc="-1" strike="noStrike">
                <a:solidFill>
                  <a:srgbClr val="000000"/>
                </a:solidFill>
                <a:latin typeface="Verdana"/>
              </a:rPr>
              <a:t>ACRL Standards continue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699920"/>
            <a:ext cx="80010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Standard 3: </a:t>
            </a:r>
            <a:r>
              <a:rPr b="0" lang="en-US" sz="2600" spc="-1" strike="noStrike">
                <a:solidFill>
                  <a:srgbClr val="336699"/>
                </a:solidFill>
                <a:latin typeface="Verdana"/>
                <a:ea typeface="Times New Roman"/>
              </a:rPr>
              <a:t>“The information literate student evaluates information and its sources critically and incorporates  selected information into his or her knowledge base and value system”</a:t>
            </a:r>
            <a:r>
              <a:rPr b="0" lang="en-US" sz="2600" spc="-1" strike="noStrike">
                <a:solidFill>
                  <a:srgbClr val="660033"/>
                </a:solidFill>
                <a:latin typeface="Verdana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focus here on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evalu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Standard 4:</a:t>
            </a:r>
            <a:r>
              <a:rPr b="0" i="1" lang="en-ZA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336699"/>
                </a:solidFill>
                <a:latin typeface="Verdana"/>
                <a:ea typeface="Times New Roman"/>
              </a:rPr>
              <a:t>“The information literate person, individually or as a member of a group, uses information effectively to accomplish a specific purpose”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focus here on the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use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of inform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T Workshop Cape Tow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FFFF-DA1A-4A09-BD18-0B0A0AF7D50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- 6 Oct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800" spc="-1" strike="noStrike">
                <a:solidFill>
                  <a:srgbClr val="000000"/>
                </a:solidFill>
                <a:latin typeface="Verdana"/>
              </a:rPr>
              <a:t>ACRL Standards continue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000000"/>
                </a:solidFill>
                <a:latin typeface="Verdana"/>
              </a:rPr>
              <a:t>Standard 5: </a:t>
            </a:r>
            <a:r>
              <a:rPr b="0" lang="en-US" sz="2600" spc="-1" strike="noStrike">
                <a:solidFill>
                  <a:srgbClr val="336699"/>
                </a:solidFill>
                <a:latin typeface="Verdana"/>
                <a:ea typeface="Times New Roman"/>
              </a:rPr>
              <a:t>“The information literate person understands many of the ethical, legal and socio-economic issues surrounding  information and information technology”</a:t>
            </a:r>
            <a:r>
              <a:rPr b="0" lang="en-US" sz="2600" spc="-1" strike="noStrike">
                <a:solidFill>
                  <a:srgbClr val="660033"/>
                </a:solidFill>
                <a:latin typeface="Verdana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Focus is here on the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overall contex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 of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ethical and legal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 practic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Standard 6?: </a:t>
            </a:r>
            <a:r>
              <a:rPr b="0" lang="en-US" sz="2600" spc="-1" strike="noStrike">
                <a:solidFill>
                  <a:srgbClr val="336699"/>
                </a:solidFill>
                <a:latin typeface="Verdana"/>
                <a:ea typeface="Times New Roman"/>
              </a:rPr>
              <a:t>“The information literate person recognizes that lifelong learning &amp; participative citizenship requir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Verdana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336699"/>
                </a:solidFill>
                <a:latin typeface="Verdana"/>
                <a:ea typeface="Times New Roman"/>
              </a:rPr>
              <a:t>information literacy”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Focus is on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lifelong learning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T Workshop Cape Tow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3B9F-BEDF-4091-9203-3C67BC16A4A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- 6 Oct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539280" y="1773360"/>
            <a:ext cx="6999840" cy="4068720"/>
            <a:chOff x="539280" y="1773360"/>
            <a:chExt cx="6999840" cy="4068720"/>
          </a:xfrm>
        </p:grpSpPr>
        <p:sp>
          <p:nvSpPr>
            <p:cNvPr id="111" name=""/>
            <p:cNvSpPr/>
            <p:nvPr/>
          </p:nvSpPr>
          <p:spPr>
            <a:xfrm>
              <a:off x="627120" y="1773360"/>
              <a:ext cx="138240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640" rIns="7164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Acces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73840" y="1773360"/>
              <a:ext cx="92520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640" rIns="7164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600" spc="-1" strike="noStrike">
                  <a:solidFill>
                    <a:srgbClr val="000000"/>
                  </a:solidFill>
                  <a:latin typeface="Arial"/>
                </a:rPr>
                <a:t>Use</a:t>
              </a:r>
              <a:r>
                <a:rPr b="1" lang="es-ES" sz="2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3058920" y="2565720"/>
              <a:ext cx="2176560" cy="3230280"/>
            </a:xfrm>
            <a:prstGeom prst="leftArrowCallout">
              <a:avLst>
                <a:gd name="adj1" fmla="val 29080"/>
                <a:gd name="adj2" fmla="val 26474"/>
                <a:gd name="adj3" fmla="val 13611"/>
                <a:gd name="adj4" fmla="val 81531"/>
              </a:avLst>
            </a:prstGeom>
            <a:solidFill>
              <a:srgbClr val="a3b2c1">
                <a:alpha val="27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35640" bIns="35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cc0000"/>
                  </a:solidFill>
                  <a:uFillTx/>
                  <a:latin typeface="Arial"/>
                </a:rPr>
                <a:t>ASSESS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Analyz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Generaliz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Evaluat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cc0000"/>
                  </a:solidFill>
                  <a:uFillTx/>
                  <a:latin typeface="Arial"/>
                </a:rPr>
                <a:t>ORGANIZ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Categoriz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Structur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Organiz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987640" y="1773360"/>
              <a:ext cx="212256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640" rIns="7164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Evaluation</a:t>
              </a:r>
              <a:r>
                <a:rPr b="1" lang="es-ES" sz="2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538920" y="2565720"/>
              <a:ext cx="2103480" cy="3230280"/>
            </a:xfrm>
            <a:prstGeom prst="leftArrowCallout">
              <a:avLst>
                <a:gd name="adj1" fmla="val 30091"/>
                <a:gd name="adj2" fmla="val 27393"/>
                <a:gd name="adj3" fmla="val 13611"/>
                <a:gd name="adj4" fmla="val 81531"/>
              </a:avLst>
            </a:prstGeom>
            <a:solidFill>
              <a:srgbClr val="a3b2c1">
                <a:alpha val="27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35640" bIns="35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cc0000"/>
                  </a:solidFill>
                  <a:uFillTx/>
                  <a:latin typeface="Arial"/>
                </a:rPr>
                <a:t>NE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Decid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Express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Initiat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cc0000"/>
                  </a:solidFill>
                  <a:uFillTx/>
                  <a:latin typeface="Arial"/>
                </a:rPr>
                <a:t>LO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Search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Select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Retriev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580000" y="2638800"/>
              <a:ext cx="1959120" cy="3203280"/>
            </a:xfrm>
            <a:prstGeom prst="leftArrowCallout">
              <a:avLst>
                <a:gd name="adj1" fmla="val 32083"/>
                <a:gd name="adj2" fmla="val 29166"/>
                <a:gd name="adj3" fmla="val 0"/>
                <a:gd name="adj4" fmla="val 100009"/>
              </a:avLst>
            </a:prstGeom>
            <a:solidFill>
              <a:srgbClr val="a3b2c1">
                <a:alpha val="27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35640" bIns="35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cc0000"/>
                  </a:solidFill>
                  <a:uFillTx/>
                  <a:latin typeface="Arial"/>
                </a:rPr>
                <a:t>INFO U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Apply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Learn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Us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cc0000"/>
                  </a:solidFill>
                  <a:uFillTx/>
                  <a:latin typeface="Arial"/>
                </a:rPr>
                <a:t>COMMUNICAT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Ethical u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Acknowledg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Style standard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539640" y="333360"/>
            <a:ext cx="813600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  <a:ea typeface="Times New Roman"/>
              </a:rPr>
              <a:t>IFLA - Standards</a:t>
            </a:r>
            <a:r>
              <a:rPr b="1" lang="es-ES" sz="37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T Workshop Cape Tow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5090-CEC2-43CB-B937-574D9A6CB2A5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- 6 Oct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400" spc="-1" strike="noStrike">
                <a:solidFill>
                  <a:srgbClr val="000000"/>
                </a:solidFill>
                <a:latin typeface="Verdana"/>
              </a:rPr>
              <a:t>Common elements in IL Defini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2276640"/>
            <a:ext cx="80010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Verdana"/>
              </a:rPr>
              <a:t>Need for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Verdana"/>
              </a:rPr>
              <a:t>Locate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Verdana"/>
              </a:rPr>
              <a:t>Evaluate &amp; organise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Verdana"/>
              </a:rPr>
              <a:t>Use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Verdana"/>
              </a:rPr>
              <a:t>Evaluate process &amp; produ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T Workshop Cape Tow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6C0B-FAB5-4836-ACF0-4770D1B7000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- 6 Oct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5T11:18:49Z</dcterms:created>
  <dc:creator>Karin de Jager</dc:creator>
  <dc:description/>
  <dc:language>en-US</dc:language>
  <cp:lastModifiedBy>Albert K. Boekhorst</cp:lastModifiedBy>
  <dcterms:modified xsi:type="dcterms:W3CDTF">2008-10-04T11:46:43Z</dcterms:modified>
  <cp:revision>21</cp:revision>
  <dc:subject/>
  <dc:title>Slide 1</dc:title>
</cp:coreProperties>
</file>