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03F-DAB4-4B07-8FA9-56A793F7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EED-D82D-4DA7-8212-9F012E96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97E-875D-4356-920A-C097032F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417-56B3-4024-8336-70010601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99F3-93E3-4CB5-81C9-456A6390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E35D-17A6-402A-A9D6-B6AC5AC6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01C-DC42-4DCA-9E49-3E762A7F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D8C-B657-4302-B949-D70A90AF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94C0-DC8A-43E8-8B45-3A8C17D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9B36-247C-4248-AF9D-0EECECE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81B-4AD3-4E9B-AA16-B952886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696-7EA4-4F45-9083-1778351A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396E-3515-4855-82AE-6014EDB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67AF-59D2-47A5-A5A0-CE85E43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A779-19FA-41DF-A408-5C74A38D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C8F5-FF66-486C-B593-5D194D97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567-E8BF-42BE-A20A-8A5693C0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C5C-CB5F-4FFA-AE5A-BD62DDDE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420-BD87-4D3B-8FD7-8C1C5A5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B56-5087-4C51-A071-849CA880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5BB-8301-4058-A85F-AEA60FF0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E79-B472-4857-89A2-CB0C506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4F6-D7F6-4DC9-A02D-ABB8D4A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E25-AFBB-41C2-975C-47EF26E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56000" y="623700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38C5-023F-4B71-AE98-F77E598FDD1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90000" y="5373720"/>
            <a:ext cx="801720" cy="1295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028000" y="4365720"/>
            <a:ext cx="93672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846D-D3B3-4D1A-ABA7-C8C1B8EB45F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96360" y="5013360"/>
            <a:ext cx="1223640" cy="1211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Verdana"/>
              </a:rPr>
              <a:t>Institutional commitment and the Action Pla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360" y="3428640"/>
            <a:ext cx="6189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Verdana"/>
              </a:rPr>
              <a:t>Peter G. Underw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Verdana"/>
              </a:rPr>
              <a:t>Peter.Underwood@uct.ac.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400" spc="-1" strike="noStrike">
                <a:solidFill>
                  <a:srgbClr val="000000"/>
                </a:solidFill>
                <a:latin typeface="Verdana"/>
              </a:rPr>
              <a:t>Starting points – the parent organis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39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Knowledge of the organi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where is the locus of its managemen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Verdana"/>
              </a:rPr>
              <a:t>cent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Verdana"/>
              </a:rPr>
              <a:t>distributed, regi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is its decision-making focussed on a leader or is it participativ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Climate of tru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what happens when there is succes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Verdana"/>
              </a:rPr>
              <a:t>what happens when mistakes are mad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Starting points – your serv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What is the reputation of your servic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What is the capacity of your servic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What does it do wel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What does it do badl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What does it avoid do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Are constraints because of people or resourc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Starting points - y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46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To what extent do you trust your staff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How do you react to success and failur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to what extent are you willing to learn from experienc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The paradigm shif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39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Information literacy empowers individuals – they beco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more self-reli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less dependent on Y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more aware of the spread of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more demanding of access to a wide range of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less dependent on </a:t>
            </a:r>
            <a:r>
              <a:rPr b="0" i="1" lang="en-ZA" sz="2600" spc="-1" strike="noStrike">
                <a:solidFill>
                  <a:srgbClr val="000000"/>
                </a:solidFill>
                <a:latin typeface="Verdana"/>
              </a:rPr>
              <a:t>format</a:t>
            </a: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ZA" sz="26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The ima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39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Information literacy is a product with “our brand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Marketing becomes key to generating institutional commit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Marketing “mix” – now the “7 Ps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Peop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Physical eviden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Verdana"/>
              </a:rPr>
              <a:t>[BOOMS, B. H. and BITNER, M. J. 1981. Marketing: strategies and organization structures for service firms. In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Marketing of servic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edited by J. H. Donnelly and W. R. George. Chicago: American Marketing Association, pp. 47-51.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Institutional commit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46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Depends 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clear and shared percep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trust in the quality of the 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confidence in the provid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demonstrated </a:t>
            </a:r>
            <a:r>
              <a:rPr b="0" i="1" lang="en-ZA" sz="2600" spc="-1" strike="noStrike">
                <a:solidFill>
                  <a:srgbClr val="000000"/>
                </a:solidFill>
                <a:latin typeface="Verdana"/>
              </a:rPr>
              <a:t>n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But . . 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46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Verdana"/>
              </a:rPr>
              <a:t>Disconn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individual study versus group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multi-media digital cul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library “complexity” versus search engine “simplicit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Verdana"/>
              </a:rPr>
              <a:t>library-centred versus user-cent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0000"/>
                </a:solidFill>
                <a:latin typeface="Verdana"/>
              </a:rPr>
              <a:t>Primary task: how to align user and library expec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800" spc="-1" strike="noStrike">
                <a:solidFill>
                  <a:srgbClr val="000000"/>
                </a:solidFill>
                <a:latin typeface="Verdana"/>
              </a:rPr>
              <a:t>Action pl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39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Critical Success Factors (CSF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how will you determine success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do the factors align with institutional thinking and “success recognition”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Goa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what does the library team want to achieve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does this align with institutional thinking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who is to be influenced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how can they be reached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how will diversity be accommodated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700" spc="-1" strike="noStrike">
                <a:solidFill>
                  <a:srgbClr val="000000"/>
                </a:solidFill>
                <a:latin typeface="Verdana"/>
              </a:rPr>
              <a:t>how will the progress of this audience strategy be measured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Who is to be involved and in what ways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Verdana"/>
              </a:rPr>
              <a:t>Timesc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05:44Z</dcterms:created>
  <dc:creator>Peter G. Underwood</dc:creator>
  <dc:description/>
  <dc:language>en-US</dc:language>
  <cp:lastModifiedBy>Albert K. Boekhorst</cp:lastModifiedBy>
  <dcterms:modified xsi:type="dcterms:W3CDTF">2008-10-04T11:44:20Z</dcterms:modified>
  <cp:revision>3</cp:revision>
  <dc:subject/>
  <dc:title>Institutional commitment and the Action Plan</dc:title>
</cp:coreProperties>
</file>