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BECA-F857-4A80-9508-FB60BB4EA4C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E506-4222-44E6-B90F-C4AACBC097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76480" y="658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Make sure that goals for your information literacy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re consistent with the mission, goals, and objectives of the institu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re consistent with the mission statement of the IL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establish measurable outcomes for evaluation for the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reflect sound pedagogical practi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ccommodate input from various constituenc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rticulate the integration of information literacy across the curriculu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ccommodate student growth in skills and understanding throughout the school yea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pply to all learners, regardless of delivery system or loc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reflect the desired outcomes of preparing students for their academic pursuits and for effective lifelong learning;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are evaluated and reviewed periodically</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 and TOWS analysis helps you get a better understanding of your strategic choices. It helps you ask and answer how you can:</a:t>
            </a:r>
            <a:br>
              <a:rPr sz="1200"/>
            </a:br>
            <a:r>
              <a:rPr b="0" lang="en-US" sz="1200" spc="-1" strike="noStrike">
                <a:solidFill>
                  <a:srgbClr val="000000"/>
                </a:solidFill>
                <a:latin typeface="Arial"/>
              </a:rPr>
              <a:t>- Make the most of your strengt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vent your weakne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 on your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your th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when you need to understand your own competitive 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information helpful in matching your organization’s resources and capabilities to the environment in which it ope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an be too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in charge… How would you apply this competitor’s resources? How has the organization expanded? How has it financed and managed its growth? Does it have the resources to expand internationally? Use onl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WS Strategic Alternatives Matri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tension of the SWOT analys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the external environment (threats and opportunities) and your internal environment (weaknesses and strengths) to help you think about the strategy of your organization</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marketing campaig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ats and opportunitie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environmental factors over which you do not have control (changing demograph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nesses and strength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factors (poor location; not enough capital; good reput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your internal strengths and weaknesses; external threa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gest strategies that use your strengths to take advantage of opportunities (by overcoming weaknes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gest strategies that use your strengths to avoid threats (or minimize weaknes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you use your strengths to take advantage of these opportunities?</a:t>
            </a:r>
            <a:br>
              <a:rPr sz="1000"/>
            </a:br>
            <a:r>
              <a:rPr b="0" lang="en-US" sz="1000" spc="-1" strike="noStrike">
                <a:solidFill>
                  <a:srgbClr val="000000"/>
                </a:solidFill>
                <a:latin typeface="Arial"/>
              </a:rPr>
              <a:t>How can you take advantage of your strengths to avoid real and potential threa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you use your opportunities to overcome the weaknesses you are experienc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you minimize your weaknesses and avoid threats? (Defensive strategies to protect yourself from lo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34BE-11E1-41A3-8218-2ABABE8A9E7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ff6600"/>
                </a:solidFill>
                <a:latin typeface="Arial"/>
              </a:rPr>
              <a:t>Include librarians, faculty, administrators, program coordinators, graphic designers, teaching/learning specialists, and others as needed in your team ?? Bu egzersiz olabilir</a:t>
            </a:r>
            <a:endParaRPr b="0" lang="en-US" sz="6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Few librarians receive special training in/on pedagogy within existing LIS curriculu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Arial"/>
              </a:rPr>
              <a:t>Human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To achieve the goals set forth in the library’s mission statement for instruction program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the library should employ, develop</a:t>
            </a:r>
            <a:r>
              <a:rPr b="1" lang="tr-TR" sz="900" spc="-1" strike="noStrike">
                <a:solidFill>
                  <a:srgbClr val="000000"/>
                </a:solidFill>
                <a:latin typeface="Arial"/>
              </a:rPr>
              <a:t>,</a:t>
            </a:r>
            <a:r>
              <a:rPr b="0" lang="tr-TR" sz="900" spc="-1" strike="noStrike">
                <a:solidFill>
                  <a:srgbClr val="000000"/>
                </a:solidFill>
                <a:latin typeface="Arial"/>
              </a:rPr>
              <a:t> or have access to sufficient personnel with appropriat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education, experience, and expertise to:</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teach individuals and groups in the institutional community;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use instructional design processes and design a variety of instruction programs and servic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promote, market, manage, and coordinate diverse instruction activiti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collect and interpret assessment data to evaluate and update instruction programs and servic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integrate and apply instructional technologies into learning activities when appropriat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produce instructional materials using available media and electronic technologi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collaborate with faculty and other academic professionals in planning, implementing,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and assessing information literacy programming; and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respond to changing technologies, environments, and communiti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Many instruction programs will have a designated program manager, or a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coordinating/oversight group, with expertise in pedagogy, instructional design, assessm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and other instructional issues. Those with primary managerial/coordination oversight fo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instructional programs should have clearly written and delineated position description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setting forth the scope of their responsibilities. (ACRL, 2003,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808080"/>
                </a:solidFill>
                <a:latin typeface="Arial"/>
              </a:rPr>
              <a:t>are adequate in number and skills to support the program’s 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Make sure that the staff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serve as role models, exemplifying and advocating IL and lifelong lear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develop experience in instruction/teaching and assessment of student lear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develop experience in curriculum development and expertise to develop, coordinate, implement, maintain, and evaluate information literacy progra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use instructional design processes and design a variety of instructio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promote, market, manage, and coordinate diverse instruction activiti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collect and interpret data to evaluate and update instruction programs and serv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integrate and apply instructional technologies into learning activities when appropria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produce instructional materials using available media and electronic technologi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employ a collaborative approach to working with oth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ctively engaged in systematic and continual professional development and trai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respond to changing technologies, environments, and communi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receive regular evaluations about the quality of their contribution to the program</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C8E8-E944-40CD-B480-923C15E481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80"/>
                </a:solidFill>
                <a:latin typeface="Arial"/>
              </a:rPr>
              <a:t>(ACRL, 2003,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etting up IL programs: managerial issu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135B-F794-4833-867D-E9ED191B0B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76480" y="658800"/>
            <a:ext cx="4572000" cy="3429000"/>
          </a:xfrm>
          <a:prstGeom prst="rect">
            <a:avLst/>
          </a:prstGeom>
          <a:ln w="0">
            <a:noFill/>
          </a:ln>
        </p:spPr>
      </p:sp>
      <p:sp>
        <p:nvSpPr>
          <p:cNvPr id="237"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Leadership: </a:t>
            </a:r>
            <a:r>
              <a:rPr b="0" lang="tr-TR" sz="800" spc="-1" strike="noStrike">
                <a:solidFill>
                  <a:srgbClr val="000000"/>
                </a:solidFill>
                <a:latin typeface="Arial"/>
              </a:rPr>
              <a:t>Leadership refers to who is in charge of the program, how the leadership fits into the organizational structure of the institution, and who is expected to participate in the program, including any support staf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other program staff: </a:t>
            </a:r>
            <a:r>
              <a:rPr b="0" lang="tr-TR" sz="800" spc="-1" strike="noStrike">
                <a:solidFill>
                  <a:srgbClr val="000000"/>
                </a:solidFill>
                <a:latin typeface="Arial"/>
              </a:rPr>
              <a:t>In this instance, program staff refers to an information literacy program’s staff, and could include any of the academic support units or centers on campus, such as learning centers, teaching centers, and IT un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Rewards: </a:t>
            </a:r>
            <a:r>
              <a:rPr b="0" lang="tr-TR" sz="800" spc="-1" strike="noStrike">
                <a:solidFill>
                  <a:srgbClr val="000000"/>
                </a:solidFill>
                <a:latin typeface="Arial"/>
              </a:rPr>
              <a:t>In many institutions this would mean that such involvements and achievements would be acknowledged as important in the awarding of tenure and/or promotion. In most, it would certainly count for yearly performance assessments and salary increa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Support for Instructional facilities </a:t>
            </a:r>
            <a:r>
              <a:rPr b="0" lang="tr-TR" sz="800" spc="-1" strike="noStrike">
                <a:solidFill>
                  <a:srgbClr val="000000"/>
                </a:solidFill>
                <a:latin typeface="Arial"/>
              </a:rPr>
              <a:t>The library should have, or should have ready access to, facilities of sufficient size and number that are equipped to meet the goals of the instruction program and reach the instructional learning commun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instructional setting(s) should duplicate the equipment and technology available to users. At minimum, the facilities should allow the instructor to demonstrate information systems in a designated teaching space, with the appropriate technology, to a variety of audiences. It is desirable that the facilities provide individual hands-on experience for those being instructed. It should be flexible enough to accommodate active learning and student collaboration when appropriate. (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Instructional support facilities </a:t>
            </a:r>
            <a:r>
              <a:rPr b="0" lang="tr-TR" sz="800" spc="-1" strike="noStrike">
                <a:solidFill>
                  <a:srgbClr val="000000"/>
                </a:solidFill>
                <a:latin typeface="Arial"/>
              </a:rPr>
              <a:t>The library should provide convenient access to the equipment and services necessary to design, produce, reproduce, and update instructional materials in a variety of formats. There should be sufficient space for the preparation and storage of instructional materials. (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C. Financial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instructional program should have adequate funds identified to attain the stated goals of the progr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funding for an instruction program should cover all personnel costs connected with the program, including but not limited to student, clerical, and technical assista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funding should cover supplies and materials; equipment or access to equipment; design, production, reproduction, and revision of materials; promotion and evaluation of the instruction program, as well as other identified cos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budget allocation process should allow for equipment and software replacement and enhancement as changes occu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funding should provide for training and continuing education of those involved in the instruction progr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Collaborative instructional projects with other campus units should involve sharing of budgetary responsibilities when appropri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henever possible, instructional personnel should use the expertise of development officers and those institutional staff persons with external fundraising responsibilities to further expand or enhance the program</a:t>
            </a:r>
            <a:r>
              <a:rPr b="1" lang="tr-TR" sz="800" spc="-1" strike="noStrike">
                <a:solidFill>
                  <a:srgbClr val="000000"/>
                </a:solidFill>
                <a:latin typeface="Arial"/>
              </a:rPr>
              <a:t>.</a:t>
            </a:r>
            <a:r>
              <a:rPr b="0" lang="tr-TR" sz="800" spc="-1" strike="noStrike">
                <a:solidFill>
                  <a:srgbClr val="000000"/>
                </a:solidFill>
                <a:latin typeface="Arial"/>
              </a:rPr>
              <a:t> (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D. Support for continuing education, training, and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upport for continuing professional development helps to establish an atmosphere conducive to innovation and high morale. It is recommended that the libr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provide a structured program for orientation and training of new instruction personn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evelop a program of continuing education or make available continuing education opportuniti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henever appropriate, identify opportunities for release time for staff to engage in continuing education and/or project development in technology applications, surveys, and other instruction-related projects</a:t>
            </a:r>
            <a:r>
              <a:rPr b="1" lang="tr-TR" sz="800" spc="-1" strike="noStrike">
                <a:solidFill>
                  <a:srgbClr val="000000"/>
                </a:solidFill>
                <a:latin typeface="Arial"/>
              </a:rPr>
              <a:t>.</a:t>
            </a:r>
            <a:r>
              <a:rPr b="0" lang="tr-T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F286-F892-4FDF-BF26-A9B6D627E9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Disseminate information literacy wid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Emphasize student-centered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mbedding and integrating </a:t>
            </a:r>
            <a:r>
              <a:rPr b="0" lang="tr-TR" sz="1000" spc="-1" strike="noStrike">
                <a:solidFill>
                  <a:srgbClr val="000000"/>
                </a:solidFill>
                <a:latin typeface="Arial"/>
              </a:rPr>
              <a:t>IL</a:t>
            </a:r>
            <a:r>
              <a:rPr b="0" lang="en-GB" sz="1000" spc="-1" strike="noStrike">
                <a:solidFill>
                  <a:srgbClr val="000000"/>
                </a:solidFill>
                <a:latin typeface="Arial"/>
              </a:rPr>
              <a:t> into curricula</a:t>
            </a: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Where possible IL training should be embedded within the subject curriculum to maximise relevance, timeliness and student motiv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Stand-alone sessions are less effective; it can be difficult for a learner to transfer a skill practised in a generic environment into a subject-specific con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Ideally, your session/s will be timetabled within the modul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IL should be included in the learning outcomes of the modul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0000"/>
                </a:solidFill>
                <a:latin typeface="Arial"/>
              </a:rPr>
              <a:t>A</a:t>
            </a:r>
            <a:r>
              <a:rPr b="0" lang="en-GB" sz="1100" spc="-1" strike="noStrike">
                <a:solidFill>
                  <a:srgbClr val="ff0000"/>
                </a:solidFill>
                <a:latin typeface="Arial"/>
              </a:rPr>
              <a:t>ssessment should incorporate an element of testing IL skills</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gover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overnance structures are the bodies in an institution that have authority over the decision-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rocess of that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FF1A-B11C-4AFB-9687-9371F10540E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The cornerstone of an IL program is the powerful partnership between faculty and libraria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Faculty have governance of the curriculum, a steady influence on students, and mastery of their disciplin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Librarians have exceptional information research skills, knowledge of student searching behavi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and a commitment to the importance of IL in the lives of students. Faculty and librarians together ca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make a formidable team that can sustain an IL program that results in information literate stud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Incorporating information literacy across curricula, in all programs and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nd throughout the administrative life of the university, requires the collabora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efforts of faculty, librarians, and administrators. Through lectures and by lea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iscussions, faculty establish the context for learning. Faculty also inspi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tudents to explore the unknown, offer guidance on how best to fulfill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needs, and monitor students’ progress. (ACRL, 2000 – standa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cademic librarians coordinate the evaluation and selection of intellectu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resources for programs and services; organize, and maintain collection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any points of access to information; and provide instruction to student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faculty who seek information. Administrators create opportunities for collabo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nd staff development among faculty, librarians, and other professionals wh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initiate information literacy programs, lead in planning and budgeting for tho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programs, and provide ongoing resources to sustain them. (ACRL, 2000 – standa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ell-designed assignments are central to student learning, because they provid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opportunities for active engagement with subject content, challenging students t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ink critically, reflect on their processes for finding and using information, and ta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Necessary steps to take charge of their own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Library and faculty can work together to create assignments that demostrate how we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Have learned, applied, and communicated IL principles (Rockman, 1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avis suggests that assignments for first-year students be divided into sequential steps, with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ue dates and checkpoints for each piece – identifying a topic; starting the paer’s title, purpose,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ajor points; gathering sources; developing an outline; writing the first draft, revising the paper;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ubmitting the final paper. These stapes provide opportunities for instructional intervention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reflect important components of IL (Rockman, 1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82CF-82D3-4B5E-8CCF-88FC64395B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e question is: How to develop a successful partnership between faculty and libr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nd how to use that partnership to teach 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cusing faculty attention on IL, let alone creating an enduring partnership,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resent challe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aculty have many competing interests (they must teach their classes. They m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ublish. They must make presentations and atend conferences. They must contrib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o the welfare of the university. They must advise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Most faculty feel that they have established a partnersip with librarians when th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equested a one-hour bibliographic instruction session for their students and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lass reading lists to the bibli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rming a long-term partnership with librarians to teach IL is not at the top of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aculty’s agenda (Rockman,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7E22-4900-47CB-891A-EB8D7F42FC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304920" y="4343400"/>
            <a:ext cx="64008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1. On the surface, it would seem obvious that the partners are simply the faculty; however, faculty play many roles on a campus, and it is important that librarians work with the faculty in each of their roles (Rockman,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2. </a:t>
            </a:r>
            <a:r>
              <a:rPr b="1" lang="tr-TR" sz="800" spc="-1" strike="noStrike">
                <a:solidFill>
                  <a:srgbClr val="000000"/>
                </a:solidFill>
                <a:latin typeface="Arial"/>
              </a:rPr>
              <a:t>Academic Senate:</a:t>
            </a:r>
            <a:r>
              <a:rPr b="0" lang="tr-TR" sz="800" spc="-1" strike="noStrike">
                <a:solidFill>
                  <a:srgbClr val="000000"/>
                </a:solidFill>
                <a:latin typeface="Arial"/>
              </a:rPr>
              <a:t> As the formal representative body of the faculty academic senate will play an important role in the adoption of any goal, such as IL, that might affect the curriculum. Information about IL must be disseminated to senate members, and a presentation should be made at a senate meeting. Not only the academic senate as a whole but also the individual committees of the senate need to be targeted. Librarians should plan on addressing each of these groups to gain support for IL. It is also important not to neglect the informal approach, such as meeting with the Chair of the academic senate, or with influential faculty in the senate, prior to a Senate meeting to explain why IL is important to integrate into the curriculum (Rockman,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3. Faculty who are interested in teaching and learning skills often have an appreciation Of the need for students to develop core skills such as IL. Getting faculty from these centersİnterested can be very useful for providing support and for getting the word out about the need for IL(Rockman, 3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4. P</a:t>
            </a:r>
            <a:r>
              <a:rPr b="1" lang="tr-TR" sz="800" spc="-1" strike="noStrike">
                <a:solidFill>
                  <a:srgbClr val="000000"/>
                </a:solidFill>
                <a:latin typeface="Arial"/>
              </a:rPr>
              <a:t>art-time faculty mambers:</a:t>
            </a:r>
            <a:r>
              <a:rPr b="0" lang="tr-TR" sz="800" spc="-1" strike="noStrike">
                <a:solidFill>
                  <a:srgbClr val="000000"/>
                </a:solidFill>
                <a:latin typeface="Arial"/>
              </a:rPr>
              <a:t> who are the silent members of the faculty teach many of the coursesAs well as may courses for fresmen. While they do not direct the curriculum, they are vital to the overallSuccess of any IL program because of the number of students that they reach and influence and nature of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courses that they te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5. </a:t>
            </a:r>
            <a:r>
              <a:rPr b="1" lang="tr-TR" sz="800" spc="-1" strike="noStrike">
                <a:solidFill>
                  <a:srgbClr val="000000"/>
                </a:solidFill>
                <a:latin typeface="Arial"/>
              </a:rPr>
              <a:t>Academic administrators</a:t>
            </a:r>
            <a:r>
              <a:rPr b="0" lang="tr-TR" sz="800" spc="-1" strike="noStrike">
                <a:solidFill>
                  <a:srgbClr val="000000"/>
                </a:solidFill>
                <a:latin typeface="Arial"/>
              </a:rPr>
              <a:t> are also essential in this partnership. They are the faculty with the ability to commitBudget, space, and personnel resources to an IL pro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6. </a:t>
            </a:r>
            <a:r>
              <a:rPr b="1" lang="tr-TR" sz="800" spc="-1" strike="noStrike">
                <a:solidFill>
                  <a:srgbClr val="000000"/>
                </a:solidFill>
                <a:latin typeface="Arial"/>
              </a:rPr>
              <a:t>Department chairs</a:t>
            </a:r>
            <a:r>
              <a:rPr b="0" lang="tr-TR" sz="800" spc="-1" strike="noStrike">
                <a:solidFill>
                  <a:srgbClr val="000000"/>
                </a:solidFill>
                <a:latin typeface="Arial"/>
              </a:rPr>
              <a:t> are another vital part of a successful IL program. Chairs are powerful on a campus because Of their direct link with and influence with the faculty. Many faculty members have limited interset in the life of the Campus as a whole but a great deal of interest in the life of their academic department. If  a chair supports an IProgram, it is very likely that many faculty members wil be influenced by this support Gaining the support of the chair can directly affect the curriculum of a depart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7. </a:t>
            </a:r>
            <a:r>
              <a:rPr b="1" lang="tr-TR" sz="800" spc="-1" strike="noStrike">
                <a:solidFill>
                  <a:srgbClr val="000000"/>
                </a:solidFill>
                <a:latin typeface="Arial"/>
              </a:rPr>
              <a:t>Individual professors</a:t>
            </a:r>
            <a:r>
              <a:rPr b="0" lang="tr-TR" sz="800" spc="-1" strike="noStrike">
                <a:solidFill>
                  <a:srgbClr val="000000"/>
                </a:solidFill>
                <a:latin typeface="Arial"/>
              </a:rPr>
              <a:t>, full-time or part-time, who may be doing work that would benefit from IL program. Faculty wh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each freshmen seminars, introductions to the major, service learning courses, academic writing courses are natural alll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 few successes with individual professors can be the best public relations for any IL eff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Another important activity in advancing the IL agenda is for faculty and librarians to reach out to the elementary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secondary educational communities to ensure that students are introduced to IL principles prior to the start of their high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education academic careers (Rockman, 1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Opportunties for university personnel to partner with elementary and secondary schools in the area of IL to hel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strengthen students’ skills prior to entering universities are plentiful and just take time, imagination, resour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and commitment (Rockman, 1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Recent studies have pointed out that high school students lack information-seeking skills, while other studies show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that quality library programs can positively affact student achievement (Rockman, 2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It is the best interest of university personnel to partner with neighboring local schools to ensure that students hav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the requisite IL skills, prior to beginning university studies, to be successful in their higher education academ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Arial"/>
              </a:rPr>
              <a:t>and work careers (Rockman, 2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1EB6-332D-49C1-A4A2-4A48AAF5DF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58800"/>
            <a:ext cx="4572000" cy="3429000"/>
          </a:xfrm>
          <a:prstGeom prst="rect">
            <a:avLst/>
          </a:prstGeom>
          <a:ln w="0">
            <a:noFill/>
          </a:ln>
        </p:spPr>
      </p:sp>
      <p:sp>
        <p:nvSpPr>
          <p:cNvPr id="267" name="PlaceHolder 2"/>
          <p:cNvSpPr>
            <a:spLocks noGrp="1"/>
          </p:cNvSpPr>
          <p:nvPr>
            <p:ph type="body"/>
          </p:nvPr>
        </p:nvSpPr>
        <p:spPr>
          <a:xfrm>
            <a:off x="380880" y="4343400"/>
            <a:ext cx="6019920" cy="4114800"/>
          </a:xfrm>
          <a:prstGeom prst="rect">
            <a:avLst/>
          </a:prstGeom>
          <a:noFill/>
          <a:ln w="0">
            <a:noFill/>
          </a:ln>
        </p:spPr>
        <p:txBody>
          <a:bodyPr lIns="90000" rIns="90000" tIns="46800" bIns="4680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3. reports, updates, bulletins, presentations, and many conversations are necessary over an extended period of time topenetrate the collective consciousness of campus faculty and to allow IL rise to the top of the long list of issues confronting campuses today. (Rockman, 34)</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0000"/>
                </a:solidFill>
                <a:latin typeface="Arial"/>
              </a:rPr>
              <a:t>Alt maddele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any faculty will not think of IL as requiring much attention. Much of IL seemsbasic to them and so much a part of their academic life that they take it for granted. However, faculty are very involved in teaching critical thinking andİn producing students who are critical thinkers. Critical thinking is the best platformFor a meeting of minds between faculty and librarian. Make a powerful link betweenCritical thinking and IL as part of the conversation to interest faculty in the need for student IL skills (Rockman, 33).</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2. students, living in a world of abundant information, need IL. It gives students a Strategic advantage. IL is particularly important in disciplines, like the sciences or engineering, where the knowledge base can change dramatically every few years. Since faculty want their students to be successful throughout life, they will appreciateThat students who graduate with IL skills can keep learning throughout life and keep contributing to their profession and to society. (Rockman, 33).</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3. If faculty are not happy with the quality of papers and other assignments turned in,They may want to influence the process of information reserach. This is wehere the ILProgram comes in.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4. Students need ILskills , as well as literacy, mathematical literacy, visual literacy, media literacy, computer literacy skills, in order to be successful in their academic endeavor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5. Faculty do respect data. It is one thing to talk about IL as an important skill; it is quite another to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emonstrate to the faculty the skill levels of their own students by showing assessment data.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will see the immediate impact and understand the consequences of underskilled students.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wing assessment data to faculty is not without its own problems. Librarians should be prepared to</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iscuss the standards on which the assessment is based and discuss how he test measured those standardsç</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Faculty will want to know how they will know when students are information literate. Carrying out an assessment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oes open up another arena of partnership. Some librarians might want to involve faculty early by asking their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ssistance in designing the assessment tools for IL:</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22A8-D08D-4FB4-961A-3FF71845F8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228600" y="4343400"/>
            <a:ext cx="6400800" cy="4114800"/>
          </a:xfrm>
          <a:prstGeom prst="rect">
            <a:avLst/>
          </a:prstGeom>
          <a:noFill/>
          <a:ln w="0">
            <a:noFill/>
          </a:ln>
        </p:spPr>
        <p:txBody>
          <a:bodyPr lIns="90000" rIns="90000" tIns="46800" bIns="4680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Introduction:</a:t>
            </a:r>
            <a:r>
              <a:rPr b="0" lang="tr-TR" sz="800" spc="-1" strike="noStrike">
                <a:solidFill>
                  <a:srgbClr val="000000"/>
                </a:solidFill>
                <a:latin typeface="Arial"/>
              </a:rPr>
              <a:t> Not every partnership goes smoothly. Any group of people have conflicting agendas, different orientations andexperiences, </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nd different priorities and interests. Some upsets and conflict is inevitable in any partnership, but many problems can be avoided by knowing in advance the most common pitfalls in faculty-librarian partnerships that address the issue of IL (Rockman, 35)</a:t>
            </a:r>
            <a:endParaRPr b="0" lang="en-US" sz="8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Librarians can advice, recommend, and urge but cannot dictate or control the curriculum. Librarians should be very cautious and avoid awakening the territoriality of the faculty regarding the curriculum.</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2. Most IL programs fail because they are parochial (limited) and eventually come to beSeen as only a library effort. To prevent this, librarians will deploy a strategy thatMakes the IL program part of the educational strategy of the university, not just part of the service program of the library. To catch the attention of faculty and academic administrators, IL must be part of the academic effort rather than just a toolbox of skills that students learn in order to use the library.</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3. All too often, librarians lay out the goals for IL in a canned way to the faculty. But faculty have not spent years reading about IL and libraries. They are not so ready to accept the IL standards. They first seek understanding and then, from that understanding, seek to create their own goals. People who share in the creation of goals are moreCommitted to a program than people who have goals delivered to them. Even if it feels to librarians like they are traversing well-traveled roads, it is worth spending time with the faculty to create mutual goals for the program.</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4. Many librarians claim ownership of the domain of IL and are focused on making sure that it remainsWithin library control. Faculty are busy with their own agendas. When they hear a message of exclusiveness, they are only too willing to let it happen elsewhere. The result of a message of exclusiveness is that the librarians will eventually have to go it alone, without the backing and support of the faculty. Instead, librarians should send a message of inclusiveness and should seek every avenue for creating the program with joint faculty-librarian authority</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5. Many disciplines are very information-intensive, and many faculty cannot get through all that they want the students to know.</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If librarians demand too many IL sessions, then faculty, feeling under pressure, may simply reject the entire effort. Remember</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at IL supports the curriculum; it does not drive it. (Rockman, 36)</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6. Keep things simple. More detail can come later. But keeping things simple will keep the faculty engaged, and an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engaged faculty means engaged students. Three essetial skills are enough to start with: the ability to articulate the search, the ability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o develop a search strategy, the ability to understand the concept of valid information.</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7. Librarians should also be attentive to the timing of the conversations about IL. If there are much higher priorities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 </a:t>
            </a:r>
            <a:r>
              <a:rPr b="0" lang="tr-TR" sz="800" spc="-1" strike="noStrike">
                <a:solidFill>
                  <a:srgbClr val="000000"/>
                </a:solidFill>
                <a:latin typeface="Arial"/>
              </a:rPr>
              <a:t>for example budget cuts or a conflict between faculty and administration – this is not the</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 </a:t>
            </a:r>
            <a:r>
              <a:rPr b="0" lang="tr-TR" sz="800" spc="-1" strike="noStrike">
                <a:solidFill>
                  <a:srgbClr val="000000"/>
                </a:solidFill>
                <a:latin typeface="Arial"/>
              </a:rPr>
              <a:t>time to launch an IL program.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8. Despite all that has been written and said about IL, be prepared to defin it. Most faculty have heard the term but not the definition.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any may have heard the definition but still wonder what it is all about. There are many more who confuse IL with computer literacy.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Before any program is started, faculty should be educated about what IL is what it is not. If the faculty do not have a clear definition of IL </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from the start, there will be a lot of confusion and goal misdirection when the IL program begins.(Rockman, 37)</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0000"/>
                </a:solidFill>
                <a:latin typeface="Arial"/>
              </a:rPr>
              <a:t>Once the partners have been identified, awareness created, and pitfalls avoided, librarians are ready to use the partnership to teach IL</a:t>
            </a: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726E-A845-4D74-A390-4772D01B1A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edia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Media resources may include films or videos, audio programs, or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f media that can facilitat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A579-3D12-41F3-9A6E-A821DABD945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est practices; </a:t>
            </a:r>
            <a:r>
              <a:rPr b="0" lang="tr-TR" sz="1200" spc="-1" strike="noStrike">
                <a:solidFill>
                  <a:srgbClr val="000000"/>
                </a:solidFill>
                <a:latin typeface="Arial"/>
              </a:rPr>
              <a:t>HIL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Outreach: Bring services to people at where they spen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edia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Media channels may include radio, television, student newspapers, faculty newsletters, and any other such news sources for the institution. It could also include media channels directly connected to the library such as library newsletters and web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formal and inf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rmal channels include radio, television, student newspapers, faculty newsletters, library newsletters and websites. Informal channels include department meetings, signage, billboards, e-mail,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6776-AF0B-4BEB-A377-B48BF79637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ter communication among the </a:t>
            </a:r>
            <a:r>
              <a:rPr b="0" lang="tr-TR" sz="1000" spc="-1" strike="noStrike">
                <a:solidFill>
                  <a:srgbClr val="000000"/>
                </a:solidFill>
                <a:latin typeface="Arial"/>
              </a:rPr>
              <a:t>institutional</a:t>
            </a:r>
            <a:r>
              <a:rPr b="0" lang="en-US" sz="1000" spc="-1" strike="noStrike">
                <a:solidFill>
                  <a:srgbClr val="000000"/>
                </a:solidFill>
                <a:latin typeface="Arial"/>
              </a:rPr>
              <a:t> community to achieve support for the program</a:t>
            </a:r>
            <a:endParaRPr b="0" lang="en-US" sz="10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track of the views and proposals on library and skills instruction of professional or vocational bodies in the subject field, and draw the links with IL to the School’s attention</a:t>
            </a:r>
            <a:endParaRPr b="0" lang="en-US" sz="14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ILT, 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fer to deliver a session in partnership with an academi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e.g. in a session on plagiarism and referencing you could offer to demonstrate and explain the advantages of EndNote.  This can effectively reinforce the relationship between your teaching and that of the academic staff.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Key members of the staff: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g. those on research, teaching and library committees, course directors, the skills co-ordinator and leaders of skills or other modules.  Find out which lecturers have an interest in IL and develop these contac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535B-EBC6-4AF0-ADC7-2788840BEB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au, 2004; (Rockman, 128-129) ; (Snavely, 2001) ; </a:t>
            </a:r>
            <a:r>
              <a:rPr b="0" lang="tr-TR" sz="1000" spc="-1" strike="noStrike">
                <a:solidFill>
                  <a:srgbClr val="000000"/>
                </a:solidFill>
                <a:latin typeface="Arial"/>
              </a:rPr>
              <a:t>(Iannuzzi, 1997)</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EBE4-B2B3-48CE-8284-5075A0F3C9B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ILT,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maximise attend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involved in registration week events.  Give a lively 10 minute presentation</a:t>
            </a:r>
            <a:r>
              <a:rPr b="0" lang="tr-TR" sz="1200" spc="-1" strike="noStrike">
                <a:solidFill>
                  <a:srgbClr val="000000"/>
                </a:solidFill>
                <a:latin typeface="Arial"/>
              </a:rPr>
              <a:t>. </a:t>
            </a:r>
            <a:r>
              <a:rPr b="0" lang="en-GB" sz="1200" spc="-1" strike="noStrike">
                <a:solidFill>
                  <a:srgbClr val="000000"/>
                </a:solidFill>
                <a:latin typeface="Arial"/>
              </a:rPr>
              <a:t>This is an ideal opportunity to highlight the importance of the IL sessions students will be atte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held in registration week, ensure that the library orientation session is included in the student’s registration week timetable and handbook and mentioned in the course introductory l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r orientation session is in week 1 and you have had no prior contact with the students, arrange with lecturing staff to advertise and promote your session through an announcement at the start of a lecture.  Better still, drop by and make the announcement yourself (but obtain permission first!)</a:t>
            </a:r>
            <a:r>
              <a:rPr b="0" lang="tr-T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U</a:t>
            </a:r>
            <a:r>
              <a:rPr b="0" lang="en-GB" sz="1400" spc="-1" strike="noStrike">
                <a:solidFill>
                  <a:srgbClr val="000000"/>
                </a:solidFill>
                <a:latin typeface="Arial"/>
              </a:rPr>
              <a:t>se the term ‘</a:t>
            </a:r>
            <a:r>
              <a:rPr b="0" lang="tr-TR" sz="1400" spc="-1" strike="noStrike">
                <a:solidFill>
                  <a:srgbClr val="000000"/>
                </a:solidFill>
                <a:latin typeface="Arial"/>
              </a:rPr>
              <a:t>l</a:t>
            </a:r>
            <a:r>
              <a:rPr b="0" lang="en-GB" sz="1400" spc="-1" strike="noStrike">
                <a:solidFill>
                  <a:srgbClr val="000000"/>
                </a:solidFill>
                <a:latin typeface="Arial"/>
              </a:rPr>
              <a:t>ibrary skills’ or ‘research skills’ </a:t>
            </a:r>
            <a:r>
              <a:rPr b="0" lang="tr-TR" sz="1400" spc="-1" strike="noStrike">
                <a:solidFill>
                  <a:srgbClr val="000000"/>
                </a:solidFill>
                <a:latin typeface="Arial"/>
              </a:rPr>
              <a:t>if you think that </a:t>
            </a:r>
            <a:r>
              <a:rPr b="0" lang="en-GB" sz="1400" spc="-1" strike="noStrike">
                <a:solidFill>
                  <a:srgbClr val="000000"/>
                </a:solidFill>
                <a:latin typeface="Arial"/>
              </a:rPr>
              <a:t>will be more readily accepted and understood.</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 friendly, be approachable</a:t>
            </a:r>
            <a:r>
              <a:rPr b="0" lang="en-GB" sz="1400" spc="-1" strike="noStrike">
                <a:solidFill>
                  <a:srgbClr val="80808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A41C-E0E9-442E-B612-67B3CADF9C4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304920" y="4343400"/>
            <a:ext cx="64008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Best practices; (ACRL, 2003, guidelines) (Rockman, 23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Faculty, librarians, and others will find that discussing assessment methods collaboratively is a very productive exercise in planning a systematic, comprehensive information literacy program. This assessment program should reach all students, pinpoint areas for further program development, and consolidate learning goals already achieved. It also should make explicit to the institution’s constituencies how information literacy contributes to producing educated students and citizens (ACRL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any librarians feel unprepared to conduct an assessment of 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ssessment can offer an opportunity for librarians and faculty to develop learning objectives for IL, plan instruction that is an integral part of the curriculum, and construct instruments that measure the stated objectives. Test results can be used to identify weak areas of skills, to determine the efficacy of an instruction program, and to make improvements (Rockman, 2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tudies point out the importance of assessing students to determine their levels of IL, to ascertain which models of information competency instruction are effective, and to evaulate the relationship between the library’s information competency instruction and student learning outcomes (Rockman, 24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tudents will learn more if instruction and assessment are integrally rel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development of specific valid and reliable instruments to measure students’ IL skills is not/ has not been an easy ta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uch tools have the potential to help inform faculty, students, policymakers, and governing bodies about needed changes in the curriculum, new communication technologies, or instructional strategies to help ensure that college and university students can function successfully while in school and once they enter the ever-changing, technologically based workforce (Rockman, 24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Colleges and universities have found that outcomes-based assessment (how a student may demonstrate IL principles at the beginning of an academic career) and </a:t>
            </a:r>
            <a:r>
              <a:rPr b="0" lang="tr-TR" sz="800" spc="-1" strike="noStrike">
                <a:solidFill>
                  <a:srgbClr val="ff0000"/>
                </a:solidFill>
                <a:latin typeface="Arial"/>
              </a:rPr>
              <a:t>capstone ???</a:t>
            </a:r>
            <a:r>
              <a:rPr b="0" lang="tr-TR" sz="800" spc="-1" strike="noStrike">
                <a:solidFill>
                  <a:srgbClr val="000000"/>
                </a:solidFill>
                <a:latin typeface="Arial"/>
              </a:rPr>
              <a:t> experiences (in which students demonstrate that they can integrate and apply their knowledge in the senior year with learning sustained and transferred from setting to setting) are both good assessment measures (Rockman, 24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Unfortunately, most institutions choose to assess IL skills using only pretests and posttests. Although these instruments are easy to score, they do not fully demonstrate students’ skills and abilities, since they do not capture actual student performances. Often these tests are objective in nature (true-false, multiple-choice, short answer, matching), paper-based, and administered at the beginning and end of an academic class to indicate change over time. They are not necessarily linked to performance objectives and do not demonstrate how well a student has learned to think critically and navigate through a search strategy process to find, evaluate, use, and apply information to meet a specific need. (Rockman, 24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ests may measure how well students have learned information, but they do not demonsrate how well students can solve problems using that information (Makii, 2002 – ben bunu Rockman’dan aldım. S. 24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Embedded assessment – examining student work within a course – is another technique that can be useful for improving or advancing information comptence skills and abilities (Rockman, 24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ssessing outcomes is an ongoing challe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re are three levels of assessment </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1. assessment measures that can be conducted by the library independently (because they have access to the data, or can collect it)İncreased use of databases (library and its sources)Quality of questions asked at service points (quality and complexity of the questions asked at refrence desk)Competency tests / self assessment (pre and post tests) </a:t>
            </a:r>
            <a:r>
              <a:rPr b="0" lang="tr-TR" sz="500" spc="-1" strike="noStrike">
                <a:solidFill>
                  <a:srgbClr val="000000"/>
                </a:solidFill>
                <a:latin typeface="Arial"/>
              </a:rPr>
              <a:t>(Iannuzzi, 1997)</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2. assessment methodologies that require collaboration with others (such as faculty and/or academic programs or campus wide coordination) improved student papers / assignmentsBetter research as evidenced by bibliographies </a:t>
            </a:r>
            <a:r>
              <a:rPr b="0" lang="tr-TR" sz="500" spc="-1" strike="noStrike">
                <a:solidFill>
                  <a:srgbClr val="000000"/>
                </a:solidFill>
                <a:latin typeface="Arial"/>
              </a:rPr>
              <a:t>(Iannuzzi, 1997)</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0000"/>
                </a:solidFill>
                <a:latin typeface="Arial"/>
              </a:rPr>
              <a:t>3. campus / library interaction and reserachStudent retention / successThe assessment becomes more difficult and increasingly complex when we move outward from the inner circle (library’s independent assessment) </a:t>
            </a:r>
            <a:r>
              <a:rPr b="0" lang="tr-TR" sz="500" spc="-1" strike="noStrike">
                <a:solidFill>
                  <a:srgbClr val="000000"/>
                </a:solidFill>
                <a:latin typeface="Arial"/>
              </a:rPr>
              <a:t>(Iannuzzi, 1997)</a:t>
            </a:r>
            <a:endParaRPr b="0" lang="en-US" sz="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C7C0-305B-4538-AD6D-FDE476BE3C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808080"/>
                </a:solidFill>
                <a:latin typeface="Arial"/>
              </a:rPr>
              <a:t>acknowledge differences in learning and teaching styles by using a variety of appropriate outcome measures, such as portfolio assessment, oral defense, quizzes, essays, direct observation, anecdotal, peer and self review, and experi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lthough in this document, the terms evaluation and assessment are used interchangeably, for educators these terms have different meanings. For example, according to Frank Hodnett, "Evaluation is to determine significance or worth or judging the effectiveness or worth of educational programs. Assessment is to determine a rate or amount and is used as an activity to measure student learning and other human characteristics. Put more simply we assess people and evaluate things or objects." (Frank Hodnett, </a:t>
            </a:r>
            <a:r>
              <a:rPr b="0" i="1" lang="tr-TR" sz="800" spc="-1" strike="noStrike">
                <a:solidFill>
                  <a:srgbClr val="000000"/>
                </a:solidFill>
                <a:latin typeface="Arial"/>
              </a:rPr>
              <a:t>Evaluation vs. Assessment</a:t>
            </a:r>
            <a:r>
              <a:rPr b="0" lang="tr-TR" sz="800" spc="-1" strike="noStrike">
                <a:solidFill>
                  <a:srgbClr val="000000"/>
                </a:solidFill>
                <a:latin typeface="Arial"/>
              </a:rPr>
              <a:t>, Spring 2001 &lt;http://pt3.nmsu.edu/educ621/frank2001-3.html&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student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tudent outcomes evaluation should not only measure how much students have learned but also the teaching processes that are used for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formative and summa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Formative and summative and short-term and longitudinal are only two methods of evaluation. Other methods may be more appropriate for the purposes of the evalu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process and produ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tudent outcomes should be measured in terms of the quality of the product as well as the processes the student used to create the produ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tr-TR" sz="800" spc="-1" strike="noStrike">
                <a:solidFill>
                  <a:srgbClr val="000000"/>
                </a:solidFill>
                <a:latin typeface="Arial"/>
              </a:rPr>
              <a:t>The learning outcomes are necessarily generic. However ‘information litera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anifests itself in the specific understanding of knowledge creation, scholarly activ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nd publication processes found in…discip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refore educators (teachers, librarians, staff developers, learning advis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rainers, curriculum designers and others) should work together to develo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ssessment tools and strategies in the context of particular discipline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orkplaces. (Australi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Discussing assessment strategies and objectives collaboratively can also facilit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planning a developmental approach to integrating and embedding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literacy across the curriculum. . (Australi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B31D-ECC7-4C05-A3F0-0948EE3D794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380880" y="4343400"/>
            <a:ext cx="601992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Rockman, 7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Keeping the prospective users (their characteristics) in mind is essential in the development of instructional programs especially when considering the use of electronic teaching tools such as on-line tutor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were born during the computer age and grew up in a technological worl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are a much more technically sophisticated generation than previous gen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are referred to as </a:t>
            </a:r>
            <a:r>
              <a:rPr b="0" i="1" lang="tr-TR" sz="800" spc="-1" strike="noStrike">
                <a:solidFill>
                  <a:srgbClr val="000000"/>
                </a:solidFill>
                <a:latin typeface="Arial"/>
              </a:rPr>
              <a:t>Generation Y, Echo Boomers, The Plug-and-Play-Generation, Millenials, The Game Boy Generation, The-Cut-and-Paste Generation</a:t>
            </a:r>
            <a:r>
              <a:rPr b="0" lang="tr-TR" sz="800" spc="-1" strike="noStrike">
                <a:solidFill>
                  <a:srgbClr val="000000"/>
                </a:solidFill>
                <a:latin typeface="Arial"/>
              </a:rPr>
              <a:t> (Rockman, 7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come to higher education ready to accept on-line tutorials that deliver specific content within a self-paced, interactive, individualized instructional enviro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appreciate the fact that these tutorials can be programmed to give immediate feedback and are available twenty-four hours a day, seven days a we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3. Ability to multitask: It is not unusual to view a student speaking on a cell-phone, sending off an instant message, and completing a research paper, all at thesame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on-line tutorial developers need to explore how best to create the diverse paths from which these students can sel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Librarians must also critically examine this multitasking phenomen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Can some of these new communication paradigms be integrated into on-line efforts? Are there facets of instant messaging and on-line chats that can provide a more collaborative learning experience within the tutorials? (Rockman, 7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Because their characteristics have an impact on the (on-line) tutorial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ithout this insight one can run the risk of creating a tutorial with little relevance for its intended audi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Most of the students currently entering universities were born at about the same time as the Macintosh compu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y grew up with the graphical user interface, mouse, and local area networ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Later, they embraced home on-line information services, chat rooms, cell phones, and school computer la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oday, they also benefit from the wireless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ıt is important to keep these points in mind when considering the use of electronic teaching tools such as on-line tutorials. Making the best use of digital technologies requires an accurate understanding of the habits of current students and their preferred learning styles in order to effectively design and develop technological programs that will expand and enhance their learning of IL principles, whether in teaching or research institutions (Rockman, 24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lthough these students may have taught themselves how to surf the Internet, download music, or send e-mail, they have not taught themselves to be efficientin their searches, to evalute th sources of the information they are downloading, or to synthesize the information in a meaningful way. These students are computer literate, but numerous studies have shown that they are not information lit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7D84-C90E-420F-B6D1-68960012D4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dvice to individuals during the reference interview proce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n-depth research consultations and appointmen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ndividualized instruc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lectronic or print instruction ai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roup instruction in traditional or electronic classroom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eb tutorials and Web-based instruc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synchronous modes of instruction (e-mail, bulletin board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ynchronous modes of instruction (chat software, videoconferenc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ourse management software; an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hybrid or distributed learning or distance learning, employing combinations of the previous metho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CRL, 2003, guidelines)</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Examples of curricular and program structures with which instruction programs can become engaged include (but are not limited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first-year seminars, writing-across-the-curriculum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general education core require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research methods courses in disciplinary majo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capstone courses, learning communities, and cohor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undergraduate research experiences/internship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linked credit courses; 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experiential learning/service learning cours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CRL, 2003, guidel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EAF4-FAD3-409D-AD45-6072C53A64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e modes selected should be consistent with the content and goals of sound information literacy instruction. Where appropriate, more than one mode of instruction should be used based on knowledge of the wide variety of learning styles of individuals and groups. For suggestions and explanations of modes of instruction, see the </a:t>
            </a:r>
            <a:r>
              <a:rPr b="0" i="1" lang="tr-TR" sz="800" spc="-1" strike="noStrike">
                <a:solidFill>
                  <a:srgbClr val="000000"/>
                </a:solidFill>
                <a:latin typeface="Arial"/>
              </a:rPr>
              <a:t>Sourcebook of Bibliographic Instruction</a:t>
            </a:r>
            <a:r>
              <a:rPr b="0" lang="tr-T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hen possible, instruction should employ active learning strategies and techniques that require learners to develop critical thinking skills in concert with information literacy skills. Planning such active learning strategies and techniques should be carried out collaboratively with faculty in order to increase overall student engagement in the learning process and to extend opportunities for a more reflective approach to information retrieval, evaluation, and use. For useful examples of course-specific active learning exercises, see </a:t>
            </a:r>
            <a:r>
              <a:rPr b="0" i="1" lang="tr-TR" sz="800" spc="-1" strike="noStrike">
                <a:solidFill>
                  <a:srgbClr val="000000"/>
                </a:solidFill>
                <a:latin typeface="Arial"/>
              </a:rPr>
              <a:t>Designs for Active Learning: A Sourcebook of Classroom Strategies for Information Education</a:t>
            </a:r>
            <a:r>
              <a:rPr b="0" lang="tr-T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Planning an instruction program should draw on the expertise of a wide variety of personnel, depending on local needs and available staff. Examples of available expertise may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instructional design/teaching methods: faculty development offices, teaching/learning cen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echnology integration: technology support cen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ssessment, surveys: teaching/learning centers, institutional research/assessment office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tudent demographics/characteristics: institutional research, campus/student life off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 Program struc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Each institution will develop its own overall approach to instruction programming, but a successful comprehensive program will have the following e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 clearly articulated structure, described in readily available documents, showing the relationships among various components of the progr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n integral relationship with key institutional curricula and initiatives (e.g., general education, writing programs, etc.) so that there is horizontal breadth to the program;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 progression of information literacy learning outcomes matched to increasingly complex learning outcomes throughout a student’s academic career so that there is vertical integration in the program. Information literacy programming should reach beyond the first year or general education courses and be present in discipline-specific coursework or courses in the maj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o meet these general guidelines, instruction programs should identify curricular structures already in place or under development on their campuses that support an evolving, "tiered" approach to information literacy programming. Instruction librarians themselves should also seek opportunities for collaborative engagement in new institutional initiatives and redesigned curricula that allow for a deeper interplay between the library’s instruction program and the total campus learning environment. (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E167-1F13-4845-97F4-F7CBA84A105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ea typeface="Times New Roman"/>
              </a:rPr>
              <a:t>Best practices; Lau,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Statement of purpose:</a:t>
            </a:r>
            <a:r>
              <a:rPr b="0" lang="tr-TR" sz="800" spc="-1" strike="noStrike">
                <a:solidFill>
                  <a:srgbClr val="000000"/>
                </a:solidFill>
                <a:latin typeface="Arial"/>
              </a:rPr>
              <a:t> Articulate the mission, goals and objectives of the pro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ea typeface="Times New Roman"/>
              </a:rPr>
              <a:t>Actions:</a:t>
            </a:r>
            <a:r>
              <a:rPr b="0" lang="tr-TR" sz="800" spc="-1" strike="noStrike">
                <a:solidFill>
                  <a:srgbClr val="000000"/>
                </a:solidFill>
                <a:latin typeface="Arial"/>
                <a:ea typeface="Times New Roman"/>
              </a:rPr>
              <a:t> List the</a:t>
            </a:r>
            <a:r>
              <a:rPr b="0" lang="en-US" sz="800" spc="-1" strike="noStrike">
                <a:solidFill>
                  <a:srgbClr val="000000"/>
                </a:solidFill>
                <a:latin typeface="Arial"/>
                <a:ea typeface="Times New Roman"/>
              </a:rPr>
              <a:t> actions required to achieve </a:t>
            </a:r>
            <a:r>
              <a:rPr b="0" lang="tr-TR" sz="800" spc="-1" strike="noStrike">
                <a:solidFill>
                  <a:srgbClr val="000000"/>
                </a:solidFill>
                <a:latin typeface="Arial"/>
                <a:ea typeface="Times New Roman"/>
              </a:rPr>
              <a:t>the</a:t>
            </a:r>
            <a:r>
              <a:rPr b="0" lang="en-US" sz="800" spc="-1" strike="noStrike">
                <a:solidFill>
                  <a:srgbClr val="000000"/>
                </a:solidFill>
                <a:latin typeface="Arial"/>
                <a:ea typeface="Times New Roman"/>
              </a:rPr>
              <a:t> goal</a:t>
            </a:r>
            <a:r>
              <a:rPr b="0" lang="tr-TR" sz="800" spc="-1" strike="noStrike">
                <a:solidFill>
                  <a:srgbClr val="000000"/>
                </a:solidFill>
                <a:latin typeface="Arial"/>
                <a:ea typeface="Times New Roman"/>
              </a:rPr>
              <a: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Environmental scan:</a:t>
            </a:r>
            <a:r>
              <a:rPr b="0" lang="tr-TR" sz="800" spc="-1" strike="noStrike">
                <a:solidFill>
                  <a:srgbClr val="000000"/>
                </a:solidFill>
                <a:latin typeface="Arial"/>
              </a:rPr>
              <a:t> Perform an environmental scan. Incorporate findings from environmental sca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Opportunities and challenges:</a:t>
            </a:r>
            <a:r>
              <a:rPr b="0" lang="tr-TR" sz="800" spc="-1" strike="noStrike">
                <a:solidFill>
                  <a:srgbClr val="000000"/>
                </a:solidFill>
                <a:latin typeface="Arial"/>
              </a:rPr>
              <a:t> Address current and future opportunities and challen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ea typeface="Times New Roman"/>
              </a:rPr>
              <a:t>Resources:</a:t>
            </a:r>
            <a:r>
              <a:rPr b="0" lang="tr-TR" sz="800" spc="-1" strike="noStrike">
                <a:solidFill>
                  <a:srgbClr val="000000"/>
                </a:solidFill>
                <a:latin typeface="Arial"/>
                <a:ea typeface="Times New Roman"/>
              </a:rPr>
              <a:t> Describe the resources requir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Budget: </a:t>
            </a:r>
            <a:r>
              <a:rPr b="0" lang="es-ES" sz="800" spc="-1" strike="noStrike">
                <a:solidFill>
                  <a:srgbClr val="000000"/>
                </a:solidFill>
                <a:latin typeface="Arial"/>
                <a:ea typeface="Times New Roman"/>
              </a:rPr>
              <a:t>Estimate your </a:t>
            </a:r>
            <a:r>
              <a:rPr b="0" lang="tr-TR" sz="800" spc="-1" strike="noStrike">
                <a:solidFill>
                  <a:srgbClr val="000000"/>
                </a:solidFill>
                <a:latin typeface="Arial"/>
                <a:ea typeface="Times New Roman"/>
              </a:rPr>
              <a:t>bud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ea typeface="Times New Roman"/>
              </a:rPr>
              <a:t>Administrative and instutional support: </a:t>
            </a:r>
            <a:r>
              <a:rPr b="0" lang="tr-TR" sz="800" spc="-1" strike="noStrike">
                <a:solidFill>
                  <a:srgbClr val="000000"/>
                </a:solidFill>
                <a:latin typeface="Arial"/>
              </a:rPr>
              <a:t>Acquire adminisrative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Integration with the curriculum:</a:t>
            </a:r>
            <a:r>
              <a:rPr b="0" lang="tr-TR" sz="800" spc="-1" strike="noStrike">
                <a:solidFill>
                  <a:srgbClr val="000000"/>
                </a:solidFill>
                <a:latin typeface="Arial"/>
              </a:rPr>
              <a:t> Include mechanisms for articulation/coordination with the curricul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ea typeface="Times New Roman"/>
              </a:rPr>
              <a:t>BUDGET: </a:t>
            </a:r>
            <a:r>
              <a:rPr b="0" lang="en-US" sz="800" spc="-1" strike="noStrike">
                <a:solidFill>
                  <a:srgbClr val="000000"/>
                </a:solidFill>
                <a:latin typeface="Arial"/>
                <a:ea typeface="Times New Roman"/>
              </a:rPr>
              <a:t>Figures determine how much funding the IL program needs</a:t>
            </a:r>
            <a:r>
              <a:rPr b="0" lang="tr-TR" sz="800" spc="-1" strike="noStrike">
                <a:solidFill>
                  <a:srgbClr val="000000"/>
                </a:solidFill>
                <a:latin typeface="Arial"/>
                <a:ea typeface="Times New Roman"/>
              </a:rPr>
              <a:t>. </a:t>
            </a:r>
            <a:r>
              <a:rPr b="0" lang="en-US" sz="800" spc="-1" strike="noStrike">
                <a:solidFill>
                  <a:srgbClr val="000000"/>
                </a:solidFill>
                <a:latin typeface="Arial"/>
                <a:ea typeface="Times New Roman"/>
              </a:rPr>
              <a:t>Budget information determines the feasibility of the IL objectives and go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clearly present program’s mission, goals, and objec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address current and future opportunities and challe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be tied to library and institutional information technology planning and budgeting cyc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take into account social, economic, and political trends that may affect organization’s fu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involve students, faculty, librarians, administra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establishe formal and informal mechanisms for communication and ongoing dialog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ith the members of the institu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establishe the means for implementation and adap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address, with clear priorities, human, technological and financial resour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current and projected, including administrative and institutional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include mechanisms for coordination with the curricul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include a program for professional, faculty, and staff developm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Should establishes a process for assessment at the outset, including periodic review of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plan to ensure flexi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Arial"/>
              </a:rPr>
              <a:t>formal and informal mechanis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Formal mechanisms may include official reports or documentation, meetings, forums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Informal may include e-mail, phone, hallway conversations, websites for runn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threaded conversation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19D7-0CC9-4D09-BFEE-BE479A844B5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993300"/>
                </a:solidFill>
                <a:latin typeface="Arial"/>
                <a:ea typeface="Times New Roman"/>
              </a:rPr>
              <a:t>Best practices; Lau, 2004</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Collaboration and partnership:</a:t>
            </a:r>
            <a:r>
              <a:rPr b="0" lang="tr-TR" sz="1200" spc="-1" strike="noStrike">
                <a:solidFill>
                  <a:srgbClr val="000000"/>
                </a:solidFill>
                <a:latin typeface="Arial"/>
              </a:rPr>
              <a:t> Establish</a:t>
            </a:r>
            <a:r>
              <a:rPr b="0" lang="en-US" sz="1200" spc="-1" strike="noStrike">
                <a:solidFill>
                  <a:srgbClr val="000000"/>
                </a:solidFill>
                <a:latin typeface="Arial"/>
              </a:rPr>
              <a:t> collaboration </a:t>
            </a:r>
            <a:r>
              <a:rPr b="0" lang="tr-TR" sz="1200" spc="-1" strike="noStrike">
                <a:solidFill>
                  <a:srgbClr val="000000"/>
                </a:solidFill>
                <a:latin typeface="Arial"/>
              </a:rPr>
              <a:t>and partnership among </a:t>
            </a:r>
            <a:r>
              <a:rPr b="0" lang="en-US" sz="1200" spc="-1" strike="noStrike">
                <a:solidFill>
                  <a:srgbClr val="000000"/>
                </a:solidFill>
                <a:latin typeface="Arial"/>
                <a:ea typeface="Times New Roman"/>
              </a:rPr>
              <a:t>teachers/faculty, librarians, technology coordinators, administrators, curriculum planners and learning facilitators</a:t>
            </a: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Pedagogy:</a:t>
            </a:r>
            <a:r>
              <a:rPr b="0" lang="tr-TR" sz="1200" spc="-1" strike="noStrike">
                <a:solidFill>
                  <a:srgbClr val="000000"/>
                </a:solidFill>
                <a:latin typeface="Arial"/>
              </a:rPr>
              <a:t> Build your program on pedagogical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ea typeface="Times New Roman"/>
              </a:rPr>
              <a:t>Outreach and Promotion:</a:t>
            </a:r>
            <a:r>
              <a:rPr b="0" lang="tr-TR" sz="1200" spc="-1" strike="noStrike">
                <a:solidFill>
                  <a:srgbClr val="000000"/>
                </a:solidFill>
                <a:latin typeface="Arial"/>
                <a:ea typeface="Times New Roman"/>
              </a:rPr>
              <a:t> Promote your program for support and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ssessment and evaluation:</a:t>
            </a:r>
            <a:r>
              <a:rPr b="0" lang="tr-TR" sz="1200" spc="-1" strike="noStrike">
                <a:solidFill>
                  <a:srgbClr val="000000"/>
                </a:solidFill>
                <a:latin typeface="Arial"/>
              </a:rPr>
              <a:t> Establish a process for assessment, including periodic review of the plan to ensure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ea typeface="Times New Roman"/>
              </a:rPr>
              <a:t>Characteristics of the learner:</a:t>
            </a:r>
            <a:r>
              <a:rPr b="0" lang="tr-TR" sz="1200" spc="-1" strike="noStrike">
                <a:solidFill>
                  <a:srgbClr val="000000"/>
                </a:solidFill>
                <a:latin typeface="Arial"/>
                <a:ea typeface="Times New Roman"/>
              </a:rPr>
              <a:t> Examine characteristics of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ea typeface="Times New Roman"/>
              </a:rPr>
              <a:t>Mode of instruction:</a:t>
            </a:r>
            <a:r>
              <a:rPr b="0" lang="tr-TR" sz="1200" spc="-1" strike="noStrike">
                <a:solidFill>
                  <a:srgbClr val="000000"/>
                </a:solidFill>
                <a:latin typeface="Arial"/>
                <a:ea typeface="Times New Roman"/>
              </a:rPr>
              <a:t> Select the most appropriate mode of instruction</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64F3-E3C7-41D7-999F-28AC81DA0B6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040" y="4343400"/>
            <a:ext cx="563868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t all levels of the educational institutions, librarians and administrators can encourage the inclusion of IL concepts and standards into their institution’s strategic vision and planning process This could include institution’s mission or vision statement, the strategic plan, institutional goals and other documents that set the overall tone and direction of the institution The library’s own documents should also include these concepts (Snavely, 20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Other important policies and documents that relate to (undergraduate) education, such as general education definitions and requirements, teaching and learning guidelines, etc. are appropriate places for information literacy concepts to appear. In many cases existing institutional documents contain language that incorporates princip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of information literacy without it being labeled as such.It is important for librarians to help expose those connections and build upon themExample: One of the goals for the strategic vision of Penn State University is to “develo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world-class teachers and learners” (it can only be achieved through IL (Snavely, 20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1.includes a definition of information liter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2.is consistent with the “Information Literacy Competency Standar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3.corresponds with the mission statements of the institution; articulates its purpose for the instruction program in the context of the educational mission of the institution and the needs of the learning commun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4.corresponds with the format of related institutional docu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5.clearly reflects the contributions of and expected benefits to all institutional constituenc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6.appears in appropriate institutional documents; recognizes that instruction programs prepare learners not only for immediate curricular activities, but also for experiences with information use beyond the classroom-in work settings, careers, continuing education and self-development, and lifelong learning in general;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7.assumes the availability of and participation in relevant lifelong learning options for all—faculty, staff, and administration;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8.is reviewed periodically and, if necessary, revised.(best) reflects changes in the institution and learning community through regular review and revision when appropriate. (ACRL, 2003, guide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0000"/>
                </a:solidFill>
                <a:latin typeface="Arial"/>
              </a:rPr>
              <a:t>recognizes the diverse nature of the learning community, including the varieties of learning theory, attitudes, educational levels, life experiences, cultures, technology skill lev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involves its institutional community in the formulation of campus-wide information literacy goals and general outcom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aligns its goals with the Information Literacy Competency Standards for Higher Education, and clearly states a definition of information litera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Arial"/>
              </a:rPr>
              <a:t>recognizes the diverse nature of the learning community, including the varieties oflearning theory, attitudes, educational levels, life experiences, cultures, technology skill levels, and other learner variables such as proximity to the campus itself (distance learning students);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2B57D-0F94-493A-B634-44FC906E5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689C1-781D-4AA9-B839-537B32FA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204E1-2DD3-47D9-8B66-84BA9CB7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2CAF6-2489-48E0-8601-68C49AE64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B973C-39A5-40DC-A75B-7452D8406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17B71-E88E-46B4-A388-E985517CA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C4441-23F4-4267-8021-58EDD4183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9B48D-4763-4BC3-ABE6-E23A51640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A9AED-0349-463D-A605-AB5AAF867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F2ED-78E0-401E-A8E7-300154667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4CF82-8E45-40C2-8AA2-C1C80CEDA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29D2-80DB-48EC-91C7-8C72DBB68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5F2A-0B17-4EB8-BAE9-58E5E9882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FB981-B9DE-4FA2-B588-F028DEF24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2AE96-C0F2-42F6-8300-688364EE3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7CE9C-F74C-4035-93C6-880878024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52B3E-AAA7-43C0-8513-C3E507B23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464A9-59B2-4A87-AD43-68DE957FF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0BFA3-8A48-4A41-A873-DB409D516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997E-D94C-4228-AF7A-8AD12C02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AC19F-A095-425C-A59F-8BF75344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5562-8158-450B-A86C-B99DB2B2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0CAC-2690-4DC2-8C73-4AC79B21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1549-9214-476B-B8B7-A52A8245D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45840" y="637344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r>
              <a:rPr b="0" lang="nl-NL" sz="1200" spc="-1" strike="noStrike">
                <a:solidFill>
                  <a:srgbClr val="000000"/>
                </a:solidFill>
                <a:latin typeface="Verdana"/>
              </a:rPr>
              <a:t>©akb</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5900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88000" y="638136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FBDA-E70D-4057-8799-9363F62989C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9E16-1B85-4EA7-8C85-928BBEC68E8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716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1052640"/>
            <a:ext cx="7361280" cy="252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Developing IL Policy</a:t>
            </a:r>
            <a:br>
              <a:rPr sz="3800"/>
            </a:br>
            <a:r>
              <a:rPr b="0" lang="en-US" sz="3800" spc="-1" strike="noStrike">
                <a:solidFill>
                  <a:srgbClr val="000000"/>
                </a:solidFill>
                <a:latin typeface="Verdana"/>
              </a:rPr>
              <a:t>  </a:t>
            </a:r>
            <a:br>
              <a:rPr sz="3400"/>
            </a:br>
            <a:endParaRPr b="0" lang="en-US" sz="3800" spc="-1" strike="noStrike">
              <a:solidFill>
                <a:srgbClr val="000000"/>
              </a:solidFill>
              <a:latin typeface="Verdana"/>
            </a:endParaRPr>
          </a:p>
        </p:txBody>
      </p:sp>
      <p:sp>
        <p:nvSpPr>
          <p:cNvPr id="93" name="PlaceHolder 2"/>
          <p:cNvSpPr>
            <a:spLocks noGrp="1"/>
          </p:cNvSpPr>
          <p:nvPr>
            <p:ph type="subTitle"/>
          </p:nvPr>
        </p:nvSpPr>
        <p:spPr>
          <a:xfrm>
            <a:off x="1908000" y="3486240"/>
            <a:ext cx="4367520" cy="3472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716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ea typeface="Times New Roman"/>
              </a:rPr>
              <a:t>Serap Kurbanoğlu</a:t>
            </a:r>
            <a:endParaRPr b="0" lang="en-US" sz="2000" spc="-1" strike="noStrike">
              <a:solidFill>
                <a:srgbClr val="000000"/>
              </a:solidFill>
              <a:latin typeface="Verdana"/>
            </a:endParaRPr>
          </a:p>
          <a:p>
            <a:pPr lvl="1" marL="4716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ea typeface="Times New Roman"/>
              </a:rPr>
              <a:t>Hacettepe</a:t>
            </a:r>
            <a:r>
              <a:rPr b="0" lang="nl-NL" sz="2000" spc="-1" strike="noStrike">
                <a:solidFill>
                  <a:srgbClr val="000000"/>
                </a:solidFill>
                <a:latin typeface="Verdana"/>
                <a:ea typeface="Times New Roman"/>
              </a:rPr>
              <a:t> University, Turkey</a:t>
            </a:r>
            <a:endParaRPr b="0" lang="en-US" sz="2000" spc="-1" strike="noStrike">
              <a:solidFill>
                <a:srgbClr val="000000"/>
              </a:solidFill>
              <a:latin typeface="Verdana"/>
            </a:endParaRPr>
          </a:p>
          <a:p>
            <a:pPr lvl="1" marL="47160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ea typeface="Times New Roman"/>
              </a:rPr>
              <a:t>Albert K. Boekhorst</a:t>
            </a:r>
            <a:endParaRPr b="0" lang="en-US" sz="19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niversiteit van Amsterdam</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niversity of Pretoria</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allinn University</a:t>
            </a:r>
            <a:endParaRPr b="0" lang="en-US" sz="20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4" name="" descr=""/>
          <p:cNvPicPr/>
          <p:nvPr/>
        </p:nvPicPr>
        <p:blipFill>
          <a:blip r:embed="rId2"/>
          <a:stretch/>
        </p:blipFill>
        <p:spPr>
          <a:xfrm>
            <a:off x="7021440" y="4149720"/>
            <a:ext cx="1295640" cy="879480"/>
          </a:xfrm>
          <a:prstGeom prst="rect">
            <a:avLst/>
          </a:prstGeom>
          <a:ln w="0">
            <a:noFill/>
          </a:ln>
        </p:spPr>
      </p:pic>
      <p:sp>
        <p:nvSpPr>
          <p:cNvPr id="95" name=""/>
          <p:cNvSpPr/>
          <p:nvPr/>
        </p:nvSpPr>
        <p:spPr>
          <a:xfrm>
            <a:off x="-1116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6" name="" descr=""/>
          <p:cNvPicPr/>
          <p:nvPr/>
        </p:nvPicPr>
        <p:blipFill>
          <a:blip r:embed="rId3"/>
          <a:stretch/>
        </p:blipFill>
        <p:spPr>
          <a:xfrm>
            <a:off x="6300720" y="5013360"/>
            <a:ext cx="2232000" cy="806400"/>
          </a:xfrm>
          <a:prstGeom prst="rect">
            <a:avLst/>
          </a:prstGeom>
          <a:ln w="0">
            <a:noFill/>
          </a:ln>
        </p:spPr>
      </p:pic>
      <p:pic>
        <p:nvPicPr>
          <p:cNvPr id="97" name="" descr=""/>
          <p:cNvPicPr/>
          <p:nvPr/>
        </p:nvPicPr>
        <p:blipFill>
          <a:blip r:embed="rId4"/>
          <a:stretch/>
        </p:blipFill>
        <p:spPr>
          <a:xfrm>
            <a:off x="108000" y="3141720"/>
            <a:ext cx="2090520" cy="3382920"/>
          </a:xfrm>
          <a:prstGeom prst="rect">
            <a:avLst/>
          </a:prstGeom>
          <a:ln w="0">
            <a:noFill/>
          </a:ln>
        </p:spPr>
      </p:pic>
      <p:pic>
        <p:nvPicPr>
          <p:cNvPr id="98" name="" descr=""/>
          <p:cNvPicPr/>
          <p:nvPr/>
        </p:nvPicPr>
        <p:blipFill>
          <a:blip r:embed="rId5"/>
          <a:stretch/>
        </p:blipFill>
        <p:spPr>
          <a:xfrm>
            <a:off x="6372360" y="4289400"/>
            <a:ext cx="60804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Goals &amp; Actions</a:t>
            </a:r>
            <a:endParaRPr b="0" lang="en-US" sz="3800" spc="-1" strike="noStrike">
              <a:solidFill>
                <a:srgbClr val="000000"/>
              </a:solidFill>
              <a:latin typeface="Verdana"/>
            </a:endParaRPr>
          </a:p>
        </p:txBody>
      </p:sp>
      <p:sp>
        <p:nvSpPr>
          <p:cNvPr id="116" name="PlaceHolder 2"/>
          <p:cNvSpPr>
            <a:spLocks noGrp="1"/>
          </p:cNvSpPr>
          <p:nvPr>
            <p:ph/>
          </p:nvPr>
        </p:nvSpPr>
        <p:spPr>
          <a:xfrm>
            <a:off x="456840" y="1523520"/>
            <a:ext cx="8077320" cy="4496040"/>
          </a:xfrm>
          <a:prstGeom prst="rect">
            <a:avLst/>
          </a:prstGeom>
          <a:noFill/>
          <a:ln w="0">
            <a:noFill/>
          </a:ln>
        </p:spPr>
        <p:txBody>
          <a:bodyPr lIns="90000" rIns="90000" tIns="46800" bIns="46800" anchor="t">
            <a:normAutofit fontScale="99000"/>
          </a:bodyPr>
          <a:p>
            <a:pPr marL="4647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Goals are the qualitative and quantitative statements of what the organization wishes to achieve over a measurable future</a:t>
            </a:r>
            <a:endParaRPr b="0" lang="en-US" sz="1900" spc="-1" strike="noStrike">
              <a:solidFill>
                <a:srgbClr val="000000"/>
              </a:solidFill>
              <a:latin typeface="Verdana"/>
            </a:endParaRPr>
          </a:p>
          <a:p>
            <a:pPr marL="4647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ea typeface="Times New Roman"/>
              </a:rPr>
              <a:t>S</a:t>
            </a:r>
            <a:r>
              <a:rPr b="0" lang="en-US" sz="1900" spc="-1" strike="noStrike">
                <a:solidFill>
                  <a:srgbClr val="000000"/>
                </a:solidFill>
                <a:latin typeface="Verdana"/>
                <a:ea typeface="Times New Roman"/>
              </a:rPr>
              <a:t>tate the goal or goals t</a:t>
            </a:r>
            <a:r>
              <a:rPr b="0" lang="tr-TR" sz="1900" spc="-1" strike="noStrike">
                <a:solidFill>
                  <a:srgbClr val="000000"/>
                </a:solidFill>
                <a:latin typeface="Verdana"/>
                <a:ea typeface="Times New Roman"/>
              </a:rPr>
              <a:t>o </a:t>
            </a:r>
            <a:r>
              <a:rPr b="0" lang="en-US" sz="1900" spc="-1" strike="noStrike">
                <a:solidFill>
                  <a:srgbClr val="000000"/>
                </a:solidFill>
                <a:latin typeface="Verdana"/>
                <a:ea typeface="Times New Roman"/>
              </a:rPr>
              <a:t>achieve </a:t>
            </a:r>
            <a:r>
              <a:rPr b="0" lang="tr-TR" sz="1900" spc="-1" strike="noStrike">
                <a:solidFill>
                  <a:srgbClr val="000000"/>
                </a:solidFill>
                <a:latin typeface="Verdana"/>
                <a:ea typeface="Times New Roman"/>
              </a:rPr>
              <a:t>and make them specific</a:t>
            </a:r>
            <a:endParaRPr b="0" lang="en-US" sz="1900" spc="-1" strike="noStrike">
              <a:solidFill>
                <a:srgbClr val="000000"/>
              </a:solidFill>
              <a:latin typeface="Verdana"/>
            </a:endParaRPr>
          </a:p>
          <a:p>
            <a:pPr marL="464760" indent="-46476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Make sure that goals for your information literacy program:</a:t>
            </a:r>
            <a:endParaRPr b="0" lang="en-US" sz="1900" spc="-1" strike="noStrike">
              <a:solidFill>
                <a:srgbClr val="000000"/>
              </a:solidFill>
              <a:latin typeface="Verdana"/>
            </a:endParaRPr>
          </a:p>
          <a:p>
            <a:pPr lvl="1" marL="898560" indent="-4316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are consistent with the mission and goals of the institution;</a:t>
            </a:r>
            <a:endParaRPr b="0" lang="en-US" sz="1700" spc="-1" strike="noStrike">
              <a:solidFill>
                <a:srgbClr val="000000"/>
              </a:solidFill>
              <a:latin typeface="Verdana"/>
            </a:endParaRPr>
          </a:p>
          <a:p>
            <a:pPr lvl="1" marL="898560" indent="-4316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are consistent with the mission statement of the IL program;</a:t>
            </a:r>
            <a:endParaRPr b="0" lang="en-US" sz="1700" spc="-1" strike="noStrike">
              <a:solidFill>
                <a:srgbClr val="000000"/>
              </a:solidFill>
              <a:latin typeface="Verdana"/>
            </a:endParaRPr>
          </a:p>
          <a:p>
            <a:pPr lvl="1" marL="898560" indent="-4316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apply to all learners, regardless of delivery system or location;</a:t>
            </a:r>
            <a:endParaRPr b="0" lang="en-US" sz="1700" spc="-1" strike="noStrike">
              <a:solidFill>
                <a:srgbClr val="000000"/>
              </a:solidFill>
              <a:latin typeface="Verdana"/>
            </a:endParaRPr>
          </a:p>
          <a:p>
            <a:pPr lvl="1" marL="898560" indent="-4316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reflect the desired outcomes of preparing students for lifelong learning; </a:t>
            </a:r>
            <a:endParaRPr b="0" lang="en-US" sz="1700" spc="-1" strike="noStrike">
              <a:solidFill>
                <a:srgbClr val="000000"/>
              </a:solidFill>
              <a:latin typeface="Verdana"/>
            </a:endParaRPr>
          </a:p>
          <a:p>
            <a:pPr lvl="1" marL="898560" indent="-43164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are evaluated and reviewed periodically</a:t>
            </a:r>
            <a:endParaRPr b="0" lang="en-US" sz="1700" spc="-1" strike="noStrike">
              <a:solidFill>
                <a:srgbClr val="000000"/>
              </a:solidFill>
              <a:latin typeface="Verdana"/>
            </a:endParaRPr>
          </a:p>
          <a:p>
            <a:pPr lvl="1" marL="8985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4760" indent="-46476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List all actions required to achieve each goal</a:t>
            </a:r>
            <a:endParaRPr b="0" lang="en-US" sz="1900" spc="-1" strike="noStrike">
              <a:solidFill>
                <a:srgbClr val="000000"/>
              </a:solidFill>
              <a:latin typeface="Verdana"/>
            </a:endParaRPr>
          </a:p>
          <a:p>
            <a:pPr marL="464760" indent="-46476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Write actions in the order they need to be completed</a:t>
            </a:r>
            <a:endParaRPr b="0" lang="en-US" sz="1900" spc="-1" strike="noStrike">
              <a:solidFill>
                <a:srgbClr val="000000"/>
              </a:solidFill>
              <a:latin typeface="Verdana"/>
            </a:endParaRPr>
          </a:p>
          <a:p>
            <a:pPr marL="4647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8985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174DC9E-7E6C-4FC7-B684-969DE8342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Enviromental scan</a:t>
            </a:r>
            <a:endParaRPr b="0" lang="en-US" sz="3800" spc="-1" strike="noStrike">
              <a:solidFill>
                <a:srgbClr val="000000"/>
              </a:solidFill>
              <a:latin typeface="Verdana"/>
            </a:endParaRPr>
          </a:p>
        </p:txBody>
      </p:sp>
      <p:sp>
        <p:nvSpPr>
          <p:cNvPr id="118" name="PlaceHolder 2"/>
          <p:cNvSpPr>
            <a:spLocks noGrp="1"/>
          </p:cNvSpPr>
          <p:nvPr>
            <p:ph/>
          </p:nvPr>
        </p:nvSpPr>
        <p:spPr>
          <a:xfrm>
            <a:off x="468360" y="1700280"/>
            <a:ext cx="8305920" cy="44193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an </a:t>
            </a:r>
            <a:r>
              <a:rPr b="0" lang="tr-TR" sz="2100" spc="-1" strike="noStrike">
                <a:solidFill>
                  <a:srgbClr val="000000"/>
                </a:solidFill>
                <a:latin typeface="Verdana"/>
              </a:rPr>
              <a:t>both</a:t>
            </a:r>
            <a:r>
              <a:rPr b="0" lang="en-US" sz="2100" spc="-1" strike="noStrike">
                <a:solidFill>
                  <a:srgbClr val="000000"/>
                </a:solidFill>
                <a:latin typeface="Verdana"/>
              </a:rPr>
              <a:t> internal and external environment</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WOT/TOWS analysis</a:t>
            </a:r>
            <a:r>
              <a:rPr b="0" lang="tr-TR" sz="1900" spc="-1" strike="noStrike">
                <a:solidFill>
                  <a:srgbClr val="000000"/>
                </a:solidFill>
                <a:latin typeface="Verdana"/>
              </a:rPr>
              <a:t> can be used</a:t>
            </a:r>
            <a:endParaRPr b="0" lang="en-US" sz="19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Environmental scan</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etecs social, economic, and political trends that may affect organization’s future</a:t>
            </a:r>
            <a:r>
              <a:rPr b="0" lang="en-US" sz="1900" spc="-1" strike="noStrike">
                <a:solidFill>
                  <a:srgbClr val="000000"/>
                </a:solidFill>
                <a:latin typeface="Verdana"/>
              </a:rPr>
              <a:t>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tects trends and events important to </a:t>
            </a:r>
            <a:r>
              <a:rPr b="0" lang="tr-TR" sz="1900" spc="-1" strike="noStrike">
                <a:solidFill>
                  <a:srgbClr val="000000"/>
                </a:solidFill>
                <a:latin typeface="Verdana"/>
              </a:rPr>
              <a:t>your plan</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ea typeface="Times New Roman"/>
              </a:rPr>
              <a:t>Detecs</a:t>
            </a:r>
            <a:r>
              <a:rPr b="0" lang="en-US" sz="1900" spc="-1" strike="noStrike">
                <a:solidFill>
                  <a:srgbClr val="000000"/>
                </a:solidFill>
                <a:latin typeface="Verdana"/>
                <a:ea typeface="Times New Roman"/>
              </a:rPr>
              <a:t> institutional factors that can help or limit the program</a:t>
            </a:r>
            <a:r>
              <a:rPr b="0" lang="tr-TR" sz="1900" spc="-1" strike="noStrike">
                <a:solidFill>
                  <a:srgbClr val="000000"/>
                </a:solidFill>
                <a:latin typeface="Verdana"/>
                <a:ea typeface="Times New Roman"/>
              </a:rPr>
              <a:t>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early warning of changing external condition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fines potential threats</a:t>
            </a:r>
            <a:r>
              <a:rPr b="0" lang="tr-TR" sz="1900" spc="-1" strike="noStrike">
                <a:solidFill>
                  <a:srgbClr val="000000"/>
                </a:solidFill>
                <a:latin typeface="Verdana"/>
              </a:rPr>
              <a:t> and</a:t>
            </a:r>
            <a:r>
              <a:rPr b="0" lang="en-US" sz="1900" spc="-1" strike="noStrike">
                <a:solidFill>
                  <a:srgbClr val="000000"/>
                </a:solidFill>
                <a:latin typeface="Verdana"/>
              </a:rPr>
              <a:t> opportunities</a:t>
            </a:r>
            <a:r>
              <a:rPr b="0" lang="tr-TR" sz="1900" spc="-1" strike="noStrike">
                <a:solidFill>
                  <a:srgbClr val="000000"/>
                </a:solidFill>
                <a:latin typeface="Verdana"/>
              </a:rPr>
              <a:t> </a:t>
            </a:r>
            <a:r>
              <a:rPr b="0" lang="en-US" sz="1900" spc="-1" strike="noStrike">
                <a:solidFill>
                  <a:srgbClr val="000000"/>
                </a:solidFill>
                <a:latin typeface="Verdana"/>
              </a:rPr>
              <a:t>implied by </a:t>
            </a:r>
            <a:r>
              <a:rPr b="0" lang="tr-TR" sz="1900" spc="-1" strike="noStrike">
                <a:solidFill>
                  <a:srgbClr val="000000"/>
                </a:solidFill>
                <a:latin typeface="Verdana"/>
              </a:rPr>
              <a:t>external factor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motes a future orientation in the thinking of management and staff</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ables to understand current and potential changes to determine organizational strategi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C1F331B-8636-408A-91EB-E3EB2FB14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15720"/>
            <a:ext cx="666756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Internal &amp; external factors</a:t>
            </a:r>
            <a:endParaRPr b="0" lang="en-US" sz="3800" spc="-1" strike="noStrike">
              <a:solidFill>
                <a:srgbClr val="000000"/>
              </a:solidFill>
              <a:latin typeface="Verdana"/>
            </a:endParaRPr>
          </a:p>
        </p:txBody>
      </p:sp>
      <p:sp>
        <p:nvSpPr>
          <p:cNvPr id="120" name="PlaceHolder 2"/>
          <p:cNvSpPr>
            <a:spLocks noGrp="1"/>
          </p:cNvSpPr>
          <p:nvPr>
            <p:ph/>
          </p:nvPr>
        </p:nvSpPr>
        <p:spPr>
          <a:xfrm>
            <a:off x="380520" y="1599840"/>
            <a:ext cx="8153640" cy="4419720"/>
          </a:xfrm>
          <a:prstGeom prst="rect">
            <a:avLst/>
          </a:prstGeom>
          <a:noFill/>
          <a:ln w="0">
            <a:noFill/>
          </a:ln>
        </p:spPr>
        <p:txBody>
          <a:bodyPr lIns="90000" rIns="90000" tIns="46800" bIns="46800" anchor="t">
            <a:normAutofit/>
          </a:bodyPr>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Verdana"/>
              </a:rPr>
              <a:t>I</a:t>
            </a:r>
            <a:r>
              <a:rPr b="1" lang="en-US" sz="2100" spc="-1" strike="noStrike">
                <a:solidFill>
                  <a:srgbClr val="000000"/>
                </a:solidFill>
                <a:latin typeface="Verdana"/>
              </a:rPr>
              <a:t>nternal = Strengths </a:t>
            </a:r>
            <a:r>
              <a:rPr b="1" lang="tr-TR" sz="2100" spc="-1" strike="noStrike">
                <a:solidFill>
                  <a:srgbClr val="000000"/>
                </a:solidFill>
                <a:latin typeface="Verdana"/>
              </a:rPr>
              <a:t>and</a:t>
            </a:r>
            <a:r>
              <a:rPr b="1" lang="en-US" sz="2100" spc="-1" strike="noStrike">
                <a:solidFill>
                  <a:srgbClr val="000000"/>
                </a:solidFill>
                <a:latin typeface="Verdana"/>
              </a:rPr>
              <a:t> Weaknesses</a:t>
            </a:r>
            <a:endParaRPr b="0" lang="en-US" sz="21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valuate </a:t>
            </a:r>
            <a:r>
              <a:rPr b="0" lang="tr-TR" sz="2000" spc="-1" strike="noStrike">
                <a:solidFill>
                  <a:srgbClr val="000000"/>
                </a:solidFill>
                <a:latin typeface="Verdana"/>
                <a:ea typeface="Times New Roman"/>
              </a:rPr>
              <a:t>the</a:t>
            </a:r>
            <a:r>
              <a:rPr b="0" lang="en-US" sz="2000" spc="-1" strike="noStrike">
                <a:solidFill>
                  <a:srgbClr val="000000"/>
                </a:solidFill>
                <a:latin typeface="Verdana"/>
                <a:ea typeface="Times New Roman"/>
              </a:rPr>
              <a:t> weaknesses </a:t>
            </a:r>
            <a:r>
              <a:rPr b="0" lang="tr-TR" sz="2000" spc="-1" strike="noStrike">
                <a:solidFill>
                  <a:srgbClr val="000000"/>
                </a:solidFill>
                <a:latin typeface="Verdana"/>
                <a:ea typeface="Times New Roman"/>
              </a:rPr>
              <a:t>and strenghts </a:t>
            </a:r>
            <a:r>
              <a:rPr b="0" lang="en-US" sz="2000" spc="-1" strike="noStrike">
                <a:solidFill>
                  <a:srgbClr val="000000"/>
                </a:solidFill>
                <a:latin typeface="Verdana"/>
                <a:ea typeface="Times New Roman"/>
              </a:rPr>
              <a:t>in terms of human, economic and physical resources available in the library for the IL program</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xternal = Opportunities </a:t>
            </a:r>
            <a:r>
              <a:rPr b="1" lang="tr-TR" sz="2100" spc="-1" strike="noStrike">
                <a:solidFill>
                  <a:srgbClr val="000000"/>
                </a:solidFill>
                <a:latin typeface="Verdana"/>
              </a:rPr>
              <a:t>and</a:t>
            </a:r>
            <a:r>
              <a:rPr b="1" lang="en-US" sz="2100" spc="-1" strike="noStrike">
                <a:solidFill>
                  <a:srgbClr val="000000"/>
                </a:solidFill>
                <a:latin typeface="Verdana"/>
              </a:rPr>
              <a:t> Threats</a:t>
            </a:r>
            <a:endParaRPr b="0" lang="en-US" sz="21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Anticipate and address current and future opportunities and challenge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F1D63C6-E3D9-47A2-8AA5-2EA890EC5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WOT Analysis</a:t>
            </a:r>
            <a:endParaRPr b="0" lang="en-US" sz="3800" spc="-1" strike="noStrike">
              <a:solidFill>
                <a:srgbClr val="000000"/>
              </a:solidFill>
              <a:latin typeface="Verdana"/>
            </a:endParaRPr>
          </a:p>
        </p:txBody>
      </p:sp>
      <p:graphicFrame>
        <p:nvGraphicFramePr>
          <p:cNvPr id="122" name=""/>
          <p:cNvGraphicFramePr/>
          <p:nvPr/>
        </p:nvGraphicFramePr>
        <p:xfrm>
          <a:off x="1576440" y="2060640"/>
          <a:ext cx="5630760" cy="3808440"/>
        </p:xfrm>
        <a:graphic>
          <a:graphicData uri="http://schemas.openxmlformats.org/drawingml/2006/table">
            <a:tbl>
              <a:tblPr/>
              <a:tblGrid>
                <a:gridCol w="2815560"/>
                <a:gridCol w="2815200"/>
              </a:tblGrid>
              <a:tr h="1868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Arial"/>
                      </a:endParaRPr>
                    </a:p>
                    <a:p>
                      <a:pPr algn="ctr">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40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Arial"/>
                      </a:endParaRPr>
                    </a:p>
                    <a:p>
                      <a:pPr algn="ctr">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UNESCO TTT Cape Town 2008</a:t>
            </a:r>
          </a:p>
        </p:txBody>
      </p:sp>
      <p:sp>
        <p:nvSpPr>
          <p:cNvPr id="4" name="PlaceHolder 3"/>
          <p:cNvSpPr>
            <a:spLocks noGrp="1"/>
          </p:cNvSpPr>
          <p:nvPr>
            <p:ph type="sldNum" idx="3"/>
          </p:nvPr>
        </p:nvSpPr>
        <p:spPr/>
        <p:txBody>
          <a:bodyPr/>
          <a:p>
            <a:fld id="{A3677A72-5297-4AE5-A094-99E6454DEA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WS </a:t>
            </a:r>
            <a:r>
              <a:rPr b="0" lang="tr-TR" sz="3800" spc="-1" strike="noStrike">
                <a:solidFill>
                  <a:srgbClr val="000000"/>
                </a:solidFill>
                <a:latin typeface="Verdana"/>
              </a:rPr>
              <a:t>Analysis</a:t>
            </a:r>
            <a:endParaRPr b="0" lang="en-US" sz="3800" spc="-1" strike="noStrike">
              <a:solidFill>
                <a:srgbClr val="000000"/>
              </a:solidFill>
              <a:latin typeface="Verdana"/>
            </a:endParaRPr>
          </a:p>
        </p:txBody>
      </p:sp>
      <p:graphicFrame>
        <p:nvGraphicFramePr>
          <p:cNvPr id="124" name=""/>
          <p:cNvGraphicFramePr/>
          <p:nvPr/>
        </p:nvGraphicFramePr>
        <p:xfrm>
          <a:off x="1428840" y="1917720"/>
          <a:ext cx="5703840" cy="3975120"/>
        </p:xfrm>
        <a:graphic>
          <a:graphicData uri="http://schemas.openxmlformats.org/drawingml/2006/table">
            <a:tbl>
              <a:tblPr/>
              <a:tblGrid>
                <a:gridCol w="1851840"/>
                <a:gridCol w="1925640"/>
                <a:gridCol w="1926360"/>
              </a:tblGrid>
              <a:tr h="12211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xternal Opportunities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xternal Threats </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47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nal Strengths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ategies that use strengths to maximize opportuniti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ategies that use strengths to minimize threa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nal Weaknesses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ategies that minimize weaknesses by taking advantage of opportuniti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ategies that minimize weaknesses and avoid threa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UNESCO TTT Cape Town 2008</a:t>
            </a:r>
          </a:p>
        </p:txBody>
      </p:sp>
      <p:sp>
        <p:nvSpPr>
          <p:cNvPr id="4" name="PlaceHolder 3"/>
          <p:cNvSpPr>
            <a:spLocks noGrp="1"/>
          </p:cNvSpPr>
          <p:nvPr>
            <p:ph type="sldNum" idx="3"/>
          </p:nvPr>
        </p:nvSpPr>
        <p:spPr/>
        <p:txBody>
          <a:bodyPr/>
          <a:p>
            <a:fld id="{2C996A83-E71C-4F56-83B2-14AF02EFA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Resources </a:t>
            </a:r>
            <a:endParaRPr b="0" lang="en-US" sz="3800" spc="-1" strike="noStrike">
              <a:solidFill>
                <a:srgbClr val="000000"/>
              </a:solidFill>
              <a:latin typeface="Verdana"/>
            </a:endParaRPr>
          </a:p>
        </p:txBody>
      </p:sp>
      <p:sp>
        <p:nvSpPr>
          <p:cNvPr id="126" name="PlaceHolder 2"/>
          <p:cNvSpPr>
            <a:spLocks noGrp="1"/>
          </p:cNvSpPr>
          <p:nvPr>
            <p:ph/>
          </p:nvPr>
        </p:nvSpPr>
        <p:spPr>
          <a:xfrm>
            <a:off x="539280" y="2060280"/>
            <a:ext cx="7853400" cy="38797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Identify what is required to implement the program</a:t>
            </a:r>
            <a:r>
              <a:rPr b="0" lang="tr-TR" sz="2600" spc="-1" strike="noStrike">
                <a:solidFill>
                  <a:srgbClr val="000000"/>
                </a:solidFill>
                <a:latin typeface="Verdana"/>
                <a:ea typeface="Times New Roman"/>
              </a:rPr>
              <a: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ea typeface="Times New Roman"/>
              </a:rPr>
              <a:t>Describe the human resources required for each actio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ea typeface="Times New Roman"/>
              </a:rPr>
              <a:t>Describe the </a:t>
            </a:r>
            <a:r>
              <a:rPr b="0" lang="en-US" sz="2600" spc="-1" strike="noStrike">
                <a:solidFill>
                  <a:srgbClr val="000000"/>
                </a:solidFill>
                <a:latin typeface="Verdana"/>
                <a:ea typeface="Times New Roman"/>
              </a:rPr>
              <a:t>physical requirements </a:t>
            </a:r>
            <a:r>
              <a:rPr b="0" lang="tr-TR" sz="2600" spc="-1" strike="noStrike">
                <a:solidFill>
                  <a:srgbClr val="000000"/>
                </a:solidFill>
                <a:latin typeface="Verdana"/>
                <a:ea typeface="Times New Roman"/>
              </a:rPr>
              <a:t>for each action (e.g. </a:t>
            </a:r>
            <a:r>
              <a:rPr b="0" lang="en-US" sz="2600" spc="-1" strike="noStrike">
                <a:solidFill>
                  <a:srgbClr val="000000"/>
                </a:solidFill>
                <a:latin typeface="Verdana"/>
                <a:ea typeface="Times New Roman"/>
              </a:rPr>
              <a:t>classroom, office space, furniture, equipment</a:t>
            </a:r>
            <a:r>
              <a:rPr b="0" lang="tr-TR" sz="2600" spc="-1" strike="noStrike">
                <a:solidFill>
                  <a:srgbClr val="000000"/>
                </a:solidFill>
                <a:latin typeface="Verdana"/>
                <a:ea typeface="Times New Roman"/>
              </a:rPr>
              <a:t>, etc.);</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ddress, with clear priorities, human, technological and financial resources, current and projected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044C886F-501A-4D63-92D2-055EDCE7E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tr-TR" sz="3800" spc="-1" strike="noStrike">
                <a:solidFill>
                  <a:srgbClr val="000000"/>
                </a:solidFill>
                <a:latin typeface="Verdana"/>
              </a:rPr>
              <a:t>Human Resources</a:t>
            </a:r>
            <a:endParaRPr b="0" lang="en-US" sz="3800" spc="-1" strike="noStrike">
              <a:solidFill>
                <a:srgbClr val="000000"/>
              </a:solidFill>
              <a:latin typeface="Verdana"/>
            </a:endParaRPr>
          </a:p>
        </p:txBody>
      </p:sp>
      <p:sp>
        <p:nvSpPr>
          <p:cNvPr id="128" name="PlaceHolder 2"/>
          <p:cNvSpPr>
            <a:spLocks noGrp="1"/>
          </p:cNvSpPr>
          <p:nvPr>
            <p:ph/>
          </p:nvPr>
        </p:nvSpPr>
        <p:spPr>
          <a:xfrm>
            <a:off x="539640" y="1844280"/>
            <a:ext cx="7989840" cy="409572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Build up your team</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Employ, develop</a:t>
            </a:r>
            <a:r>
              <a:rPr b="1" lang="tr-TR" sz="2500" spc="-1" strike="noStrike">
                <a:solidFill>
                  <a:srgbClr val="000000"/>
                </a:solidFill>
                <a:latin typeface="Verdana"/>
              </a:rPr>
              <a:t>,</a:t>
            </a:r>
            <a:r>
              <a:rPr b="0" lang="tr-TR" sz="2500" spc="-1" strike="noStrike">
                <a:solidFill>
                  <a:srgbClr val="000000"/>
                </a:solidFill>
                <a:latin typeface="Verdana"/>
              </a:rPr>
              <a:t> or have access to sufficient personnel with appropriate education, experience, and expertise</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dentify </a:t>
            </a:r>
            <a:r>
              <a:rPr b="0" lang="tr-TR" sz="2500" spc="-1" strike="noStrike">
                <a:solidFill>
                  <a:srgbClr val="000000"/>
                </a:solidFill>
                <a:latin typeface="Verdana"/>
              </a:rPr>
              <a:t>and</a:t>
            </a:r>
            <a:r>
              <a:rPr b="0" lang="en-US" sz="2500" spc="-1" strike="noStrike">
                <a:solidFill>
                  <a:srgbClr val="000000"/>
                </a:solidFill>
                <a:latin typeface="Verdana"/>
              </a:rPr>
              <a:t> assign leadership and responsibilities</a:t>
            </a:r>
            <a:r>
              <a:rPr b="0" lang="tr-TR" sz="2500" spc="-1" strike="noStrike">
                <a:solidFill>
                  <a:srgbClr val="000000"/>
                </a:solidFill>
                <a:latin typeface="Verdana"/>
              </a:rPr>
              <a:t> within the team</a:t>
            </a:r>
            <a:endParaRPr b="0" lang="en-US" sz="25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AC4DD450-76A8-4AF7-A0AC-6DCA9AEB1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04560"/>
            <a:ext cx="662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Human Resources</a:t>
            </a:r>
            <a:r>
              <a:rPr b="0" lang="tr-TR" sz="3600" spc="-1" strike="noStrike">
                <a:solidFill>
                  <a:srgbClr val="000000"/>
                </a:solidFill>
                <a:latin typeface="Verdana"/>
              </a:rPr>
              <a:t> </a:t>
            </a:r>
            <a:endParaRPr b="0" lang="en-US" sz="3600" spc="-1" strike="noStrike">
              <a:solidFill>
                <a:srgbClr val="000000"/>
              </a:solidFill>
              <a:latin typeface="Verdana"/>
            </a:endParaRPr>
          </a:p>
        </p:txBody>
      </p:sp>
      <p:sp>
        <p:nvSpPr>
          <p:cNvPr id="130" name="PlaceHolder 2"/>
          <p:cNvSpPr>
            <a:spLocks noGrp="1"/>
          </p:cNvSpPr>
          <p:nvPr>
            <p:ph/>
          </p:nvPr>
        </p:nvSpPr>
        <p:spPr>
          <a:xfrm>
            <a:off x="468000" y="1628640"/>
            <a:ext cx="8534520" cy="457200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Make sure that the staff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evelop experience in teaching, assessment of student learning, and curriculum developmen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evelop expertise to develop, coordinate, implement, maintain, and evaluate IL program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use instructional design process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promote, market, manage, and coordinate diverse instruction activiti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llect and interpret data to evaluate and update instruction program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ntegrate and apply instructional technologies into learning activiti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produce instructional material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employ a collaborative approach to working with other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ctively engaged in continual professional development and traini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respond to changing technologies, environments, and communiti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58BEF562-D3D2-4C0C-92A1-3A253968D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Budget</a:t>
            </a:r>
            <a:endParaRPr b="0" lang="en-US" sz="3800" spc="-1" strike="noStrike">
              <a:solidFill>
                <a:srgbClr val="000000"/>
              </a:solidFill>
              <a:latin typeface="Verdana"/>
            </a:endParaRPr>
          </a:p>
        </p:txBody>
      </p:sp>
      <p:sp>
        <p:nvSpPr>
          <p:cNvPr id="132" name="PlaceHolder 2"/>
          <p:cNvSpPr>
            <a:spLocks noGrp="1"/>
          </p:cNvSpPr>
          <p:nvPr>
            <p:ph/>
          </p:nvPr>
        </p:nvSpPr>
        <p:spPr>
          <a:xfrm>
            <a:off x="380520" y="1905120"/>
            <a:ext cx="8153640" cy="411480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Tie your plan to library and institutional budgeting cycles</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ea typeface="Times New Roman"/>
              </a:rPr>
              <a:t>Estimate </a:t>
            </a:r>
            <a:r>
              <a:rPr b="0" lang="tr-TR" sz="2500" spc="-1" strike="noStrike">
                <a:solidFill>
                  <a:srgbClr val="000000"/>
                </a:solidFill>
                <a:latin typeface="Verdana"/>
                <a:ea typeface="Times New Roman"/>
              </a:rPr>
              <a:t>your</a:t>
            </a:r>
            <a:r>
              <a:rPr b="0" lang="es-ES" sz="2500" spc="-1" strike="noStrike">
                <a:solidFill>
                  <a:srgbClr val="000000"/>
                </a:solidFill>
                <a:latin typeface="Verdana"/>
                <a:ea typeface="Times New Roman"/>
              </a:rPr>
              <a:t> </a:t>
            </a:r>
            <a:r>
              <a:rPr b="0" lang="tr-TR" sz="2500" spc="-1" strike="noStrike">
                <a:solidFill>
                  <a:srgbClr val="000000"/>
                </a:solidFill>
                <a:latin typeface="Verdana"/>
                <a:ea typeface="Times New Roman"/>
              </a:rPr>
              <a:t>budget </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ea typeface="Times New Roman"/>
              </a:rPr>
              <a:t>Be flexible in estimating costs</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Determine how much funding the program needs</a:t>
            </a:r>
            <a:r>
              <a:rPr b="0" lang="nl-NL" sz="2500" spc="-1" strike="noStrike">
                <a:solidFill>
                  <a:srgbClr val="000000"/>
                </a:solidFill>
                <a:latin typeface="Verdana"/>
                <a:ea typeface="Times New Roman"/>
              </a:rPr>
              <a:t> (staff = money)</a:t>
            </a:r>
            <a:endParaRPr b="0" lang="en-US" sz="2500" spc="-1" strike="noStrike">
              <a:solidFill>
                <a:srgbClr val="000000"/>
              </a:solidFill>
              <a:latin typeface="Verdana"/>
            </a:endParaRPr>
          </a:p>
          <a:p>
            <a:pPr marL="469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73528942-5D1F-4F07-B0B8-0B6890C0A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0"/>
            <a:ext cx="8291520" cy="15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Administrative and institutional support</a:t>
            </a:r>
            <a:endParaRPr b="0" lang="en-US" sz="3800" spc="-1" strike="noStrike">
              <a:solidFill>
                <a:srgbClr val="000000"/>
              </a:solidFill>
              <a:latin typeface="Verdana"/>
            </a:endParaRPr>
          </a:p>
        </p:txBody>
      </p:sp>
      <p:sp>
        <p:nvSpPr>
          <p:cNvPr id="134" name="PlaceHolder 2"/>
          <p:cNvSpPr>
            <a:spLocks noGrp="1"/>
          </p:cNvSpPr>
          <p:nvPr>
            <p:ph/>
          </p:nvPr>
        </p:nvSpPr>
        <p:spPr>
          <a:xfrm>
            <a:off x="380520" y="1905120"/>
            <a:ext cx="8153640" cy="411480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No information literacy program can be developed and sustained unless it has a strong base of support </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upport for a successful instruction program has many interdependent facets</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The level of support necessary will depend on </a:t>
            </a:r>
            <a:endParaRPr b="0" lang="en-US" sz="2100" spc="-1" strike="noStrike">
              <a:solidFill>
                <a:srgbClr val="000000"/>
              </a:solidFill>
              <a:latin typeface="Verdana"/>
            </a:endParaRPr>
          </a:p>
          <a:p>
            <a:pPr lvl="1" marL="907920" indent="-43632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 scope of the program </a:t>
            </a:r>
            <a:endParaRPr b="0" lang="en-US" sz="1900" spc="-1" strike="noStrike">
              <a:solidFill>
                <a:srgbClr val="000000"/>
              </a:solidFill>
              <a:latin typeface="Verdana"/>
            </a:endParaRPr>
          </a:p>
          <a:p>
            <a:pPr lvl="1" marL="907920" indent="-43632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 size of the program</a:t>
            </a:r>
            <a:endParaRPr b="0" lang="en-US" sz="1900" spc="-1" strike="noStrike">
              <a:solidFill>
                <a:srgbClr val="000000"/>
              </a:solidFill>
              <a:latin typeface="Verdana"/>
            </a:endParaRPr>
          </a:p>
          <a:p>
            <a:pPr lvl="1" marL="907920" indent="-43632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ts connection with other institutional units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2A248C1-1E44-4B33-ADFE-37D038160A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130120"/>
            <a:ext cx="8001000" cy="2593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100" spc="-1" strike="noStrike">
                <a:solidFill>
                  <a:srgbClr val="000000"/>
                </a:solidFill>
                <a:latin typeface="Verdana"/>
              </a:rPr>
              <a:t>Our plans miscarry because they have no aim. </a:t>
            </a:r>
            <a:br>
              <a:rPr sz="2100"/>
            </a:br>
            <a:r>
              <a:rPr b="0" i="1" lang="tr-TR" sz="2100" spc="-1" strike="noStrike">
                <a:solidFill>
                  <a:srgbClr val="000000"/>
                </a:solidFill>
                <a:latin typeface="Verdana"/>
              </a:rPr>
              <a:t>When a man does not know what harbour he is making for, </a:t>
            </a:r>
            <a:br>
              <a:rPr sz="2100"/>
            </a:br>
            <a:r>
              <a:rPr b="0" i="1" lang="tr-TR" sz="2100" spc="-1" strike="noStrike">
                <a:solidFill>
                  <a:srgbClr val="000000"/>
                </a:solidFill>
                <a:latin typeface="Verdana"/>
              </a:rPr>
              <a:t>no wind is the right wind</a:t>
            </a:r>
            <a:br>
              <a:rPr sz="2100"/>
            </a:br>
            <a:br>
              <a:rPr sz="2100"/>
            </a:br>
            <a:r>
              <a:rPr b="0" i="1" lang="tr-TR" sz="2100" spc="-1" strike="noStrike">
                <a:solidFill>
                  <a:srgbClr val="000000"/>
                </a:solidFill>
                <a:latin typeface="Verdana"/>
              </a:rPr>
              <a:t>Seneca</a:t>
            </a:r>
            <a:endParaRPr b="0" lang="en-US" sz="2100" spc="-1" strike="noStrike">
              <a:solidFill>
                <a:srgbClr val="000000"/>
              </a:solidFill>
              <a:latin typeface="Verdana"/>
            </a:endParaRPr>
          </a:p>
        </p:txBody>
      </p:sp>
      <p:sp>
        <p:nvSpPr>
          <p:cNvPr id="100" name="PlaceHolder 2"/>
          <p:cNvSpPr>
            <a:spLocks noGrp="1"/>
          </p:cNvSpPr>
          <p:nvPr>
            <p:ph type="subTitle"/>
          </p:nvPr>
        </p:nvSpPr>
        <p:spPr>
          <a:xfrm>
            <a:off x="1332000" y="3733560"/>
            <a:ext cx="7278480" cy="19810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000"/>
            <a:ext cx="8686800" cy="15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Administrative and institutional support</a:t>
            </a:r>
            <a:endParaRPr b="0" lang="en-US" sz="3800" spc="-1" strike="noStrike">
              <a:solidFill>
                <a:srgbClr val="000000"/>
              </a:solidFill>
              <a:latin typeface="Verdana"/>
            </a:endParaRPr>
          </a:p>
        </p:txBody>
      </p:sp>
      <p:sp>
        <p:nvSpPr>
          <p:cNvPr id="136" name="PlaceHolder 2"/>
          <p:cNvSpPr>
            <a:spLocks noGrp="1"/>
          </p:cNvSpPr>
          <p:nvPr>
            <p:ph/>
          </p:nvPr>
        </p:nvSpPr>
        <p:spPr>
          <a:xfrm>
            <a:off x="533520" y="1676160"/>
            <a:ext cx="8215200" cy="434340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nvince the administration within your institution:</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at IL is a learning issue not a library issue and that faculty must also be responsible for students acquiring IL abiliti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o assign information literacy leadership and responsibiliti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o plant IL in the institution’s mission, strategic plan, and polici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o provide funding to establish and ensure ongoing support for teaching facilities and resources, staffing, professional development opportunities for librarians, faculty, staff, and administrator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o recognize and encourage collaboration among instutional community (faculty, librarians, and other staff) and among institutional unit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o communicate support for the program;</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o reward achievement and participation in the information literacy program within the institution’s system.</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AA9A43EC-E988-4DE9-9BA1-83A9F1BA7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5920"/>
            <a:ext cx="8362800" cy="15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tr-TR" sz="3800" spc="-1" strike="noStrike">
                <a:solidFill>
                  <a:srgbClr val="000000"/>
                </a:solidFill>
                <a:latin typeface="Verdana"/>
              </a:rPr>
              <a:t>Integration into the curriculum</a:t>
            </a:r>
            <a:endParaRPr b="0" lang="en-US" sz="3800" spc="-1" strike="noStrike">
              <a:solidFill>
                <a:srgbClr val="000000"/>
              </a:solidFill>
              <a:latin typeface="Verdana"/>
            </a:endParaRPr>
          </a:p>
        </p:txBody>
      </p:sp>
      <p:sp>
        <p:nvSpPr>
          <p:cNvPr id="138" name="PlaceHolder 2"/>
          <p:cNvSpPr>
            <a:spLocks noGrp="1"/>
          </p:cNvSpPr>
          <p:nvPr>
            <p:ph/>
          </p:nvPr>
        </p:nvSpPr>
        <p:spPr>
          <a:xfrm>
            <a:off x="380520" y="1447920"/>
            <a:ext cx="8223480" cy="45720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ea typeface="Times New Roman"/>
              </a:rPr>
              <a:t>E</a:t>
            </a:r>
            <a:r>
              <a:rPr b="0" lang="en-US" sz="2100" spc="-1" strike="noStrike">
                <a:solidFill>
                  <a:srgbClr val="000000"/>
                </a:solidFill>
                <a:latin typeface="Verdana"/>
                <a:ea typeface="Times New Roman"/>
              </a:rPr>
              <a:t>nsure </a:t>
            </a:r>
            <a:r>
              <a:rPr b="0" lang="tr-TR" sz="2100" spc="-1" strike="noStrike">
                <a:solidFill>
                  <a:srgbClr val="000000"/>
                </a:solidFill>
                <a:latin typeface="Verdana"/>
                <a:ea typeface="Times New Roman"/>
              </a:rPr>
              <a:t>that IL</a:t>
            </a:r>
            <a:r>
              <a:rPr b="0" lang="en-US" sz="2100" spc="-1" strike="noStrike">
                <a:solidFill>
                  <a:srgbClr val="000000"/>
                </a:solidFill>
                <a:latin typeface="Verdana"/>
                <a:ea typeface="Times New Roman"/>
              </a:rPr>
              <a:t> is incorporated into the curriculum</a:t>
            </a:r>
            <a:r>
              <a:rPr b="0" lang="tr-TR" sz="2100" spc="-1" strike="noStrike">
                <a:solidFill>
                  <a:srgbClr val="000000"/>
                </a:solidFill>
                <a:latin typeface="Verdana"/>
                <a:ea typeface="Times New Roman"/>
              </a:rPr>
              <a:t>;</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Use institutional decision making mechanisms to ensure institution-wide integration into academic program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dentify the scope (i.e., depth and complexity) of competencies to be acquired on a disciplinary level as well as at the course level;</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equence and integrate competencies throughout a student’s academic career, progressing in sophisticatio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pecify programs and courses charged with implementatio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a:t>
            </a:r>
            <a:r>
              <a:rPr b="0" lang="en-US" sz="2100" spc="-1" strike="noStrike">
                <a:solidFill>
                  <a:srgbClr val="000000"/>
                </a:solidFill>
                <a:latin typeface="Verdana"/>
              </a:rPr>
              <a:t>erge the </a:t>
            </a:r>
            <a:r>
              <a:rPr b="0" lang="tr-TR" sz="2100" spc="-1" strike="noStrike">
                <a:solidFill>
                  <a:srgbClr val="000000"/>
                </a:solidFill>
                <a:latin typeface="Verdana"/>
              </a:rPr>
              <a:t>IL</a:t>
            </a:r>
            <a:r>
              <a:rPr b="0" lang="en-US" sz="2100" spc="-1" strike="noStrike">
                <a:solidFill>
                  <a:srgbClr val="000000"/>
                </a:solidFill>
                <a:latin typeface="Verdana"/>
              </a:rPr>
              <a:t> concepts with the </a:t>
            </a:r>
            <a:r>
              <a:rPr b="0" lang="tr-TR" sz="2100" spc="-1" strike="noStrike">
                <a:solidFill>
                  <a:srgbClr val="000000"/>
                </a:solidFill>
                <a:latin typeface="Verdana"/>
              </a:rPr>
              <a:t>course </a:t>
            </a:r>
            <a:r>
              <a:rPr b="0" lang="en-US" sz="2100" spc="-1" strike="noStrike">
                <a:solidFill>
                  <a:srgbClr val="000000"/>
                </a:solidFill>
                <a:latin typeface="Verdana"/>
              </a:rPr>
              <a:t>content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8B198E92-5734-4171-984C-D12567C44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tr-TR" sz="3800" spc="-1" strike="noStrike">
                <a:solidFill>
                  <a:srgbClr val="000000"/>
                </a:solidFill>
                <a:latin typeface="Verdana"/>
              </a:rPr>
              <a:t>Collaboration &amp; partnership</a:t>
            </a:r>
            <a:endParaRPr b="0" lang="en-US" sz="3800" spc="-1" strike="noStrike">
              <a:solidFill>
                <a:srgbClr val="000000"/>
              </a:solidFill>
              <a:latin typeface="Verdana"/>
            </a:endParaRPr>
          </a:p>
        </p:txBody>
      </p:sp>
      <p:sp>
        <p:nvSpPr>
          <p:cNvPr id="140" name="PlaceHolder 2"/>
          <p:cNvSpPr>
            <a:spLocks noGrp="1"/>
          </p:cNvSpPr>
          <p:nvPr>
            <p:ph/>
          </p:nvPr>
        </p:nvSpPr>
        <p:spPr>
          <a:xfrm>
            <a:off x="539280" y="1773000"/>
            <a:ext cx="7853400" cy="416700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llaborate with faculty, librarians, other program staff and administrator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Establish formal and informal mechanisms for communication and ongoing dialogue across the institutional communit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llaborate at all stages (planning, implementation, assessment of student learning, and evaluation and refinement of the program);</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enter your collaboration efforts around enhanced student learning and the development of lifelong learning skill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Work with faculty to develop curriculum, syllabi, and assignments that focus on the research;</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llaborate with faculty to incorporate information literacy concepts and disciplinary conten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llaborate with faculty to identify opportunities for achieving information literacy outcomes through course content and other learning experiences; </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93CDBBC-31FD-40D5-B2AD-EEB7F42B2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Developing partnership</a:t>
            </a:r>
            <a:endParaRPr b="0" lang="en-US" sz="3800" spc="-1" strike="noStrike">
              <a:solidFill>
                <a:srgbClr val="000000"/>
              </a:solidFill>
              <a:latin typeface="Verdana"/>
            </a:endParaRPr>
          </a:p>
        </p:txBody>
      </p:sp>
      <p:sp>
        <p:nvSpPr>
          <p:cNvPr id="142" name="PlaceHolder 2"/>
          <p:cNvSpPr>
            <a:spLocks noGrp="1"/>
          </p:cNvSpPr>
          <p:nvPr>
            <p:ph/>
          </p:nvPr>
        </p:nvSpPr>
        <p:spPr>
          <a:xfrm>
            <a:off x="539280" y="1773000"/>
            <a:ext cx="7853400" cy="416700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Verdana"/>
              </a:rPr>
              <a:t>Focusing faculty attention on information literacy and creating a partnership can present challenge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Faculty have many competing interest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Most faculty feel that they have established a partnership with librarian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It is not at the top of the faculty’s agenda</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Verdana"/>
              </a:rPr>
              <a:t>Strategies in Developing Partnership</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Identifying the partner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Creating awareness of the issue of information literac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Avoiding partnership pitfall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AE677627-F096-423E-B1C1-45D2E318D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tr-TR" sz="3800" spc="-1" strike="noStrike">
                <a:solidFill>
                  <a:srgbClr val="000000"/>
                </a:solidFill>
                <a:latin typeface="Verdana"/>
              </a:rPr>
              <a:t>Identifying the partners</a:t>
            </a:r>
            <a:endParaRPr b="0" lang="en-US" sz="3800" spc="-1" strike="noStrike">
              <a:solidFill>
                <a:srgbClr val="000000"/>
              </a:solidFill>
              <a:latin typeface="Verdana"/>
            </a:endParaRPr>
          </a:p>
        </p:txBody>
      </p:sp>
      <p:sp>
        <p:nvSpPr>
          <p:cNvPr id="144" name="PlaceHolder 2"/>
          <p:cNvSpPr>
            <a:spLocks noGrp="1"/>
          </p:cNvSpPr>
          <p:nvPr>
            <p:ph/>
          </p:nvPr>
        </p:nvSpPr>
        <p:spPr>
          <a:xfrm>
            <a:off x="539280" y="2060280"/>
            <a:ext cx="7853400" cy="387972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termine the partners on the target</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chool Board / </a:t>
            </a:r>
            <a:r>
              <a:rPr b="0" lang="tr-TR" sz="2400" spc="-1" strike="noStrike">
                <a:solidFill>
                  <a:srgbClr val="000000"/>
                </a:solidFill>
                <a:latin typeface="Verdana"/>
              </a:rPr>
              <a:t>Academic senate</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culty engaged with center on teaching and learning</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Part-time faculty members</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cademic administrators</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Department chairs</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ndividual </a:t>
            </a:r>
            <a:r>
              <a:rPr b="0" lang="nl-NL" sz="2400" spc="-1" strike="noStrike">
                <a:solidFill>
                  <a:srgbClr val="000000"/>
                </a:solidFill>
                <a:latin typeface="Verdana"/>
              </a:rPr>
              <a:t>teachers/</a:t>
            </a:r>
            <a:r>
              <a:rPr b="0" lang="tr-TR" sz="2400" spc="-1" strike="noStrike">
                <a:solidFill>
                  <a:srgbClr val="000000"/>
                </a:solidFill>
                <a:latin typeface="Verdana"/>
              </a:rPr>
              <a:t>professors who may be doing work that would benefit from an IL program</a:t>
            </a:r>
            <a:endParaRPr b="0" lang="en-US" sz="24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367FAFE0-A3A1-4C61-BD14-CA1CF041D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Creating awareness</a:t>
            </a:r>
            <a:endParaRPr b="0" lang="en-US" sz="3800" spc="-1" strike="noStrike">
              <a:solidFill>
                <a:srgbClr val="000000"/>
              </a:solidFill>
              <a:latin typeface="Verdana"/>
            </a:endParaRPr>
          </a:p>
        </p:txBody>
      </p:sp>
      <p:sp>
        <p:nvSpPr>
          <p:cNvPr id="146" name="PlaceHolder 2"/>
          <p:cNvSpPr>
            <a:spLocks noGrp="1"/>
          </p:cNvSpPr>
          <p:nvPr>
            <p:ph/>
          </p:nvPr>
        </p:nvSpPr>
        <p:spPr>
          <a:xfrm>
            <a:off x="456840" y="1905120"/>
            <a:ext cx="8381880" cy="411480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upport can only come when faculty are aware of what IL is, why it is important, and what problem it is solvin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Creating awareness in the minds of faculty is not a one-time event</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Faculty awareness of IL can be raised in the following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Make a powerful link between critical thinking and I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Talk about IL as a lifelong </a:t>
            </a:r>
            <a:r>
              <a:rPr b="0" lang="nl-NL" sz="2000" spc="-1" strike="noStrike">
                <a:solidFill>
                  <a:srgbClr val="000000"/>
                </a:solidFill>
                <a:latin typeface="Verdana"/>
              </a:rPr>
              <a:t>learning </a:t>
            </a:r>
            <a:r>
              <a:rPr b="0" lang="tr-TR" sz="2000" spc="-1" strike="noStrike">
                <a:solidFill>
                  <a:srgbClr val="000000"/>
                </a:solidFill>
                <a:latin typeface="Verdana"/>
              </a:rPr>
              <a:t>skil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Talk about how IL helps students with their current academic endeavor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Talk about IL as one of the essential skills of student academic lif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Provide data about the current level of student IL skills</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5DA0A198-3BAF-4DC4-9C39-31893BFF5D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Avoiding partnership pitfalls</a:t>
            </a:r>
            <a:endParaRPr b="0" lang="en-US" sz="3800" spc="-1" strike="noStrike">
              <a:solidFill>
                <a:srgbClr val="000000"/>
              </a:solidFill>
              <a:latin typeface="Verdana"/>
            </a:endParaRPr>
          </a:p>
        </p:txBody>
      </p:sp>
      <p:sp>
        <p:nvSpPr>
          <p:cNvPr id="148" name="PlaceHolder 2"/>
          <p:cNvSpPr>
            <a:spLocks noGrp="1"/>
          </p:cNvSpPr>
          <p:nvPr>
            <p:ph/>
          </p:nvPr>
        </p:nvSpPr>
        <p:spPr>
          <a:xfrm>
            <a:off x="380520" y="1828440"/>
            <a:ext cx="8153640" cy="434340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t is imperative that librarians respect faculty authority over the curriculum</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L literacy program should be introduced as an enterprise-wide solution to an enterprise-wide problem</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L program should have goals that are agreed on by the faculty and the librarian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Avoid giving the message of exclusiveness to faculty</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Librarians should be mindful of the compactness of the curriculum</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o not exhaust the faculty by inundating them with a full array of IL standard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When introducing an IL literacy program choose the time wisely</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 prepared to define I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22B4745B-3C2C-4239-8CED-107D9481C8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800" spc="-1" strike="noStrike">
                <a:solidFill>
                  <a:srgbClr val="000000"/>
                </a:solidFill>
                <a:latin typeface="Verdana"/>
              </a:rPr>
              <a:t>Pedagogy</a:t>
            </a:r>
            <a:endParaRPr b="0" lang="en-US" sz="3800" spc="-1" strike="noStrike">
              <a:solidFill>
                <a:srgbClr val="000000"/>
              </a:solidFill>
              <a:latin typeface="Verdana"/>
            </a:endParaRPr>
          </a:p>
        </p:txBody>
      </p:sp>
      <p:sp>
        <p:nvSpPr>
          <p:cNvPr id="150" name="PlaceHolder 2"/>
          <p:cNvSpPr>
            <a:spLocks noGrp="1"/>
          </p:cNvSpPr>
          <p:nvPr>
            <p:ph/>
          </p:nvPr>
        </p:nvSpPr>
        <p:spPr>
          <a:xfrm>
            <a:off x="456840" y="1670040"/>
            <a:ext cx="8077320" cy="449568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Make effective use of instructional pedagogies</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upport diverse approaches to teachin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ake effective use of instructional technologies and media resource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foster critical thinking and reflectio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upport multiple learning style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upport student-centered learnin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termine learning outcome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assess progress against learning outcome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uild the program on students’ existing knowledge;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link information literacy to ongoing coursework and real-life experiences appropriate to program and course leve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B93D8EF4-A8C3-4EC0-9493-C38F5E8D0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tr-TR" sz="3800" spc="-1" strike="noStrike">
                <a:solidFill>
                  <a:srgbClr val="000000"/>
                </a:solidFill>
                <a:latin typeface="Verdana"/>
              </a:rPr>
              <a:t>Outreach &amp; promotion</a:t>
            </a:r>
            <a:r>
              <a:rPr b="1" lang="tr-TR" sz="3400" spc="-1" strike="noStrike">
                <a:solidFill>
                  <a:srgbClr val="000000"/>
                </a:solidFill>
                <a:latin typeface="Verdana"/>
              </a:rPr>
              <a:t> </a:t>
            </a:r>
            <a:endParaRPr b="0" lang="en-US" sz="3400" spc="-1" strike="noStrike">
              <a:solidFill>
                <a:srgbClr val="000000"/>
              </a:solidFill>
              <a:latin typeface="Verdana"/>
            </a:endParaRPr>
          </a:p>
        </p:txBody>
      </p:sp>
      <p:sp>
        <p:nvSpPr>
          <p:cNvPr id="152" name="PlaceHolder 2"/>
          <p:cNvSpPr>
            <a:spLocks noGrp="1"/>
          </p:cNvSpPr>
          <p:nvPr>
            <p:ph/>
          </p:nvPr>
        </p:nvSpPr>
        <p:spPr>
          <a:xfrm>
            <a:off x="457200" y="1447920"/>
            <a:ext cx="8305920" cy="457200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Outreach / promotional activities for an IL program are the responsibility of all members of the institution, not simply the librarian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E</a:t>
            </a:r>
            <a:r>
              <a:rPr b="0" lang="en-GB" sz="1900" spc="-1" strike="noStrike">
                <a:solidFill>
                  <a:srgbClr val="000000"/>
                </a:solidFill>
                <a:latin typeface="Verdana"/>
              </a:rPr>
              <a:t>mphasi</a:t>
            </a:r>
            <a:r>
              <a:rPr b="0" lang="tr-TR" sz="1900" spc="-1" strike="noStrike">
                <a:solidFill>
                  <a:srgbClr val="000000"/>
                </a:solidFill>
                <a:latin typeface="Verdana"/>
              </a:rPr>
              <a:t>z</a:t>
            </a:r>
            <a:r>
              <a:rPr b="0" lang="en-GB" sz="1900" spc="-1" strike="noStrike">
                <a:solidFill>
                  <a:srgbClr val="000000"/>
                </a:solidFill>
                <a:latin typeface="Verdana"/>
              </a:rPr>
              <a:t>e the importance of IL </a:t>
            </a:r>
            <a:r>
              <a:rPr b="0" lang="tr-TR" sz="1900" spc="-1" strike="noStrike">
                <a:solidFill>
                  <a:srgbClr val="000000"/>
                </a:solidFill>
                <a:latin typeface="Verdana"/>
              </a:rPr>
              <a:t>and communicate a clear message defining and describing the program and its value to targeted audienc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Gauge the method most appropriate to </a:t>
            </a:r>
            <a:r>
              <a:rPr b="0" lang="tr-TR" sz="1900" spc="-1" strike="noStrike">
                <a:solidFill>
                  <a:srgbClr val="000000"/>
                </a:solidFill>
                <a:latin typeface="Verdana"/>
              </a:rPr>
              <a:t>the</a:t>
            </a:r>
            <a:r>
              <a:rPr b="0" lang="en-GB" sz="1900" spc="-1" strike="noStrike">
                <a:solidFill>
                  <a:srgbClr val="000000"/>
                </a:solidFill>
                <a:latin typeface="Verdana"/>
              </a:rPr>
              <a:t> </a:t>
            </a:r>
            <a:r>
              <a:rPr b="0" lang="tr-TR" sz="1900" spc="-1" strike="noStrike">
                <a:solidFill>
                  <a:srgbClr val="000000"/>
                </a:solidFill>
                <a:latin typeface="Verdana"/>
              </a:rPr>
              <a:t>institutio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iming is crucial</a:t>
            </a:r>
            <a:r>
              <a:rPr b="0" lang="tr-TR" sz="1900" spc="-1" strike="noStrike">
                <a:solidFill>
                  <a:srgbClr val="000000"/>
                </a:solidFill>
                <a:latin typeface="Verdana"/>
              </a:rPr>
              <a:t> for</a:t>
            </a:r>
            <a:r>
              <a:rPr b="0" lang="en-GB" sz="1900" spc="-1" strike="noStrike">
                <a:solidFill>
                  <a:srgbClr val="000000"/>
                </a:solidFill>
                <a:latin typeface="Verdana"/>
              </a:rPr>
              <a:t> successful promotion</a:t>
            </a:r>
            <a:r>
              <a:rPr b="0" lang="tr-TR" sz="1900" spc="-1" strike="noStrike">
                <a:solidFill>
                  <a:srgbClr val="000000"/>
                </a:solidFill>
                <a:latin typeface="Verdana"/>
              </a:rPr>
              <a:t>.</a:t>
            </a:r>
            <a:r>
              <a:rPr b="0" lang="en-GB" sz="1900" spc="-1" strike="noStrike">
                <a:solidFill>
                  <a:srgbClr val="000000"/>
                </a:solidFill>
                <a:latin typeface="Verdana"/>
              </a:rPr>
              <a:t> </a:t>
            </a:r>
            <a:r>
              <a:rPr b="0" lang="tr-TR" sz="1900" spc="-1" strike="noStrike">
                <a:solidFill>
                  <a:srgbClr val="000000"/>
                </a:solidFill>
                <a:latin typeface="Verdana"/>
              </a:rPr>
              <a:t>Be</a:t>
            </a:r>
            <a:r>
              <a:rPr b="0" lang="en-GB" sz="1900" spc="-1" strike="noStrike">
                <a:solidFill>
                  <a:srgbClr val="000000"/>
                </a:solidFill>
                <a:latin typeface="Verdana"/>
              </a:rPr>
              <a:t> well informed and involved with the work of the </a:t>
            </a:r>
            <a:r>
              <a:rPr b="0" lang="tr-TR" sz="1900" spc="-1" strike="noStrike">
                <a:solidFill>
                  <a:srgbClr val="000000"/>
                </a:solidFill>
                <a:latin typeface="Verdana"/>
              </a:rPr>
              <a:t>instutio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Provide targeted marketing and publicity to stakeholder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arget a wide variety of group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Use a variety of outreach channels and media, both formal and informa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Offer IL workshops and programs for faculty and staff</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01C9C29A-C289-495A-8CB1-701564AA89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317520"/>
            <a:ext cx="815364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Promoting strategies </a:t>
            </a:r>
            <a:endParaRPr b="0" lang="en-US" sz="3800" spc="-1" strike="noStrike">
              <a:solidFill>
                <a:srgbClr val="000000"/>
              </a:solidFill>
              <a:latin typeface="Verdana"/>
            </a:endParaRPr>
          </a:p>
        </p:txBody>
      </p:sp>
      <p:sp>
        <p:nvSpPr>
          <p:cNvPr id="154" name="PlaceHolder 2"/>
          <p:cNvSpPr>
            <a:spLocks noGrp="1"/>
          </p:cNvSpPr>
          <p:nvPr>
            <p:ph/>
          </p:nvPr>
        </p:nvSpPr>
        <p:spPr>
          <a:xfrm>
            <a:off x="380520" y="1523880"/>
            <a:ext cx="8610840" cy="47246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Make contact with key members of </a:t>
            </a:r>
            <a:r>
              <a:rPr b="0" lang="tr-TR" sz="1900" spc="-1" strike="noStrike">
                <a:solidFill>
                  <a:srgbClr val="000000"/>
                </a:solidFill>
                <a:latin typeface="Verdana"/>
              </a:rPr>
              <a:t>the </a:t>
            </a:r>
            <a:r>
              <a:rPr b="0" lang="en-GB" sz="1900" spc="-1" strike="noStrike">
                <a:solidFill>
                  <a:srgbClr val="000000"/>
                </a:solidFill>
                <a:latin typeface="Verdana"/>
              </a:rPr>
              <a:t>staff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a:t>
            </a:r>
            <a:r>
              <a:rPr b="0" lang="en-GB" sz="1900" spc="-1" strike="noStrike">
                <a:solidFill>
                  <a:srgbClr val="000000"/>
                </a:solidFill>
                <a:latin typeface="Verdana"/>
              </a:rPr>
              <a:t>ake advantage of available opportunities. Make links, where appropriate, to </a:t>
            </a:r>
            <a:r>
              <a:rPr b="0" lang="tr-TR" sz="1900" spc="-1" strike="noStrike">
                <a:solidFill>
                  <a:srgbClr val="000000"/>
                </a:solidFill>
                <a:latin typeface="Verdana"/>
              </a:rPr>
              <a:t>information literacy</a:t>
            </a:r>
            <a:r>
              <a:rPr b="0" lang="en-GB" sz="1900" spc="-1" strike="noStrike">
                <a:solidFill>
                  <a:srgbClr val="000000"/>
                </a:solidFill>
                <a:latin typeface="Verdana"/>
              </a:rPr>
              <a:t> when attending</a:t>
            </a:r>
            <a:r>
              <a:rPr b="0" lang="tr-TR" sz="1900" spc="-1" strike="noStrike">
                <a:solidFill>
                  <a:srgbClr val="000000"/>
                </a:solidFill>
                <a:latin typeface="Verdana"/>
              </a:rPr>
              <a:t> </a:t>
            </a:r>
            <a:r>
              <a:rPr b="0" lang="en-GB" sz="1900" spc="-1" strike="noStrike">
                <a:solidFill>
                  <a:srgbClr val="000000"/>
                </a:solidFill>
                <a:latin typeface="Verdana"/>
              </a:rPr>
              <a:t>meeting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ry to </a:t>
            </a:r>
            <a:r>
              <a:rPr b="0" lang="en-GB" sz="1900" spc="-1" strike="noStrike">
                <a:solidFill>
                  <a:srgbClr val="000000"/>
                </a:solidFill>
                <a:latin typeface="Verdana"/>
              </a:rPr>
              <a:t>integrate </a:t>
            </a:r>
            <a:r>
              <a:rPr b="0" lang="tr-TR" sz="1900" spc="-1" strike="noStrike">
                <a:solidFill>
                  <a:srgbClr val="000000"/>
                </a:solidFill>
                <a:latin typeface="Verdana"/>
              </a:rPr>
              <a:t>an IL</a:t>
            </a:r>
            <a:r>
              <a:rPr b="0" lang="en-GB" sz="1900" spc="-1" strike="noStrike">
                <a:solidFill>
                  <a:srgbClr val="000000"/>
                </a:solidFill>
                <a:latin typeface="Verdana"/>
              </a:rPr>
              <a:t> session into existing staff training programme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Offer to train lecturers in an aspect of IL, e.g. the use of a particular database and its new features, and then use this as a selling poin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Offer to deliver a session in partnership with an academic, e.g. in a session on plagiarism and referenci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nvite staff to IL event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ie-in discussions on IL with other</a:t>
            </a:r>
            <a:r>
              <a:rPr b="0" lang="tr-TR" sz="1900" spc="-1" strike="noStrike">
                <a:solidFill>
                  <a:srgbClr val="000000"/>
                </a:solidFill>
                <a:latin typeface="Verdana"/>
              </a:rPr>
              <a:t> school</a:t>
            </a:r>
            <a:r>
              <a:rPr b="0" lang="en-GB" sz="1900" spc="-1" strike="noStrike">
                <a:solidFill>
                  <a:srgbClr val="000000"/>
                </a:solidFill>
                <a:latin typeface="Verdana"/>
              </a:rPr>
              <a:t> priorities such as combating plagiarism</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repare a formal paper for </a:t>
            </a:r>
            <a:r>
              <a:rPr b="0" lang="tr-TR" sz="1900" spc="-1" strike="noStrike">
                <a:solidFill>
                  <a:srgbClr val="000000"/>
                </a:solidFill>
                <a:latin typeface="Verdana"/>
              </a:rPr>
              <a:t>the managemen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Bring appropriate sections of official reports by educational and library bodies to the attention of the</a:t>
            </a:r>
            <a:r>
              <a:rPr b="0" lang="tr-TR" sz="1900" spc="-1" strike="noStrike">
                <a:solidFill>
                  <a:srgbClr val="000000"/>
                </a:solidFill>
                <a:latin typeface="Verdana"/>
              </a:rPr>
              <a:t> institutional community</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975BDF0E-CE43-44D7-81AD-36D74C534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Getting started</a:t>
            </a:r>
            <a:endParaRPr b="0" lang="en-US" sz="3800" spc="-1" strike="noStrike">
              <a:solidFill>
                <a:srgbClr val="000000"/>
              </a:solidFill>
              <a:latin typeface="Verdana"/>
            </a:endParaRPr>
          </a:p>
        </p:txBody>
      </p:sp>
      <p:sp>
        <p:nvSpPr>
          <p:cNvPr id="102" name="PlaceHolder 2"/>
          <p:cNvSpPr>
            <a:spLocks noGrp="1"/>
          </p:cNvSpPr>
          <p:nvPr>
            <p:ph/>
          </p:nvPr>
        </p:nvSpPr>
        <p:spPr>
          <a:xfrm>
            <a:off x="539280" y="1917720"/>
            <a:ext cx="7853400" cy="4022640"/>
          </a:xfrm>
          <a:prstGeom prst="rect">
            <a:avLst/>
          </a:prstGeom>
          <a:noFill/>
          <a:ln w="0">
            <a:noFill/>
          </a:ln>
        </p:spPr>
        <p:txBody>
          <a:bodyPr lIns="90000" rIns="90000" tIns="46800" bIns="46800" anchor="t">
            <a:normAutofit/>
          </a:bodyPr>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ea typeface="Times New Roman"/>
              </a:rPr>
              <a:t>Don’t reinvent the wheel:</a:t>
            </a:r>
            <a:endParaRPr b="0" lang="en-US" sz="1900" spc="-1" strike="noStrike">
              <a:solidFill>
                <a:srgbClr val="000000"/>
              </a:solidFill>
              <a:latin typeface="Verdana"/>
            </a:endParaRPr>
          </a:p>
          <a:p>
            <a:pPr lvl="1" marL="907920" indent="-43632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Identify the </a:t>
            </a:r>
            <a:r>
              <a:rPr b="0" lang="tr-TR" sz="1700" spc="-1" strike="noStrike">
                <a:solidFill>
                  <a:srgbClr val="000000"/>
                </a:solidFill>
                <a:latin typeface="Verdana"/>
                <a:ea typeface="Times New Roman"/>
              </a:rPr>
              <a:t>IL model</a:t>
            </a:r>
            <a:r>
              <a:rPr b="0" lang="en-US" sz="1700" spc="-1" strike="noStrike">
                <a:solidFill>
                  <a:srgbClr val="000000"/>
                </a:solidFill>
                <a:latin typeface="Verdana"/>
                <a:ea typeface="Times New Roman"/>
              </a:rPr>
              <a:t> that works best for</a:t>
            </a:r>
            <a:r>
              <a:rPr b="0" lang="tr-TR"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your institution</a:t>
            </a:r>
            <a:endParaRPr b="0" lang="en-US" sz="1700" spc="-1" strike="noStrike">
              <a:solidFill>
                <a:srgbClr val="000000"/>
              </a:solidFill>
              <a:latin typeface="Verdana"/>
            </a:endParaRPr>
          </a:p>
          <a:p>
            <a:pPr lvl="1" marL="907920" indent="-43632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ea typeface="Times New Roman"/>
              </a:rPr>
              <a:t>Adapt</a:t>
            </a:r>
            <a:r>
              <a:rPr b="0" lang="tr-TR" sz="1700" spc="-1" strike="noStrike">
                <a:solidFill>
                  <a:srgbClr val="000000"/>
                </a:solidFill>
                <a:latin typeface="Verdana"/>
                <a:ea typeface="Times New Roman"/>
              </a:rPr>
              <a:t> </a:t>
            </a:r>
            <a:r>
              <a:rPr b="0" lang="es-ES" sz="1700" spc="-1" strike="noStrike">
                <a:solidFill>
                  <a:srgbClr val="000000"/>
                </a:solidFill>
                <a:latin typeface="Verdana"/>
                <a:ea typeface="Times New Roman"/>
              </a:rPr>
              <a:t>information literacy standards and practices</a:t>
            </a:r>
            <a:endParaRPr b="0" lang="en-US" sz="1700" spc="-1" strike="noStrike">
              <a:solidFill>
                <a:srgbClr val="000000"/>
              </a:solidFill>
              <a:latin typeface="Verdana"/>
            </a:endParaRPr>
          </a:p>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ea typeface="Times New Roman"/>
              </a:rPr>
              <a:t>D</a:t>
            </a:r>
            <a:r>
              <a:rPr b="0" lang="en-US" sz="1900" spc="-1" strike="noStrike">
                <a:solidFill>
                  <a:srgbClr val="000000"/>
                </a:solidFill>
                <a:latin typeface="Verdana"/>
                <a:ea typeface="Times New Roman"/>
              </a:rPr>
              <a:t>esign a program based on </a:t>
            </a:r>
            <a:r>
              <a:rPr b="0" lang="tr-TR" sz="1900" spc="-1" strike="noStrike">
                <a:solidFill>
                  <a:srgbClr val="000000"/>
                </a:solidFill>
                <a:latin typeface="Verdana"/>
                <a:ea typeface="Times New Roman"/>
              </a:rPr>
              <a:t>the</a:t>
            </a:r>
            <a:r>
              <a:rPr b="0" lang="en-US" sz="1900" spc="-1" strike="noStrike">
                <a:solidFill>
                  <a:srgbClr val="000000"/>
                </a:solidFill>
                <a:latin typeface="Verdana"/>
                <a:ea typeface="Times New Roman"/>
              </a:rPr>
              <a:t> </a:t>
            </a:r>
            <a:r>
              <a:rPr b="0" lang="tr-TR" sz="1900" spc="-1" strike="noStrike">
                <a:solidFill>
                  <a:srgbClr val="000000"/>
                </a:solidFill>
                <a:latin typeface="Verdana"/>
                <a:ea typeface="Times New Roman"/>
              </a:rPr>
              <a:t>standards and </a:t>
            </a:r>
            <a:r>
              <a:rPr b="0" lang="en-US" sz="1900" spc="-1" strike="noStrike">
                <a:solidFill>
                  <a:srgbClr val="000000"/>
                </a:solidFill>
                <a:latin typeface="Verdana"/>
                <a:ea typeface="Times New Roman"/>
              </a:rPr>
              <a:t>experiences</a:t>
            </a:r>
            <a:endParaRPr b="0" lang="en-US" sz="1900" spc="-1" strike="noStrike">
              <a:solidFill>
                <a:srgbClr val="000000"/>
              </a:solidFill>
              <a:latin typeface="Verdana"/>
            </a:endParaRPr>
          </a:p>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Work on a strategic plan</a:t>
            </a:r>
            <a:endParaRPr b="0" lang="en-US" sz="1900" spc="-1" strike="noStrike">
              <a:solidFill>
                <a:srgbClr val="000000"/>
              </a:solidFill>
              <a:latin typeface="Verdana"/>
            </a:endParaRPr>
          </a:p>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entify and focus on library responsibilities toward IL and develop library instruction programs accordingly</a:t>
            </a:r>
            <a:endParaRPr b="0" lang="en-US" sz="1900" spc="-1" strike="noStrike">
              <a:solidFill>
                <a:srgbClr val="000000"/>
              </a:solidFill>
              <a:latin typeface="Verdana"/>
            </a:endParaRPr>
          </a:p>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Ensure to teach the research process and its concepts, and do more than introducing electronic tools and technology</a:t>
            </a:r>
            <a:endParaRPr b="0" lang="en-US" sz="1900" spc="-1" strike="noStrike">
              <a:solidFill>
                <a:srgbClr val="000000"/>
              </a:solidFill>
              <a:latin typeface="Verdana"/>
            </a:endParaRPr>
          </a:p>
          <a:p>
            <a:pPr marL="469800" indent="-46980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e prepared for challenges</a:t>
            </a:r>
            <a:r>
              <a:rPr b="0" lang="tr-TR" sz="1900" spc="-1" strike="noStrike">
                <a:solidFill>
                  <a:srgbClr val="000000"/>
                </a:solidFill>
                <a:latin typeface="Verdana"/>
              </a:rPr>
              <a:t> &amp; be aware of planning pitfalls</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544C385E-105F-4F7A-A680-A5E6E9C10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Promoting to students</a:t>
            </a:r>
            <a:endParaRPr b="0" lang="en-US" sz="3800" spc="-1" strike="noStrike">
              <a:solidFill>
                <a:srgbClr val="000000"/>
              </a:solidFill>
              <a:latin typeface="Verdana"/>
            </a:endParaRPr>
          </a:p>
        </p:txBody>
      </p:sp>
      <p:sp>
        <p:nvSpPr>
          <p:cNvPr id="156" name="PlaceHolder 2"/>
          <p:cNvSpPr>
            <a:spLocks noGrp="1"/>
          </p:cNvSpPr>
          <p:nvPr>
            <p:ph/>
          </p:nvPr>
        </p:nvSpPr>
        <p:spPr>
          <a:xfrm>
            <a:off x="456840" y="1447920"/>
            <a:ext cx="8077320" cy="4572000"/>
          </a:xfrm>
          <a:prstGeom prst="rect">
            <a:avLst/>
          </a:prstGeom>
          <a:noFill/>
          <a:ln w="0">
            <a:noFill/>
          </a:ln>
        </p:spPr>
        <p:txBody>
          <a:bodyPr lIns="90000" rIns="90000" tIns="46800" bIns="46800" anchor="t">
            <a:normAutofit fontScale="96000"/>
          </a:bodyPr>
          <a:p>
            <a:pPr marL="4507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50720" indent="-4507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When IL sessions are embedded in curricula, students have a strong impetus to attend </a:t>
            </a:r>
            <a:endParaRPr b="0" lang="en-US" sz="1900" spc="-1" strike="noStrike">
              <a:solidFill>
                <a:srgbClr val="000000"/>
              </a:solidFill>
              <a:latin typeface="Verdana"/>
            </a:endParaRPr>
          </a:p>
          <a:p>
            <a:pPr marL="450720" indent="-4507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Otherwise</a:t>
            </a:r>
            <a:r>
              <a:rPr b="0" lang="en-GB" sz="1900" spc="-1" strike="noStrike">
                <a:solidFill>
                  <a:srgbClr val="000000"/>
                </a:solidFill>
                <a:latin typeface="Verdana"/>
              </a:rPr>
              <a:t>, some well targeted publicity will </a:t>
            </a:r>
            <a:r>
              <a:rPr b="0" lang="tr-TR" sz="1900" spc="-1" strike="noStrike">
                <a:solidFill>
                  <a:srgbClr val="000000"/>
                </a:solidFill>
                <a:latin typeface="Verdana"/>
              </a:rPr>
              <a:t>be needed</a:t>
            </a:r>
            <a:endParaRPr b="0" lang="en-US" sz="1900" spc="-1" strike="noStrike">
              <a:solidFill>
                <a:srgbClr val="000000"/>
              </a:solidFill>
              <a:latin typeface="Verdana"/>
            </a:endParaRPr>
          </a:p>
          <a:p>
            <a:pPr marL="450720" indent="-4507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n order to maximise attendance:</a:t>
            </a:r>
            <a:endParaRPr b="0" lang="en-US" sz="1900" spc="-1" strike="noStrike">
              <a:solidFill>
                <a:srgbClr val="000000"/>
              </a:solidFill>
              <a:latin typeface="Verdana"/>
            </a:endParaRPr>
          </a:p>
          <a:p>
            <a:pPr lvl="1" marL="871560" indent="-4186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t involved in registration week events</a:t>
            </a:r>
            <a:r>
              <a:rPr b="0" lang="tr-TR" sz="2000" spc="-1" strike="noStrike">
                <a:solidFill>
                  <a:srgbClr val="000000"/>
                </a:solidFill>
                <a:latin typeface="Verdana"/>
              </a:rPr>
              <a:t> and</a:t>
            </a:r>
            <a:r>
              <a:rPr b="0" lang="en-GB" sz="2000" spc="-1" strike="noStrike">
                <a:solidFill>
                  <a:srgbClr val="000000"/>
                </a:solidFill>
                <a:latin typeface="Verdana"/>
              </a:rPr>
              <a:t> highlight the importance of the IL sessions students will be attending  </a:t>
            </a:r>
            <a:endParaRPr b="0" lang="en-US" sz="2000" spc="-1" strike="noStrike">
              <a:solidFill>
                <a:srgbClr val="000000"/>
              </a:solidFill>
              <a:latin typeface="Verdana"/>
            </a:endParaRPr>
          </a:p>
          <a:p>
            <a:pPr lvl="1" marL="871560" indent="-4186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held in registration week, ensure that the library orientation session is included in the student’s registration week timetable </a:t>
            </a:r>
            <a:endParaRPr b="0" lang="en-US" sz="2000" spc="-1" strike="noStrike">
              <a:solidFill>
                <a:srgbClr val="000000"/>
              </a:solidFill>
              <a:latin typeface="Verdana"/>
            </a:endParaRPr>
          </a:p>
          <a:p>
            <a:pPr lvl="1" marL="871560" indent="-4186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vertise training sessions on Blackboard or the School intranet</a:t>
            </a:r>
            <a:endParaRPr b="0" lang="en-US" sz="2000" spc="-1" strike="noStrike">
              <a:solidFill>
                <a:srgbClr val="000000"/>
              </a:solidFill>
              <a:latin typeface="Verdana"/>
            </a:endParaRPr>
          </a:p>
          <a:p>
            <a:pPr lvl="1" marL="871560" indent="-4186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e a promotional flyer to post in student pigeon holes and on </a:t>
            </a:r>
            <a:r>
              <a:rPr b="0" lang="tr-TR" sz="2000" spc="-1" strike="noStrike">
                <a:solidFill>
                  <a:srgbClr val="000000"/>
                </a:solidFill>
                <a:latin typeface="Verdana"/>
              </a:rPr>
              <a:t>s</a:t>
            </a:r>
            <a:r>
              <a:rPr b="0" lang="en-GB" sz="2000" spc="-1" strike="noStrike">
                <a:solidFill>
                  <a:srgbClr val="000000"/>
                </a:solidFill>
                <a:latin typeface="Verdana"/>
              </a:rPr>
              <a:t>chool notice boards</a:t>
            </a:r>
            <a:endParaRPr b="0" lang="en-US" sz="2000" spc="-1" strike="noStrike">
              <a:solidFill>
                <a:srgbClr val="000000"/>
              </a:solidFill>
              <a:latin typeface="Verdana"/>
            </a:endParaRPr>
          </a:p>
          <a:p>
            <a:pPr lvl="1" marL="871560" indent="-4186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the orientation session as a promotion opportunity to advertise further events tailored to the particular needs of the student group</a:t>
            </a:r>
            <a:endParaRPr b="0" lang="en-US" sz="2000" spc="-1" strike="noStrike">
              <a:solidFill>
                <a:srgbClr val="000000"/>
              </a:solidFill>
              <a:latin typeface="Verdana"/>
            </a:endParaRPr>
          </a:p>
          <a:p>
            <a:pPr marL="4507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87156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B224049-4531-41C6-8A21-62A0104696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tr-TR" sz="3800" spc="-1" strike="noStrike">
                <a:solidFill>
                  <a:srgbClr val="000000"/>
                </a:solidFill>
                <a:latin typeface="Verdana"/>
              </a:rPr>
              <a:t>Evaluation</a:t>
            </a:r>
            <a:endParaRPr b="0" lang="en-US" sz="3800" spc="-1" strike="noStrike">
              <a:solidFill>
                <a:srgbClr val="000000"/>
              </a:solidFill>
              <a:latin typeface="Verdana"/>
            </a:endParaRPr>
          </a:p>
        </p:txBody>
      </p:sp>
      <p:sp>
        <p:nvSpPr>
          <p:cNvPr id="158" name="PlaceHolder 2"/>
          <p:cNvSpPr>
            <a:spLocks noGrp="1"/>
          </p:cNvSpPr>
          <p:nvPr>
            <p:ph/>
          </p:nvPr>
        </p:nvSpPr>
        <p:spPr>
          <a:xfrm>
            <a:off x="539280" y="2060280"/>
            <a:ext cx="7853400" cy="387972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ystematic ongoing process that should gather data regarding the progress of instruction program toward meeting its goals and objective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nfluences decisions, guides allocation of resources, helps to decide what to emphasize in the classroom</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t is not an end in itself; it is a way to get answers to important questions that have to do with educating students effectively</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261084E6-DBAF-47E1-AEFC-7981D4D958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tr-TR" sz="3800" spc="-1" strike="noStrike">
                <a:solidFill>
                  <a:srgbClr val="000000"/>
                </a:solidFill>
                <a:latin typeface="Verdana"/>
              </a:rPr>
              <a:t>Evaluation</a:t>
            </a:r>
            <a:endParaRPr b="0" lang="en-US" sz="3800" spc="-1" strike="noStrike">
              <a:solidFill>
                <a:srgbClr val="000000"/>
              </a:solidFill>
              <a:latin typeface="Verdana"/>
            </a:endParaRPr>
          </a:p>
        </p:txBody>
      </p:sp>
      <p:sp>
        <p:nvSpPr>
          <p:cNvPr id="160" name="PlaceHolder 2"/>
          <p:cNvSpPr>
            <a:spLocks noGrp="1"/>
          </p:cNvSpPr>
          <p:nvPr>
            <p:ph/>
          </p:nvPr>
        </p:nvSpPr>
        <p:spPr>
          <a:xfrm>
            <a:off x="456840" y="1523520"/>
            <a:ext cx="8458200" cy="4800600"/>
          </a:xfrm>
          <a:prstGeom prst="rect">
            <a:avLst/>
          </a:prstGeom>
          <a:noFill/>
          <a:ln w="0">
            <a:noFill/>
          </a:ln>
        </p:spPr>
        <p:txBody>
          <a:bodyPr lIns="90000" rIns="90000" tIns="46800" bIns="46800" anchor="t">
            <a:normAutofit fontScale="99000"/>
          </a:bodyPr>
          <a:p>
            <a:pPr marL="46476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Prepare an evaluation plan which addresses multiple measures (needs assessment, participant reaction, learning outcomes, teaching effectiveness, and overall effectiveness of instruction program) </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rticulate the evaluation criteria in planning documents </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Use multiple methods for assessment/evaluation</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dress specific learning outcomes </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Focuse on student performance, knowledge acquisition, and attitude appraisal</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ssess both process and product</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evelop assessment instruments</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Coordinate with faculty to explore and implement performance-based assesment methods</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Use assessment data in the revision and improvement of the program</a:t>
            </a:r>
            <a:endParaRPr b="0" lang="en-US" sz="1900" spc="-1" strike="noStrike">
              <a:solidFill>
                <a:srgbClr val="000000"/>
              </a:solidFill>
              <a:latin typeface="Verdana"/>
            </a:endParaRPr>
          </a:p>
          <a:p>
            <a:pPr marL="464760" indent="-4647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Periodicaly review the assessment/evaluation methods</a:t>
            </a:r>
            <a:br>
              <a:rPr sz="1800"/>
            </a:br>
            <a:r>
              <a:rPr b="0" lang="tr-TR" sz="1800" spc="-1" strike="noStrike">
                <a:solidFill>
                  <a:srgbClr val="000000"/>
                </a:solidFill>
                <a:latin typeface="Verdana"/>
              </a:rPr>
              <a:t> </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558877C-03CD-4E7C-B2D7-43D91A1900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593040" cy="10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Characteristics of the learners</a:t>
            </a:r>
            <a:r>
              <a:rPr b="0" lang="tr-TR" sz="3400" spc="-1" strike="noStrike">
                <a:solidFill>
                  <a:srgbClr val="000000"/>
                </a:solidFill>
                <a:latin typeface="Verdana"/>
              </a:rPr>
              <a:t> </a:t>
            </a:r>
            <a:endParaRPr b="0" lang="en-US" sz="3400" spc="-1" strike="noStrike">
              <a:solidFill>
                <a:srgbClr val="000000"/>
              </a:solidFill>
              <a:latin typeface="Verdana"/>
            </a:endParaRPr>
          </a:p>
        </p:txBody>
      </p:sp>
      <p:sp>
        <p:nvSpPr>
          <p:cNvPr id="162" name="PlaceHolder 2"/>
          <p:cNvSpPr>
            <a:spLocks noGrp="1"/>
          </p:cNvSpPr>
          <p:nvPr>
            <p:ph/>
          </p:nvPr>
        </p:nvSpPr>
        <p:spPr>
          <a:xfrm>
            <a:off x="250920" y="1881360"/>
            <a:ext cx="8604000" cy="457200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eeping the prospective users in mind is essential in the development of instructional programs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Characteristics of next generation learner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y were born during the computer age and grew up in a technological world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y are a much more technically sophisticated generation than previous generation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 visual image is the primary means of communication</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Multimedia – music, graphics, and video – is the preferred learning and entertainment experience for many of them</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y have native ability to multitask</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y can handle the nonlinear approach  (they are interactive and experiential, and learning occurs through trial and erro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hey are computer literate, but are not information literat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605C4B20-1BAD-4580-881D-65052884FE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Modes of instruction</a:t>
            </a:r>
            <a:endParaRPr b="0" lang="en-US" sz="3800" spc="-1" strike="noStrike">
              <a:solidFill>
                <a:srgbClr val="000000"/>
              </a:solidFill>
              <a:latin typeface="Verdana"/>
            </a:endParaRPr>
          </a:p>
        </p:txBody>
      </p:sp>
      <p:sp>
        <p:nvSpPr>
          <p:cNvPr id="1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Instruction takes place in many ways, these may include, but are not limited to, providing:</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Course-integrated instructio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rop-in workshop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Handouts and guides (print &amp; electronic)</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Web based instructio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tand alone courses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Credit / non-credi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Requested / elective</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ubject specific instructio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Tours </a:t>
            </a:r>
            <a:endParaRPr b="0" lang="en-US" sz="21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Video presentations</a:t>
            </a:r>
            <a:r>
              <a:rPr b="0" lang="tr-TR" sz="1900" spc="-1" strike="noStrike">
                <a:solidFill>
                  <a:srgbClr val="000000"/>
                </a:solidFill>
                <a:latin typeface="Verdana"/>
              </a:rPr>
              <a:t>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15FCFB71-AB98-40E7-ADBC-B9184ABD38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3045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Identification of modes of instruction</a:t>
            </a:r>
            <a:endParaRPr b="0" lang="en-US" sz="3800" spc="-1" strike="noStrike">
              <a:solidFill>
                <a:srgbClr val="000000"/>
              </a:solidFill>
              <a:latin typeface="Verdana"/>
            </a:endParaRPr>
          </a:p>
        </p:txBody>
      </p:sp>
      <p:sp>
        <p:nvSpPr>
          <p:cNvPr id="166"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The modes selected should be consistent with the content and goals of IL instruction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Where appropriate, more than one mode of instruction should be used based on knowledge of the wide variety of learning styles of individuals and group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When possible, instruction should employ active learning strategies and techniques that require learners to develop critical thinking skills in concert with IL skill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13EB96AF-D10C-49AC-8355-BBCF89BD06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Exercise</a:t>
            </a:r>
            <a:endParaRPr b="0" lang="en-US" sz="3800" spc="-1" strike="noStrike">
              <a:solidFill>
                <a:srgbClr val="000000"/>
              </a:solidFill>
              <a:latin typeface="Verdana"/>
            </a:endParaRPr>
          </a:p>
        </p:txBody>
      </p:sp>
      <p:sp>
        <p:nvSpPr>
          <p:cNvPr id="168" name="PlaceHolder 2"/>
          <p:cNvSpPr>
            <a:spLocks noGrp="1"/>
          </p:cNvSpPr>
          <p:nvPr>
            <p:ph/>
          </p:nvPr>
        </p:nvSpPr>
        <p:spPr>
          <a:xfrm>
            <a:off x="539280" y="2060280"/>
            <a:ext cx="7853400" cy="387972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ake groups</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Make a SWOT analysis for your library </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Who are stakeholder in your institution?</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onstruct an IL program planning team</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9AF4C5A4-83F6-46DD-8C6B-D2F9CAD601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m</a:t>
            </a:r>
            <a:endParaRPr b="0" lang="en-US" sz="3800" spc="-1" strike="noStrike">
              <a:solidFill>
                <a:srgbClr val="000000"/>
              </a:solidFill>
              <a:latin typeface="Verdana"/>
            </a:endParaRPr>
          </a:p>
        </p:txBody>
      </p:sp>
      <p:sp>
        <p:nvSpPr>
          <p:cNvPr id="17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Stakeholder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Management institute/school</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eacher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a:t>
            </a:r>
            <a:r>
              <a:rPr b="0" lang="en-GB" sz="2600" spc="-1" strike="noStrike">
                <a:solidFill>
                  <a:srgbClr val="000000"/>
                </a:solidFill>
                <a:latin typeface="Verdana"/>
              </a:rPr>
              <a:t>Libraria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CT staff</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tart with small team of ‘sympathetic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36AD3F47-3801-4FD6-9C7F-A21772A26F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Each team member fills document and calculates scor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iscussion on outcomes</a:t>
            </a:r>
            <a:endParaRPr b="0" lang="en-US" sz="3000" spc="-1" strike="noStrike">
              <a:solidFill>
                <a:srgbClr val="000000"/>
              </a:solidFill>
              <a:latin typeface="Verdana"/>
            </a:endParaRPr>
          </a:p>
        </p:txBody>
      </p:sp>
      <p:pic>
        <p:nvPicPr>
          <p:cNvPr id="173" name="" descr=""/>
          <p:cNvPicPr/>
          <p:nvPr/>
        </p:nvPicPr>
        <p:blipFill>
          <a:blip r:embed="rId2"/>
          <a:stretch/>
        </p:blipFill>
        <p:spPr>
          <a:xfrm>
            <a:off x="539640" y="2276640"/>
            <a:ext cx="8001000" cy="1368360"/>
          </a:xfrm>
          <a:prstGeom prst="rect">
            <a:avLst/>
          </a:prstGeom>
          <a:ln w="0">
            <a:noFill/>
          </a:ln>
        </p:spPr>
      </p:pic>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B55F3B90-0D74-41ED-BC41-DA28B7D737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Strategy</a:t>
            </a:r>
            <a:endParaRPr b="0" lang="en-US" sz="38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Start with small group</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Start within one ‘subject’ group</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volve ‘management’</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onvince ‘teachers’</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896EC946-CB5C-48B4-B87D-D370F0CD1A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on policy</a:t>
            </a:r>
            <a:endParaRPr b="0" lang="en-US" sz="3800" spc="-1" strike="noStrike">
              <a:solidFill>
                <a:srgbClr val="000000"/>
              </a:solidFill>
              <a:latin typeface="Verdana"/>
            </a:endParaRPr>
          </a:p>
        </p:txBody>
      </p:sp>
      <p:sp>
        <p:nvSpPr>
          <p:cNvPr id="10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escribe present situatio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Staff</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Equipment</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Faciliti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nstruction</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escribe required situatio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escribe transformation process</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DBF6BD3C-6E33-4C58-98EB-8568A10DBE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Strategy II</a:t>
            </a:r>
            <a:endParaRPr b="0" lang="en-US" sz="38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Facilitate</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t>
            </a:r>
            <a:r>
              <a:rPr b="0" lang="nl-NL" sz="3000" spc="-1" strike="noStrike">
                <a:solidFill>
                  <a:srgbClr val="000000"/>
                </a:solidFill>
                <a:latin typeface="Verdana"/>
              </a:rPr>
              <a:t>Seduce’</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blige</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F57C2346-A5B1-4BD1-A85F-A5F0E44DC4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Questions?</a:t>
            </a:r>
            <a:endParaRPr b="0" lang="en-US" sz="38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horst@uva.nl</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AE990540-FE32-42C1-9204-1F3C1B16DED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Key planning issues</a:t>
            </a:r>
            <a:endParaRPr b="0" lang="en-US" sz="3800" spc="-1" strike="noStrike">
              <a:solidFill>
                <a:srgbClr val="000000"/>
              </a:solidFill>
              <a:latin typeface="Verdana"/>
            </a:endParaRPr>
          </a:p>
        </p:txBody>
      </p:sp>
      <p:sp>
        <p:nvSpPr>
          <p:cNvPr id="1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Plan your Information literacy program in concert with overall strategic library planning</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Make sure that your plan is tied to library and institutional development plans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view past performance</a:t>
            </a:r>
            <a:r>
              <a:rPr b="0" lang="tr-TR" sz="1900" spc="-1" strike="noStrike">
                <a:solidFill>
                  <a:srgbClr val="000000"/>
                </a:solidFill>
                <a:latin typeface="Verdana"/>
              </a:rPr>
              <a:t> and try to </a:t>
            </a:r>
            <a:r>
              <a:rPr b="0" lang="en-US" sz="1900" spc="-1" strike="noStrike">
                <a:solidFill>
                  <a:srgbClr val="000000"/>
                </a:solidFill>
                <a:latin typeface="Verdana"/>
              </a:rPr>
              <a:t>understand reasons for past failure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dentify opportunitie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termine learner</a:t>
            </a:r>
            <a:r>
              <a:rPr b="0" lang="tr-TR" sz="1900" spc="-1" strike="noStrike">
                <a:solidFill>
                  <a:srgbClr val="000000"/>
                </a:solidFill>
                <a:latin typeface="Verdana"/>
              </a:rPr>
              <a:t>s’ needs and</a:t>
            </a:r>
            <a:r>
              <a:rPr b="0" lang="en-US" sz="1900" spc="-1" strike="noStrike">
                <a:solidFill>
                  <a:srgbClr val="000000"/>
                </a:solidFill>
                <a:latin typeface="Verdana"/>
              </a:rPr>
              <a:t> preference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nderstand the impact of IL training on existing operations and staff function</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D770DE96-52AC-41BD-90EA-A6BAA73D42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tential </a:t>
            </a:r>
            <a:r>
              <a:rPr b="0" lang="tr-TR" sz="3800" spc="-1" strike="noStrike">
                <a:solidFill>
                  <a:srgbClr val="000000"/>
                </a:solidFill>
                <a:latin typeface="Verdana"/>
              </a:rPr>
              <a:t>challenges &amp; </a:t>
            </a:r>
            <a:br>
              <a:rPr sz="3800"/>
            </a:br>
            <a:r>
              <a:rPr b="0" lang="en-US" sz="3800" spc="-1" strike="noStrike">
                <a:solidFill>
                  <a:srgbClr val="000000"/>
                </a:solidFill>
                <a:latin typeface="Verdana"/>
              </a:rPr>
              <a:t>planning pitfalls</a:t>
            </a:r>
            <a:endParaRPr b="0" lang="en-US" sz="3800" spc="-1" strike="noStrike">
              <a:solidFill>
                <a:srgbClr val="000000"/>
              </a:solidFill>
              <a:latin typeface="Verdana"/>
            </a:endParaRPr>
          </a:p>
        </p:txBody>
      </p:sp>
      <p:sp>
        <p:nvSpPr>
          <p:cNvPr id="1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ea typeface="Times New Roman"/>
              </a:rPr>
              <a:t>O</a:t>
            </a:r>
            <a:r>
              <a:rPr b="0" lang="en-US" sz="2100" spc="-1" strike="noStrike">
                <a:solidFill>
                  <a:srgbClr val="000000"/>
                </a:solidFill>
                <a:latin typeface="Verdana"/>
                <a:ea typeface="Times New Roman"/>
              </a:rPr>
              <a:t>bstacles such as limited facilities</a:t>
            </a:r>
            <a:r>
              <a:rPr b="0" lang="tr-TR" sz="2100" spc="-1" strike="noStrike">
                <a:solidFill>
                  <a:srgbClr val="000000"/>
                </a:solidFill>
                <a:latin typeface="Verdana"/>
                <a:ea typeface="Times New Roman"/>
              </a:rPr>
              <a:t>, financial and</a:t>
            </a:r>
            <a:r>
              <a:rPr b="0" lang="en-US" sz="2100" spc="-1" strike="noStrike">
                <a:solidFill>
                  <a:srgbClr val="000000"/>
                </a:solidFill>
                <a:latin typeface="Verdana"/>
                <a:ea typeface="Times New Roman"/>
              </a:rPr>
              <a:t> human resourc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bility to get management and/or </a:t>
            </a:r>
            <a:r>
              <a:rPr b="0" lang="tr-TR" sz="2100" spc="-1" strike="noStrike">
                <a:solidFill>
                  <a:srgbClr val="000000"/>
                </a:solidFill>
                <a:latin typeface="Verdana"/>
              </a:rPr>
              <a:t>faculty </a:t>
            </a:r>
            <a:r>
              <a:rPr b="0" lang="en-US" sz="2100" spc="-1" strike="noStrike">
                <a:solidFill>
                  <a:srgbClr val="000000"/>
                </a:solidFill>
                <a:latin typeface="Verdana"/>
              </a:rPr>
              <a:t>involve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ck of clear objectiv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A</a:t>
            </a:r>
            <a:r>
              <a:rPr b="0" lang="en-US" sz="2100" spc="-1" strike="noStrike">
                <a:solidFill>
                  <a:srgbClr val="000000"/>
                </a:solidFill>
                <a:latin typeface="Verdana"/>
              </a:rPr>
              <a:t>ssumption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The status problem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ea typeface="Times New Roman"/>
              </a:rPr>
              <a:t>Resistance towards change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Obstacles in communication (different vocabulari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tudent motivation (students don’t want to do anything extr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Perfectionism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381C5BB9-6906-4E73-8E5F-EF6B43403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Planning</a:t>
            </a:r>
            <a:endParaRPr b="0" lang="en-US" sz="3800" spc="-1" strike="noStrike">
              <a:solidFill>
                <a:srgbClr val="000000"/>
              </a:solidFill>
              <a:latin typeface="Verdana"/>
            </a:endParaRPr>
          </a:p>
        </p:txBody>
      </p:sp>
      <p:sp>
        <p:nvSpPr>
          <p:cNvPr id="110" name="PlaceHolder 2"/>
          <p:cNvSpPr>
            <a:spLocks noGrp="1"/>
          </p:cNvSpPr>
          <p:nvPr>
            <p:ph/>
          </p:nvPr>
        </p:nvSpPr>
        <p:spPr>
          <a:xfrm>
            <a:off x="456840" y="1949400"/>
            <a:ext cx="8218440" cy="464832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Statement of purpose</a:t>
            </a:r>
            <a:endParaRPr b="0" lang="en-US" sz="25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Action</a:t>
            </a:r>
            <a:endParaRPr b="0" lang="en-US" sz="25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Environmental scan</a:t>
            </a:r>
            <a:endParaRPr b="0" lang="en-US" sz="2500" spc="-1" strike="noStrike">
              <a:solidFill>
                <a:srgbClr val="000000"/>
              </a:solidFill>
              <a:latin typeface="Verdana"/>
            </a:endParaRPr>
          </a:p>
          <a:p>
            <a:pPr lvl="1" marL="907920" indent="-436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Opportunities and challenges</a:t>
            </a:r>
            <a:endParaRPr b="0" lang="en-US" sz="21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Resources</a:t>
            </a:r>
            <a:endParaRPr b="0" lang="en-US" sz="25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Budget</a:t>
            </a:r>
            <a:endParaRPr b="0" lang="en-US" sz="2500" spc="-1" strike="noStrike">
              <a:solidFill>
                <a:srgbClr val="000000"/>
              </a:solidFill>
              <a:latin typeface="Verdana"/>
            </a:endParaRPr>
          </a:p>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Administrative and instutional support</a:t>
            </a:r>
            <a:endParaRPr b="0" lang="en-US" sz="2500" spc="-1" strike="noStrike">
              <a:solidFill>
                <a:srgbClr val="000000"/>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C6B7859A-C4CB-4AA5-83FE-5A8AE40D0C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Planning</a:t>
            </a:r>
            <a:endParaRPr b="0" lang="en-US" sz="3800" spc="-1" strike="noStrike">
              <a:solidFill>
                <a:srgbClr val="000000"/>
              </a:solidFill>
              <a:latin typeface="Verdana"/>
            </a:endParaRPr>
          </a:p>
        </p:txBody>
      </p:sp>
      <p:sp>
        <p:nvSpPr>
          <p:cNvPr id="112" name="PlaceHolder 2"/>
          <p:cNvSpPr>
            <a:spLocks noGrp="1"/>
          </p:cNvSpPr>
          <p:nvPr>
            <p:ph/>
          </p:nvPr>
        </p:nvSpPr>
        <p:spPr>
          <a:xfrm>
            <a:off x="456840" y="1447920"/>
            <a:ext cx="8077320" cy="4572000"/>
          </a:xfrm>
          <a:prstGeom prst="rect">
            <a:avLst/>
          </a:prstGeom>
          <a:noFill/>
          <a:ln w="0">
            <a:noFill/>
          </a:ln>
        </p:spPr>
        <p:txBody>
          <a:bodyPr lIns="90000" rIns="90000" tIns="46800" bIns="46800" anchor="t">
            <a:normAutofit/>
          </a:bodyPr>
          <a:p>
            <a:pPr marL="4698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Integration with the curriculum</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Collaboration and partnership</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Pedagogy</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Outreach and promotion</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rPr>
              <a:t>Evaluation</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Characteristics of the learner</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Verdana"/>
                <a:ea typeface="Times New Roman"/>
              </a:rPr>
              <a:t>Mode of instruction</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0F624D83-BEC6-4C5D-9ABA-F9E50E04F2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Verdana"/>
              </a:rPr>
              <a:t>Mission statement</a:t>
            </a:r>
            <a:endParaRPr b="0" lang="en-US" sz="3800" spc="-1" strike="noStrike">
              <a:solidFill>
                <a:srgbClr val="000000"/>
              </a:solidFill>
              <a:latin typeface="Verdana"/>
            </a:endParaRPr>
          </a:p>
        </p:txBody>
      </p:sp>
      <p:sp>
        <p:nvSpPr>
          <p:cNvPr id="114" name="PlaceHolder 2"/>
          <p:cNvSpPr>
            <a:spLocks noGrp="1"/>
          </p:cNvSpPr>
          <p:nvPr>
            <p:ph/>
          </p:nvPr>
        </p:nvSpPr>
        <p:spPr>
          <a:xfrm>
            <a:off x="457200" y="1628280"/>
            <a:ext cx="8362800" cy="47134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ission statement describes the overall purpose of the program and may reflect the values and prioriti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Write a mission statement for your IL program</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ake sure that the mission statement</a:t>
            </a:r>
            <a:endParaRPr b="0" lang="en-US" sz="21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ludes a definition of information literacy;</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s consistent with the “Information Literacy Standards”;</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corresponds with the mission statements of the institution; </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clearly reflects the contributions of and expected benefits to institutional community;</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ppears in appropriate institutional documents; </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s reviewed periodically and, if necessary, revise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UNESCO TTT Cape Town 2008</a:t>
            </a:r>
          </a:p>
        </p:txBody>
      </p:sp>
      <p:sp>
        <p:nvSpPr>
          <p:cNvPr id="5" name="PlaceHolder 4"/>
          <p:cNvSpPr>
            <a:spLocks noGrp="1"/>
          </p:cNvSpPr>
          <p:nvPr>
            <p:ph type="sldNum" idx="3"/>
          </p:nvPr>
        </p:nvSpPr>
        <p:spPr/>
        <p:txBody>
          <a:bodyPr/>
          <a:p>
            <a:fld id="{79CB0ECB-B293-4991-8CDC-725BA501A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4:44:22Z</dcterms:created>
  <dc:creator>Albert K. Boekhorst</dc:creator>
  <dc:description/>
  <dc:language>en-US</dc:language>
  <cp:lastModifiedBy>Albert K. Boekhorst</cp:lastModifiedBy>
  <dcterms:modified xsi:type="dcterms:W3CDTF">2008-10-03T09:18:58Z</dcterms:modified>
  <cp:revision>49</cp:revision>
  <dc:subject/>
  <dc:title>Information Literacy &amp; Life Long Learning: Concept and Importance   </dc:title>
</cp:coreProperties>
</file>