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6B67-5A8D-4324-AA06-51D56369E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F621-66F3-4999-BC0A-36A743344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speak their language, understand faculty structures, gatekeeping mechanisms, strategic issues of the environment/institution/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advisable to try and fit every stand into each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E56A-3EF8-4738-A958-E179B22FE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ful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7D59-8750-4E89-AA06-3DB91DBA6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4623-F8E6-461A-B3BA-CC1532220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 curr courses: courses are offered indep &amp; devoted to IL, but part of ss curricul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 curr course: indep from faculty cu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 short courses: means fro training specific IL objectives and updating skills of learning comm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key in any IL pgm because this is a chance to convince them of benefits of 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ctivities: e.g. on-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117-8D49-4BC6-94B0-AB34B74B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82D4-997C-4BAA-93BF-F224DC32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09C-AF15-4D5F-B06A-0260E3FC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9BC-1168-47B6-B579-47903FA6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3169-19BC-4BB8-9278-08622627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8516-DB6E-4584-926D-5F84AE54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9C2D-4B6E-47F4-8660-A6058FBC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D553-D324-4606-9B0C-3C3D2B2F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033C-11B4-48FA-AFBE-F82F810E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17A3-FB24-4C36-A955-3E9D6756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4ACB-8926-43B8-A06C-2CEDF545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6DC-3722-44E7-BE26-2070E88B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3979-B51E-4322-81D9-69D6BA56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CF25-0BDC-4913-8571-0BEAB0EC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088D-7604-45F5-B7B3-EFD9D3FA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0820-1523-4510-8467-0C56A1B4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B948-2C51-4656-BED0-E1015392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BDF-185D-4BE0-91A1-F80E0028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07F7-6D8F-46BB-93D0-E24E4CC3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C75-7CA2-4067-85A8-B8AE1A6C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FD64-42E1-4CBE-A780-D162C2B7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B80-D8F0-4B57-954C-F8A4DD0D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727-6C4D-4EE2-AF01-F6440093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80C-6C72-462F-857B-5B1E0E53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156000" y="623700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7518-4F61-4167-9738-1E352430D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8190000" y="5373720"/>
            <a:ext cx="801720" cy="1295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UCT"/>
          <p:cNvPicPr/>
          <p:nvPr/>
        </p:nvPicPr>
        <p:blipFill>
          <a:blip r:embed="rId4"/>
          <a:stretch/>
        </p:blipFill>
        <p:spPr>
          <a:xfrm>
            <a:off x="8028000" y="4365720"/>
            <a:ext cx="936720" cy="92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179280" y="3141720"/>
            <a:ext cx="209088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UCT"/>
          <p:cNvPicPr/>
          <p:nvPr/>
        </p:nvPicPr>
        <p:blipFill>
          <a:blip r:embed="rId4"/>
          <a:stretch/>
        </p:blipFill>
        <p:spPr>
          <a:xfrm>
            <a:off x="7596360" y="5013360"/>
            <a:ext cx="1223640" cy="1211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3F72-8F62-40FC-8A2E-B45656BFC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ow.edu.au/student/attributes/ilip/" TargetMode="External"/><Relationship Id="rId3" Type="http://schemas.openxmlformats.org/officeDocument/2006/relationships/hyperlink" Target="http://www.griffith.edu.au/centre/gihe/griffith_graduate/toolkit/infoLit/why.htm" TargetMode="External"/><Relationship Id="rId4" Type="http://schemas.openxmlformats.org/officeDocument/2006/relationships/hyperlink" Target="http://www.griffith.edu.au/centre/gihe/griffith_graduate/toolkit/infoLit/why.htm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earning/Instruction Manag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68360" y="3428640"/>
            <a:ext cx="6189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y Nassimbe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y.nassimbeni@uct.ac.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8D9E-D886-4862-AC25-BD27EF2B68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rt of regular cour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IL intervention is embedded in another regular course as a component: this is generally taken to be an ideal situation in an educational setting and requires joint planning with the lecturer and careful articulation with the subject syllab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9A54-D2CF-4130-B2C4-02274CA692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dependent curricular cour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urses are offered independently and devoted to IL, but part of students’ curricul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ll responsibility is given to IL profession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an your course to coincide with academic cour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an exercises/examples to reflect content of subject discip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0387-E34C-4A55-BFB2-09319E9991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tra-curricular cour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ependent of faculty curricul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t plan to have it eventually become part of students’ curricu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 it on format of usual type of cour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vide recognition of course such as certific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47D3-3A2A-4D87-BF2D-0379D2AE85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dependent short cour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ans of training specific IL objectives and for updating skills of your learning commun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t very important to contextualise i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series of short courses can be integrated into a full cour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rkshops should be focused, preferably marketed with a catchy tit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5C29-B706-42F4-9A24-3E906F8AD9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urses for faculty/teach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re key actors for the success of any IL program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y important to convince them of benefits of IL because they own the timetable a very precious space in any institu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urses for faculty/teach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 out what they need/their problems, e.g. citation/plagiarism, students’ inability to evaluate web mate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 aware of their influence as advocates and champions, so take care to demonstrate your ability as teach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620B-218C-49A5-8C2E-46D4E57D98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ctiv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e a menu of op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vide information about benefits, objec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include demonstrations, lectures, library visits, training sess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fer on-request sess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ider help-desk assistance, e.g. trouble shooting with new electronic resources, software applications etc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E873-E049-4372-91F2-5AE60135B0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 guideli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 clear about objectives of each intervention because this will guide content, methods &amp;assess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re you can, focus on IL standards for every 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tablish measurabl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alability for large numb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77ED-BF79-4FD9-BB40-6D1FE16102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 guideline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d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aboration with all stakeholders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 te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oint a leader to coordinate 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ote your programme/s well using all  methods avail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iodic review and evaluati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EA3E-E87E-45F6-A4AA-46E496EEEA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rriculum desig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f handout on Standards for useful inputs for content/assess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need to answer a number of question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 you teach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m do you teach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? What are the desired outcom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? When? Whe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2CD8-C9BE-469C-ACB7-3D212FF7DD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rom IL theory to IL programme/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770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puts: IL programme/s will combine IL concepts/theory, learning theory &amp; instructional desig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ke into account diversity of educational/learning environments, experience/needs of clients, variety of learning styles and types of interventions availa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itutional collaboration is vita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me useful websites with examples of programm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7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versity of Wollongo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uow.edu.au/student/attributes/ilip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iffith Univers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griffith.edu.au/centre/gihe/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griffith_graduate/toolkit/infoLit/why.ht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versity of Austral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ttp://www.library.unisa.edu.au/infoskills/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olit/default.as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529E-A71A-40F9-9979-25E8AB568E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mething about learning theory: constructivist approac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97080" y="1773000"/>
            <a:ext cx="8243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Group 28"/>
          <p:cNvGrpSpPr/>
          <p:nvPr/>
        </p:nvGrpSpPr>
        <p:grpSpPr>
          <a:xfrm>
            <a:off x="1403280" y="2060640"/>
            <a:ext cx="7010280" cy="3886200"/>
            <a:chOff x="1403280" y="2060640"/>
            <a:chExt cx="7010280" cy="3886200"/>
          </a:xfrm>
        </p:grpSpPr>
        <p:sp>
          <p:nvSpPr>
            <p:cNvPr id="109" name="Rectangle 29"/>
            <p:cNvSpPr/>
            <p:nvPr/>
          </p:nvSpPr>
          <p:spPr>
            <a:xfrm>
              <a:off x="1403280" y="2060640"/>
              <a:ext cx="2971800" cy="91440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quiry learning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runer)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30"/>
            <p:cNvSpPr/>
            <p:nvPr/>
          </p:nvSpPr>
          <p:spPr>
            <a:xfrm>
              <a:off x="3689280" y="5048280"/>
              <a:ext cx="2438280" cy="89856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aningful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rning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1403280" y="3736800"/>
              <a:ext cx="2895480" cy="83844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operative learning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lavin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5441760" y="3660840"/>
              <a:ext cx="2971800" cy="91440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ain-based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rning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5441760" y="2060640"/>
              <a:ext cx="2971800" cy="88092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udent-centered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rning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34"/>
            <p:cNvSpPr/>
            <p:nvPr/>
          </p:nvSpPr>
          <p:spPr>
            <a:xfrm>
              <a:off x="4336920" y="4194000"/>
              <a:ext cx="1066680" cy="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35"/>
            <p:cNvSpPr/>
            <p:nvPr/>
          </p:nvSpPr>
          <p:spPr>
            <a:xfrm>
              <a:off x="4908240" y="2494080"/>
              <a:ext cx="0" cy="253836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36"/>
            <p:cNvSpPr/>
            <p:nvPr/>
          </p:nvSpPr>
          <p:spPr>
            <a:xfrm flipH="1">
              <a:off x="4412880" y="2441520"/>
              <a:ext cx="990360" cy="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D163-5B0F-4CBF-B932-AC42068CDB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tructivist approach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actical problem-solving activ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arning can be achieved by reflective thinking to solve problems through analysis of lifelike problems and potential alternative solutions, i.e. teachers acting as guides rather than as dispensers of informati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B72B-5FB3-41DD-9625-B0092D5008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tructivist approach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ing on prior knowledge (Brun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ople build on their prior knowledge to reach more advanced levels of understand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arning is an active process of discovery and categorisati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420C-6F11-4F4A-A1C8-FF68AC9B42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plications: curricul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arners are engaged in meaningful, challenging tasks or solving real-world proble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ople construct their own understanding when they are interested in what they are learning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plications: learning/teach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udents are given problems and resources to solve th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arning is active &amp; learners are encouraged to be self-directed, taking responsibility for their own learn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action among students promotes achievement of learning goals more successfully than learning alone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9626-5A6F-4612-8AAF-ECB1B09077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1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BDEB-3741-4046-87BD-CC6920C212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Group 2"/>
          <p:cNvGrpSpPr/>
          <p:nvPr/>
        </p:nvGrpSpPr>
        <p:grpSpPr>
          <a:xfrm>
            <a:off x="1187280" y="1700280"/>
            <a:ext cx="6834240" cy="4899240"/>
            <a:chOff x="1187280" y="1700280"/>
            <a:chExt cx="6834240" cy="4899240"/>
          </a:xfrm>
        </p:grpSpPr>
        <p:sp>
          <p:nvSpPr>
            <p:cNvPr id="141" name="Text Box 3"/>
            <p:cNvSpPr/>
            <p:nvPr/>
          </p:nvSpPr>
          <p:spPr>
            <a:xfrm>
              <a:off x="1414800" y="1700280"/>
              <a:ext cx="2733480" cy="73080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actors</a:t>
              </a:r>
              <a:r>
                <a:rPr b="1" lang="es-ES" sz="1500" spc="-1" strike="noStrike">
                  <a:solidFill>
                    <a:srgbClr val="000000"/>
                  </a:solidFill>
                  <a:latin typeface="Arial"/>
                </a:rPr>
                <a:t> in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r>
                <a:rPr b="1" lang="es-E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earning</a:t>
              </a:r>
              <a:r>
                <a:rPr b="1" lang="es-E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4"/>
            <p:cNvSpPr/>
            <p:nvPr/>
          </p:nvSpPr>
          <p:spPr>
            <a:xfrm>
              <a:off x="3123360" y="2918160"/>
              <a:ext cx="1594800" cy="97416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ultip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ntelligenc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4765680" y="2918160"/>
              <a:ext cx="1594800" cy="97416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earning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tyl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6426720" y="2918160"/>
              <a:ext cx="1594800" cy="97416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otivation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1187280" y="4379760"/>
              <a:ext cx="2961360" cy="73044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ools to promote learning proces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3303720" y="5597640"/>
              <a:ext cx="1594800" cy="97416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aching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Text Box 9"/>
            <p:cNvSpPr/>
            <p:nvPr/>
          </p:nvSpPr>
          <p:spPr>
            <a:xfrm>
              <a:off x="4946040" y="5597640"/>
              <a:ext cx="1594440" cy="97416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Questioning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AutoShape 10"/>
            <p:cNvSpPr/>
            <p:nvPr/>
          </p:nvSpPr>
          <p:spPr>
            <a:xfrm rot="20197800">
              <a:off x="2325600" y="2921760"/>
              <a:ext cx="341640" cy="974160"/>
            </a:xfrm>
            <a:custGeom>
              <a:avLst/>
              <a:gdLst>
                <a:gd name="textAreaLeft" fmla="*/ 45720 w 341640"/>
                <a:gd name="textAreaRight" fmla="*/ 295920 w 341640"/>
                <a:gd name="textAreaTop" fmla="*/ 170280 h 974160"/>
                <a:gd name="textAreaBottom" fmla="*/ 706320 h 9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9900">
                <a:alpha val="28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AutoShape 11"/>
            <p:cNvSpPr/>
            <p:nvPr/>
          </p:nvSpPr>
          <p:spPr>
            <a:xfrm rot="20197800">
              <a:off x="2553480" y="5597280"/>
              <a:ext cx="341280" cy="974160"/>
            </a:xfrm>
            <a:custGeom>
              <a:avLst/>
              <a:gdLst>
                <a:gd name="textAreaLeft" fmla="*/ 45720 w 341280"/>
                <a:gd name="textAreaRight" fmla="*/ 295560 w 341280"/>
                <a:gd name="textAreaTop" fmla="*/ 170280 h 974160"/>
                <a:gd name="textAreaBottom" fmla="*/ 706320 h 9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9900">
                <a:alpha val="28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Rectangle 12"/>
          <p:cNvSpPr/>
          <p:nvPr/>
        </p:nvSpPr>
        <p:spPr>
          <a:xfrm>
            <a:off x="395280" y="476280"/>
            <a:ext cx="56894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Times New Roman"/>
              </a:rPr>
              <a:t>Learning Elements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 - 6 Oct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TT Workshop Cape Tow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156360" y="623736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D29B-23D4-4763-A2AD-0D823462C8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arning Men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826920" y="2924280"/>
            <a:ext cx="295128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ependent curricula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r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4427640" y="2205000"/>
            <a:ext cx="295092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ependent worksho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1"/>
          <p:cNvSpPr/>
          <p:nvPr/>
        </p:nvSpPr>
        <p:spPr>
          <a:xfrm>
            <a:off x="826920" y="4076640"/>
            <a:ext cx="295128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ra curricular cour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32"/>
          <p:cNvSpPr/>
          <p:nvPr/>
        </p:nvSpPr>
        <p:spPr>
          <a:xfrm>
            <a:off x="4427640" y="3500280"/>
            <a:ext cx="295092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rses for faculty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ach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826920" y="5157720"/>
            <a:ext cx="655164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activiti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nstrations, lectures, library visits, training se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826920" y="1844640"/>
            <a:ext cx="295128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bedded in regul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r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3:51:25Z</dcterms:created>
  <dc:creator>Karin de Jager</dc:creator>
  <dc:description/>
  <dc:language>en-US</dc:language>
  <cp:lastModifiedBy>MARY</cp:lastModifiedBy>
  <dcterms:modified xsi:type="dcterms:W3CDTF">2008-10-01T13:26:12Z</dcterms:modified>
  <cp:revision>23</cp:revision>
  <dc:subject/>
  <dc:title>Slide 1</dc:title>
</cp:coreProperties>
</file>