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BB1E-B2C7-419E-AE0A-04F6E811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EF20-A88E-4A95-B1D4-6542D78D1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in South Africa outocmes-based education gives the public library an entry point. OBE is heavily dependent on resources, schools don’t have librar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again in South Africa a recent report by the Higher Education Council showed that employers are finding that graduates lack essential skills incl information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long learning is another concept that is a powerful one – many governments, International  ngos espouse the concept and promote it in developing count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68D-FE78-4880-B7B6-51B601FE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ust try to manage the turf issues here: really what is important is the content, not the pipes. But collababoration with ict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127-E931-49CF-8B12-448DE106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convinced that IL and IL programmes can make a significant difference to people’s learning, development and work performance. but  we need to realise that decision makers  need to be persuaded that IL is the answer to a problem that they are experiencing or observed the students/colleagues/employees to be experiencing. E.g in SA a recently published report published by HESA showed that employers are complaining that graduates lack info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F67-7189-42EE-A544-A25718C6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F526-4D56-4C9A-BD9B-7BBBBFC7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FA6-7654-440D-98BF-E4F7350C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67C-2EE5-4CFA-8A52-6C25D34A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E2A-C0DC-4ED4-BF19-ECA1DB1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A91-CC92-40F8-8A7D-6D97F27A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656-DA93-493D-B9FE-A5E8701D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7445-DFFB-412D-8451-48DB3FD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55F-0EB2-4167-89A2-3AB5A09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B2CE-9ACE-4125-BBD8-5AA229E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E76-6EB5-49B8-A1DA-527A3B3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AEAD-EA56-4EF7-B9B5-C6695A6E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7ED0-BA5E-4E11-8E54-A6D60B2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618-98A4-4B50-A5B7-4FA121B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BEE1-F27A-49BC-B4E2-1A7387C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52A-B0DB-4C07-8574-EC724C8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BED6-CBBE-44E3-B481-398E5568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AFC2-EB93-4417-A34E-27DDC71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7289-D615-4779-BE23-9266AAFD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24D-B170-469C-B98D-4D49534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799-727D-43E3-9073-9EFD53B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BBB-DBAB-4004-B139-509BAC3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CBB-A544-4C97-AA65-BFA3E5BE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B93-C985-4AD6-9E8B-B11BF11E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3F0-FD88-4F05-BCD4-BFE9EC5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4DD-1A57-4D24-83D9-3A3E89C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3325-1B9E-424E-A650-3DFA81F9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8190000" y="5373720"/>
            <a:ext cx="80172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UCT"/>
          <p:cNvPicPr/>
          <p:nvPr/>
        </p:nvPicPr>
        <p:blipFill>
          <a:blip r:embed="rId4"/>
          <a:stretch/>
        </p:blipFill>
        <p:spPr>
          <a:xfrm>
            <a:off x="8028000" y="4365720"/>
            <a:ext cx="9367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UCT"/>
          <p:cNvPicPr/>
          <p:nvPr/>
        </p:nvPicPr>
        <p:blipFill>
          <a:blip r:embed="rId4"/>
          <a:stretch/>
        </p:blipFill>
        <p:spPr>
          <a:xfrm>
            <a:off x="7596360" y="5013360"/>
            <a:ext cx="1223640" cy="1211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8E4-0740-437E-BEE3-EA1EE91D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utting it all togeth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3428640"/>
            <a:ext cx="6189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 Nassimbe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y.nassimbeni@uct.ac.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Policy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le of library in delivering IL program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library will work with other groups in designing and delivering the program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C1E9-E8B0-4C6B-8BC6-486688F7E9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velop key messag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 key messages for your target audience/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ulate  the message linking it to the idea that libraries and librarians have a key role in developing IL as we are the acknowledged expert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is a critical skill in today’s information world. Libraries  and librarians can help you find your way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D69-47BC-4327-ADF9-86C32B11D0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vocacy: messag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l to policy documents, policy positions of your sector, their concerns and issues issues, e.g. Prague declaration, govt policies on lifelong lea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L is a product with our br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key to generating institutional commit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246-2CF1-4313-8F09-5D494B9A97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vocacy messag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pid spread &amp; take-up of ICTs gives us another entry point: our skills at using ICTs &amp; the prevailing recognition that ICTs are changing the way we learn, live, work &amp; gove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Finland, e.g., the IL project (2004-2007) was funded by govt to raise profile of 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D049-698B-4166-9935-03367702B1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vocacy messag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ep on making the link between IL and learning. IL is learning how to learn. We have to shift perception of library as warehouse to library as learning sp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essage appeals to all target audie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735-4DC0-41B6-A800-79E19E93D0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vocacy: messag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od decisions depend on good information. IL is necessary for a competitive work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citizens need IL to prosper in the new global econo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C147-E2D0-4AB6-BA86-44B746CEA9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ntering mispercep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this (IL) not just a case of librarians finding something new to do to fill in the time between nine and five” (A Scottish M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WWW has made the library/librarians redundant: the librarian is the ultimate and best search eng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ur skills are un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CD1-EAEA-4AD3-9569-77E463DC93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ilding partnershi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y potential partners with a common concern and commit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ote a sense of owner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 shared vi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pect different constituencies and agendas of different group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lexibility &amp; openness of mi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07BB-2F9D-4760-AB0C-644C01B2E5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523F-90E9-4685-A880-2A80C77520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the problem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IL and IL programmes are the answer, what is the problem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it in terms that speak to the concerns of the decision makers using their vocabulary and langu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y target audiences and key stake hol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must be demonstrated ne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D67-A623-4F2A-A691-A7D8D6161D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rget audi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, e.g. colleagues in your library, your library director, your department. Importance of understanding how decisions are taken (Peter’s points: parent org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decision ma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 commun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dience: external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vernment departments, e.g. US Congress and Paul Zurkows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GOs, e.g. Adult literacy organis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ty lea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 commun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F08F-FA67-41B3-8296-FD59A24769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llenges learned from delega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itutional challen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ionships in our library: resistance, lack of understanding, “we are not teachers”, role/status of librarian as teach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ionships with our colleagues, their expectations, doing more without sufficient resource alloc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63AC-C02A-452D-973B-C72CFB894B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e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ly target sympathetic individuals/organis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on a modest scale, e.g. by pil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opt an IL definition &amp; model which clearly sets out what IL is and how it relates to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m/collab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CA77-AEDC-4D8B-AF8C-83DB988ECA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r responsi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ourselves to be information literate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is our responsibility to keep our  own IL skills uptodate also with IT adva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are responsible for our own learning. We must develop ourselves as learners and trainers in order to take our staff with 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6C6-AD70-4EF8-88B9-4A191E1D0A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ep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ructional design princi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rn to standards for content/assess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aware of need for measurement because of need to demonstrate imp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edback is a birthr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iteria of a good programme (Cf ACRL Best Practice): how to recognise success/fail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BB2A-9571-44AB-AD8E-D8504AB2E7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velop your IL policy in the strategic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current situ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future desired situ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inition of 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nce of 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87C-9651-4A8A-B21C-BFB55E691B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7:22:29Z</dcterms:created>
  <dc:creator>Karin de Jager</dc:creator>
  <dc:description/>
  <dc:language>en-US</dc:language>
  <cp:lastModifiedBy>mary nassimbeni</cp:lastModifiedBy>
  <dcterms:modified xsi:type="dcterms:W3CDTF">2008-10-05T09:45:46Z</dcterms:modified>
  <cp:revision>42</cp:revision>
  <dc:subject/>
  <dc:title>Slide 1</dc:title>
</cp:coreProperties>
</file>