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F2BE-9E44-4B5D-AE32-06C8D4CC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09C0-670D-4503-B6F0-4EEABB6C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F03E-B1F5-4822-88AF-5F8A75C2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9535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0448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029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9535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0448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ECCA-8439-4D23-AFA8-684383B8F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684D-8ACF-427C-8BFC-A55CB2991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9535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50448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4029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9535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50448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06B4-897D-4F14-B126-FFE7E577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DD7-9AFB-40D8-B731-0B80A541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20C3-4E18-4654-BE67-51955D732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F8B0-DA6F-467D-963C-7A000FBBD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B0F0-E622-4392-A8A3-BF0EDC25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936D-FB6B-4542-8404-29D489CB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AEC5-77D2-4973-8998-4762D8A3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440" y="0"/>
            <a:ext cx="9145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V="1">
            <a:off x="0" y="1125000"/>
            <a:ext cx="9144000" cy="1800"/>
          </a:xfrm>
          <a:prstGeom prst="line">
            <a:avLst/>
          </a:prstGeom>
          <a:ln w="73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108000" y="1916280"/>
            <a:ext cx="552240" cy="623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" descr=""/>
          <p:cNvPicPr/>
          <p:nvPr/>
        </p:nvPicPr>
        <p:blipFill>
          <a:blip r:embed="rId4"/>
          <a:stretch/>
        </p:blipFill>
        <p:spPr>
          <a:xfrm>
            <a:off x="76320" y="4292640"/>
            <a:ext cx="628560" cy="72072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5"/>
          <a:stretch/>
        </p:blipFill>
        <p:spPr>
          <a:xfrm>
            <a:off x="90360" y="2708280"/>
            <a:ext cx="648000" cy="5666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ff9900">
                  <a:alpha val="57254"/>
                </a:srgbClr>
              </a:gs>
              <a:gs pos="100000">
                <a:srgbClr val="ff99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26920" y="1125360"/>
            <a:ext cx="0" cy="5399280"/>
          </a:xfrm>
          <a:prstGeom prst="line">
            <a:avLst/>
          </a:prstGeom>
          <a:ln w="69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900000" y="189000"/>
            <a:ext cx="8064720" cy="792000"/>
          </a:xfrm>
          <a:prstGeom prst="roundRect">
            <a:avLst>
              <a:gd name="adj" fmla="val 13426"/>
            </a:avLst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095F-DA33-45C0-A17B-F189A9F9575A}" type="slidenum">
              <a:rPr b="1" lang="es-E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89120" y="142920"/>
            <a:ext cx="8316720" cy="6626160"/>
          </a:xfrm>
          <a:prstGeom prst="rect">
            <a:avLst/>
          </a:prstGeom>
          <a:blipFill rotWithShape="0">
            <a:blip r:embed="rId2"/>
            <a:srcRect/>
            <a:stretch/>
          </a:blip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544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360" y="115920"/>
            <a:ext cx="8964720" cy="404640"/>
          </a:xfrm>
          <a:prstGeom prst="rect">
            <a:avLst/>
          </a:prstGeom>
          <a:gradFill rotWithShape="0">
            <a:gsLst>
              <a:gs pos="0">
                <a:srgbClr val="ff9900">
                  <a:alpha val="78039"/>
                </a:srgbClr>
              </a:gs>
              <a:gs pos="100000">
                <a:srgbClr val="ff99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950760" y="442440"/>
            <a:ext cx="8028000" cy="1800"/>
          </a:xfrm>
          <a:prstGeom prst="line">
            <a:avLst/>
          </a:prstGeom>
          <a:ln w="73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08000" y="1916280"/>
            <a:ext cx="552240" cy="623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dt" idx="4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ftr" idx="5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76320" y="4292640"/>
            <a:ext cx="628560" cy="7207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90360" y="2708280"/>
            <a:ext cx="64800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826920" y="1125360"/>
            <a:ext cx="0" cy="5542200"/>
          </a:xfrm>
          <a:prstGeom prst="line">
            <a:avLst/>
          </a:prstGeom>
          <a:ln w="69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Arial"/>
              </a:rPr>
              <a:t>How to Create an Institutional Infolit Program</a:t>
            </a:r>
            <a:br>
              <a:rPr sz="1800"/>
            </a:br>
            <a:r>
              <a:rPr b="1" lang="en-GB" sz="1800" spc="-1" strike="noStrike">
                <a:solidFill>
                  <a:srgbClr val="cc6600"/>
                </a:solidFill>
                <a:latin typeface="Arial"/>
              </a:rPr>
              <a:t>( Based on the IFLA Information Literacy Guidelines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MX" sz="3700" spc="-1" strike="noStrike" u="sng">
                <a:solidFill>
                  <a:srgbClr val="cc0000"/>
                </a:solidFill>
                <a:uFillTx/>
                <a:latin typeface="Arial"/>
              </a:rPr>
              <a:t>10. UACJ University InfoLit Experience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676520" y="3885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Gill Sans MT"/>
              </a:rPr>
              <a:t>Jesús Lau, Ph.D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www.jesuslau.com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Director, USBI Veracruz  Library, and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UV Virtual Library Coordinat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Gill Sans MT"/>
              </a:rPr>
              <a:t>Veracruz, Méxic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Gill Sans MT"/>
              </a:rPr>
              <a:t>www.uv.mx/usbi_ve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Gill Sans MT"/>
              </a:rPr>
              <a:t>www.uv.mx/bvirtu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82B9-68B1-4B3E-84BC-9CAE0B93191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46784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100" spc="-1" strike="noStrike">
                <a:solidFill>
                  <a:srgbClr val="cc0000"/>
                </a:solidFill>
                <a:latin typeface="Arial"/>
                <a:ea typeface="Osaka"/>
              </a:rPr>
              <a:t>UACJ Educational Model </a:t>
            </a:r>
            <a:endParaRPr b="0" lang="en-US" sz="41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rospective plan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1 months: key faculty particip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0000"/>
                </a:solidFill>
                <a:latin typeface="Arial"/>
              </a:rPr>
              <a:t>Literature review and basic docu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nternational and local case analysi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General </a:t>
            </a:r>
            <a:r>
              <a:rPr b="0" lang="es-ES_tradnl" sz="2800" spc="-1" strike="noStrike">
                <a:solidFill>
                  <a:srgbClr val="cc0000"/>
                </a:solidFill>
                <a:latin typeface="Arial"/>
              </a:rPr>
              <a:t>consultation of the learning community: Graduate profile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Visi</a:t>
            </a:r>
            <a:r>
              <a:rPr b="0" lang="es-ES_tradnl" sz="2800" spc="-1" strike="noStrike">
                <a:solidFill>
                  <a:srgbClr val="cc0000"/>
                </a:solidFill>
                <a:latin typeface="Arial"/>
              </a:rPr>
              <a:t>o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020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F967-9A4C-47F0-9B2A-39E2653C68D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Osaka"/>
              </a:rPr>
              <a:t>UACJ Libraries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520" y="1676160"/>
            <a:ext cx="70995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op of the line new build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ripled printed collections in five yea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2200 electronic journa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1000 Websites / COR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650 databases, 500 e-boo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IL Program: information skill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Largest number of librarians in the northw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tate of the art organizational structur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AEFF-910D-4090-A465-14DBA618BAA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MODELO EDUCATIVO UACJ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VISIÓN 2020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ESTRUCTURA ACADÉMICA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PERFIL DEL DOCENTE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ESTRATEGIAS DE APRENDIZAJE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PROCESO PEDAGÓGICO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PERFIL DEL EGRESADO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 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 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 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 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 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 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 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 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 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 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 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 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 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 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 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 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 </a:t>
            </a:r>
            <a:br>
              <a:rPr sz="3700"/>
            </a:b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 </a:t>
            </a:r>
            <a:br>
              <a:rPr sz="3700"/>
            </a:b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 </a:t>
            </a:r>
            <a:br>
              <a:rPr sz="3700"/>
            </a:b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 </a:t>
            </a:r>
            <a:br>
              <a:rPr sz="3700"/>
            </a:b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1611360" y="1905120"/>
            <a:ext cx="6629400" cy="3809880"/>
            <a:chOff x="1611360" y="1905120"/>
            <a:chExt cx="6629400" cy="3809880"/>
          </a:xfrm>
        </p:grpSpPr>
        <p:sp>
          <p:nvSpPr>
            <p:cNvPr id="115" name=""/>
            <p:cNvSpPr/>
            <p:nvPr/>
          </p:nvSpPr>
          <p:spPr>
            <a:xfrm>
              <a:off x="1611360" y="1905120"/>
              <a:ext cx="6629400" cy="3809880"/>
            </a:xfrm>
            <a:prstGeom prst="triangle">
              <a:avLst>
                <a:gd name="adj" fmla="val 50000"/>
              </a:avLst>
            </a:prstGeom>
            <a:solidFill>
              <a:srgbClr val="ffff99"/>
            </a:solidFill>
            <a:ln w="88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62240" y="1905120"/>
              <a:ext cx="5346720" cy="3119400"/>
            </a:xfrm>
            <a:prstGeom prst="triangle">
              <a:avLst>
                <a:gd name="adj" fmla="val 5000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763720" y="1981080"/>
              <a:ext cx="4343400" cy="2454480"/>
            </a:xfrm>
            <a:prstGeom prst="triangle">
              <a:avLst>
                <a:gd name="adj" fmla="val 5000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76720" y="1949400"/>
              <a:ext cx="3314520" cy="1884240"/>
            </a:xfrm>
            <a:prstGeom prst="triangle">
              <a:avLst>
                <a:gd name="adj" fmla="val 50000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1905120"/>
              <a:ext cx="2224080" cy="125892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357720" y="5291280"/>
              <a:ext cx="323820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RUCTURA ACADÉMIC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459240" y="4626000"/>
              <a:ext cx="29350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FIL DEL DOCEN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57720" y="4021200"/>
              <a:ext cx="3136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ESTRATEGIAS DE APRENDIZAJ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57600" y="3429000"/>
              <a:ext cx="253044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CESO PEDAGÓGIC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79720" y="2630520"/>
              <a:ext cx="20242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PERFIL DE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1" lang="es-MX" sz="1100" spc="-1" strike="noStrike">
                  <a:solidFill>
                    <a:srgbClr val="ffffff"/>
                  </a:solidFill>
                  <a:latin typeface="Arial"/>
                  <a:ea typeface="Arial"/>
                </a:rPr>
                <a:t>EGRESAD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838080" y="-76320"/>
            <a:ext cx="8153640" cy="137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UACJ Education Model - Vision 202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BF2A-9431-4FEB-ACE9-16C6912BE3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75960"/>
            <a:ext cx="8534520" cy="1066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cc0000"/>
                </a:solidFill>
                <a:latin typeface="Arial"/>
                <a:ea typeface="Times New Roman"/>
              </a:rPr>
              <a:t>Competencies: Graduate Profile </a:t>
            </a:r>
            <a:endParaRPr b="0" lang="en-US" sz="33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720" y="1676520"/>
            <a:ext cx="6878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0000"/>
                </a:solidFill>
                <a:latin typeface="Arial"/>
              </a:rPr>
              <a:t>1. Reasoning skil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0000"/>
                </a:solidFill>
                <a:latin typeface="Arial"/>
              </a:rPr>
              <a:t>2. Information competenci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Arial"/>
              </a:rPr>
              <a:t>3. Self-Managm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c0000"/>
                </a:solidFill>
                <a:latin typeface="Arial"/>
              </a:rPr>
              <a:t>4. Knowledge Applicat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0000"/>
                </a:solidFill>
                <a:latin typeface="Arial"/>
              </a:rPr>
              <a:t>5. Spor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0000"/>
                </a:solidFill>
                <a:latin typeface="Arial"/>
              </a:rPr>
              <a:t>6. Technological skill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0000"/>
                </a:solidFill>
                <a:latin typeface="Arial"/>
              </a:rPr>
              <a:t>7. Foreign language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8576-893E-4B93-987C-703DD464EA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8229600" cy="762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Summary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0000"/>
                </a:solidFill>
                <a:latin typeface="Arial"/>
              </a:rPr>
              <a:t>Social need: Competent profesional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0000"/>
                </a:solidFill>
                <a:latin typeface="Arial"/>
              </a:rPr>
              <a:t>Knowledge, skills and value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0000"/>
                </a:solidFill>
                <a:latin typeface="Arial"/>
              </a:rPr>
              <a:t>Profesionals: flexible y adaptables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cc0000"/>
                </a:solidFill>
                <a:latin typeface="Arial"/>
              </a:rPr>
              <a:t>UACJ 2020 vision 2020: Educational model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Libraries:</a:t>
            </a:r>
            <a:r>
              <a:rPr b="0" lang="es-MX" sz="3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vital in information provi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8D32-0D21-4730-B25A-53F03C6B84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5T18:57:03Z</dcterms:created>
  <dc:creator>SDAC</dc:creator>
  <dc:description/>
  <dc:language>en-US</dc:language>
  <cp:lastModifiedBy>Prácticas BiV / USBI VER</cp:lastModifiedBy>
  <dcterms:modified xsi:type="dcterms:W3CDTF">2007-11-29T19:06:04Z</dcterms:modified>
  <cp:revision>34</cp:revision>
  <dc:subject/>
  <dc:title>No Slide Title</dc:title>
</cp:coreProperties>
</file>