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1B87-BDEF-430F-91B8-B008F4FC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EB13-6B3F-45A7-96A8-9FF671BF1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0F5-C43A-408A-AD61-C61BF91F0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9F65-48AB-4536-88D5-847B11B21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D428-17DC-4E87-8B23-1D109B0EB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6212-AEB8-44F2-9039-BC92ED6E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D0850-5523-4FA0-A083-270BA77E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E1D98-0A9C-4292-8F3D-3E72403B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6685F-6836-4B6C-AC8C-B8B478D52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E1F7-6182-4C6E-8601-AFCFCDBE0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675F-A5DF-459C-B776-5AEFEB0CF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E715-8EAB-4D18-9652-99B204B0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79EB-F904-49DD-A401-019BF5E2A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94C8C-DC38-4E71-BB63-2696F240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A1F81-0DCA-451E-8CD9-4A7709F8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AE0D-AC6B-4FB9-A64E-DBDA29280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50078-BC2D-450F-A67E-598B9874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DF69-80BD-457F-87CC-27437BEBC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572-47AC-4FD5-91A5-100894D9F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ED1A-E7E0-4F54-8982-746A48013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05E-E6BC-4092-9F9E-3D384FDC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B6B-AA46-498C-9D85-C9677CEF8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D5F9-C165-4306-801D-11480856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4F36-D6E3-4761-8FC7-8D6A0815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016-2247-4832-A8CF-A04DC20C1370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9A819-7DFD-43A2-8C0A-3908A9B09161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esuslau.com/" TargetMode="External"/><Relationship Id="rId2" Type="http://schemas.openxmlformats.org/officeDocument/2006/relationships/hyperlink" Target="http://www.uv.mx/usbi_ver" TargetMode="External"/><Relationship Id="rId3" Type="http://schemas.openxmlformats.org/officeDocument/2006/relationships/hyperlink" Target="http://www.uv.mx/usbi_ver" TargetMode="External"/><Relationship Id="rId4" Type="http://schemas.openxmlformats.org/officeDocument/2006/relationships/hyperlink" Target="http://www.uv.mx/usbi_ver" TargetMode="External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03280" y="836640"/>
            <a:ext cx="7201080" cy="2879640"/>
          </a:xfrm>
          <a:prstGeom prst="roundRect">
            <a:avLst>
              <a:gd name="adj" fmla="val 16667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Times New Roman"/>
              </a:rPr>
              <a:t>How to Create an Institutional Infolit Program</a:t>
            </a:r>
            <a:br>
              <a:rPr sz="2400"/>
            </a:br>
            <a:r>
              <a:rPr b="1" lang="en-GB" sz="2400" spc="-1" strike="noStrike">
                <a:solidFill>
                  <a:srgbClr val="cc6600"/>
                </a:solidFill>
                <a:latin typeface="Times New Roman"/>
              </a:rPr>
              <a:t>( Based on the IFLA Information Literacy Guidelines)</a:t>
            </a:r>
            <a:br>
              <a:rPr sz="2400"/>
            </a:br>
            <a:br>
              <a:rPr sz="2000"/>
            </a:br>
            <a:br>
              <a:rPr sz="20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Times New Roman"/>
              </a:rPr>
              <a:t>9. Learning Assess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86920" y="41497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"/>
          <p:cNvSpPr/>
          <p:nvPr/>
        </p:nvSpPr>
        <p:spPr>
          <a:xfrm>
            <a:off x="1835280" y="4005360"/>
            <a:ext cx="5761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Jesús Lau, Ph.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Times New Roman"/>
                <a:hlinkClick r:id="rId1"/>
              </a:rPr>
              <a:t>www.jesuslau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Director, USBI Veracruz  Library,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UV Virtual Library Coordin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Veracruz, Méx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Times New Roman"/>
                <a:hlinkClick r:id="rId2"/>
              </a:rPr>
              <a:t>www.uv.mx</a:t>
            </a:r>
            <a:r>
              <a:rPr b="0" lang="es-MX" sz="2000" spc="-1" strike="noStrike" u="sng">
                <a:solidFill>
                  <a:srgbClr val="cc0000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s-MX" sz="2000" spc="-1" strike="noStrike" u="sng">
                <a:solidFill>
                  <a:srgbClr val="cc0000"/>
                </a:solidFill>
                <a:uFillTx/>
                <a:latin typeface="Times New Roman"/>
                <a:hlinkClick r:id="rId4"/>
              </a:rPr>
              <a:t>usbi_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Times New Roman"/>
              </a:rPr>
              <a:t>www.uv.mx/bvir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FC2-C75A-4F8F-BCA3-E5A05F1DD94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Focus on Higher Level Thinking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each information processes, such as decision making and problem solving, rather than just knowledge of information, so that students master the ability to lea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ke information processes explicit in all the assessment techniqu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ssignments and assessments must link process skills with information presentation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Jones, A. J. and Gardner, C., as cited in Stripling, 1999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CA2A-AC25-431A-A6ED-1AE7F3995DF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Questions - IL Learning Facilitator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75840" y="1773000"/>
            <a:ext cx="75438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am I trying to ass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What have students learn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ow do participants feel about their own learning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re students really learn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279B1-9595-4B75-9AB6-6612B385F94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Questions - Assessment Process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15640" y="1557000"/>
            <a:ext cx="754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es the assessment measure what it says it measure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the scoring criteria clear, objective, and explicitly related to the standard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the scoring system reliable and does it adequately discriminate degrees of work quality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s the task being assessed a challenging on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es the assessment technique offer an appropriate learning challenge for students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Does the task being assessed reflect real-world challenges, contexts, and constraints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97D13-5048-48CC-A2CF-9AA7AD4C750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xample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6920" y="1486080"/>
            <a:ext cx="7543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an the students incorporate appropriate journal articles into their research papers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an the students locate appropriate journal indexes? In print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an they use computers for electronic searching?</a:t>
            </a:r>
            <a:r>
              <a:rPr b="0" i="1" lang="en-US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an students create a useful search strategy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4FE2-0CF3-4F32-9050-F1F8B06334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Gill Sans MT"/>
              </a:rPr>
              <a:t>Example (2)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Do they know sufficient words for keyword searches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Do they understand controlled vocabulary &amp; use it?</a:t>
            </a:r>
            <a:r>
              <a:rPr b="0" i="1" lang="en-US" sz="31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Do the students employ Boolean search strategies effectively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Do students select peer reviewed articles for their research (p. 3)?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045AC-BF5E-4ED2-A47F-97F42EED697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Diagnostic Assessm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77336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Prescriptive or diagnostic.  It assesses the knowledge and skill of participants before the instruction is designed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se can take the form of standardized or instructor developed tests, auditions or review of a student’s prior work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FDF3-F83E-4FD0-AEC5-CFF4518AF5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Formative Assessm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It provides feedback about student learning while the instruction is ongoing and allows the instructor to adjust teaching methods during a course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For example, requiring students to write a one page ‘reaction paper’ to a reading assignment, or prepare an annotated bibliography of research materials several weeks before the research paper is completed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BE4E6-FE4B-40E5-A350-D6FB981D568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ummative Assessm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A final evaluation of the criteria for assessment occurring at the end of instruction, i.e.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multiple choice question, essays given under controlled conditions, or an evaluation of citations used in the student’s research paper or a portfolio review.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8AF08-BB54-4C47-A0F0-9FEB7BE587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Summative Assessment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The latter two examples require development of an assessment ‘rubric’.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Assessment of students’ feeling about instruction can take the form of questionnaires or focus groups.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These techniques do not evaluate learning and are often mistakenly used for that purpose (p. 3)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7F53F-28E8-4E05-9B15-404779C2FE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6400" y="-18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hecklists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5640" y="1844280"/>
            <a:ext cx="754380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se are lists to guide students in the accomplishment of their assignment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y include the different stages, levels or items necessary to complete the assignment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C54E-7C30-4567-8EF6-08E46898CD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258920" y="549360"/>
            <a:ext cx="7432200" cy="5990760"/>
            <a:chOff x="1258920" y="549360"/>
            <a:chExt cx="7432200" cy="5990760"/>
          </a:xfrm>
        </p:grpSpPr>
        <p:sp>
          <p:nvSpPr>
            <p:cNvPr id="112" name=""/>
            <p:cNvSpPr/>
            <p:nvPr/>
          </p:nvSpPr>
          <p:spPr>
            <a:xfrm>
              <a:off x="1258920" y="549360"/>
              <a:ext cx="650160" cy="599076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267640" y="1922760"/>
              <a:ext cx="6418440" cy="965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ssesses   knowledge and skills before  instru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is designed and guides course content and pedagogy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74880" y="3600000"/>
              <a:ext cx="3250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67640" y="3718800"/>
              <a:ext cx="6418440" cy="932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n ongoing process of  student feedback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 teaching adjustmen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87800" y="1190160"/>
              <a:ext cx="3656160" cy="6782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cc0000"/>
                  </a:solidFill>
                  <a:uFillTx/>
                  <a:latin typeface="Arial"/>
                  <a:ea typeface="Times New Roman"/>
                </a:rPr>
                <a:t>Prescriptive or Diagnostic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7800" y="2950560"/>
              <a:ext cx="3493800" cy="677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cc0000"/>
                  </a:solidFill>
                  <a:uFillTx/>
                  <a:latin typeface="Arial"/>
                  <a:ea typeface="Times New Roman"/>
                </a:rPr>
                <a:t>Formativ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3040" y="4744440"/>
              <a:ext cx="3412440" cy="677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 u="sng">
                  <a:solidFill>
                    <a:srgbClr val="cc0000"/>
                  </a:solidFill>
                  <a:uFillTx/>
                  <a:latin typeface="Arial"/>
                  <a:ea typeface="Times New Roman"/>
                </a:rPr>
                <a:t>Summative: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273040" y="5478840"/>
              <a:ext cx="641808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akes place at the end of instruction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o  evaluate student  performance</a:t>
              </a:r>
              <a:r>
                <a:rPr b="0" lang="es-E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32480" y="5434920"/>
              <a:ext cx="3250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874880" y="1990080"/>
              <a:ext cx="32508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199D-217C-4630-BB3C-E29318D4F58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Checklists – Technique (2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hecklists should be visual task reminders to improve student growth.  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hecklists should be provided at the beginning of the assignment so that they can be used during the whole learning project or task for self-feedback.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99DC-E686-468F-B3F6-0F308C5C3A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51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Rubrics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5438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 rubric is a precisely structured assessment that guides students to achieve a successful performanc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normally includes a graded list of the attributes students ought to perform in their learning task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C14-E96F-4150-900A-8BE450666F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Rubrics – Technique (2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successful and unacceptable range of performance levels should avoid evaluative language, i.e., judgment label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5442B-CBC1-44DB-A213-9808EDF38BB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Rubrics – Technique (3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erms should be descriptive of the success outcome the student is to obtain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Donnahan, J. &amp; Stein, B. B., as cited in Stripling, 1999).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rubric can be divided according to the process steps with clear indication of each element to be considered to reach the desired goa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6233-722E-41E0-9CC0-EA1A349026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5564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onferencing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020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 technique that is based on a discussion with the learner, among learners, or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mong the whole class to orally reflect on the information literacy processes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03C-297B-40F9-9470-BD1C08E5065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Conferencing – Technique (2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can be done at the different stages of the information tasks, as well as at the end of the process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t uses questions posed by the facilitator inquiring about the process of lea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D6FF2-3415-4205-98A1-FD1621D74BA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ortofolio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58560" y="155700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t consists of the accumulation of student work over time and integrated into a final package of IL process products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ortfolios are useful assessment techniques because it gives students the possibility of seeing their learning products become integrated into a final product. 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FF1E2-9C5A-4678-A759-41C384FEAA8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Portofolio – Technique (2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y show that students learned (content standards) and/or are able to do (performance standards)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Jones, A. J. &amp; Gardner, C., as cited in Stripling, 1999)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y are an excellent way to measure the efficiency of attaining the learning goals, and evaluate the effectiveness of learning strategies, and the clarity of knowledge presentation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5A5B0-4006-4FF0-AC50-20F0C6C16A0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Report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15640" y="141264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se are useful essay exercises as long as they are not cut and paste exercises or a repetition of the information in printed or electronic sources with little synthesis or no evaluation of the retrieved information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rely producing printed reports defeats the purpose of teaching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Jones, A. J. and Gardner, C., as cited in Stripling, 1999)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2F3E1-5C08-494B-A4BD-28D8EFBA0C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raditional Test - Techniqu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3148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list of questions with open or structured answer options is also useful, as long as it does not focus on content of knowledge.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ests can be used when time is limited or when the assessment is specifically focused on a certain aspect of learn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3F6E-3985-4892-BEC0-C9EB6672D3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6348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Why Assess?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mprove student growth (formativ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mprove instruction ( formativ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Recognize accomplishment (summativ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Modify or improve the program (summative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6C3F2-B46B-4EC9-822D-8574E705CC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948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Approaches - Techniqu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n integral evaluation emphasizes the need to triangulate the intended learning outcomes with teaching interventions and assessment into a seamless whole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(Bligh, 1998). 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similar method is proposed by Biggs, (1999), whose SOLO (Structure of Observed Learning Outcomes) model offers a structure for assessing thinking skill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A8ACB-65C6-4392-A9F9-4E4A0DC8D6C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1332000" y="1557360"/>
            <a:ext cx="7200720" cy="4176720"/>
            <a:chOff x="1332000" y="1557360"/>
            <a:chExt cx="7200720" cy="4176720"/>
          </a:xfrm>
        </p:grpSpPr>
        <p:sp>
          <p:nvSpPr>
            <p:cNvPr id="179" name=""/>
            <p:cNvSpPr/>
            <p:nvPr/>
          </p:nvSpPr>
          <p:spPr>
            <a:xfrm>
              <a:off x="3198240" y="1557360"/>
              <a:ext cx="3332520" cy="9813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3492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Assess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chnique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2000" y="2867400"/>
              <a:ext cx="1734120" cy="7362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Checklist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332000" y="3932640"/>
              <a:ext cx="1734120" cy="73584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Rubric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32000" y="4995360"/>
              <a:ext cx="1734120" cy="73872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Conferencing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31280" y="2786400"/>
              <a:ext cx="1733400" cy="7362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Portfolio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98600" y="3849840"/>
              <a:ext cx="1734120" cy="73584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Report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8600" y="4914720"/>
              <a:ext cx="1734120" cy="7362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Traditiona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st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066120" y="2541240"/>
              <a:ext cx="3732120" cy="2863440"/>
              <a:chOff x="3066120" y="2541240"/>
              <a:chExt cx="3732120" cy="2863440"/>
            </a:xfrm>
          </p:grpSpPr>
          <p:sp>
            <p:nvSpPr>
              <p:cNvPr id="187" name=""/>
              <p:cNvSpPr/>
              <p:nvPr/>
            </p:nvSpPr>
            <p:spPr>
              <a:xfrm flipH="1">
                <a:off x="3066120" y="2541240"/>
                <a:ext cx="1798560" cy="286344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864680" y="2541240"/>
                <a:ext cx="1933560" cy="278208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066120" y="2541240"/>
                <a:ext cx="1798560" cy="1717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864680" y="2541240"/>
                <a:ext cx="1933560" cy="163656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864680" y="2541240"/>
                <a:ext cx="1865880" cy="6534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3066120" y="2541240"/>
                <a:ext cx="1798560" cy="653400"/>
              </a:xfrm>
              <a:prstGeom prst="line">
                <a:avLst/>
              </a:prstGeom>
              <a:ln w="93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5520" rIns="6552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" name=""/>
          <p:cNvSpPr/>
          <p:nvPr/>
        </p:nvSpPr>
        <p:spPr>
          <a:xfrm>
            <a:off x="971640" y="333360"/>
            <a:ext cx="7921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Summary: Assessment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A8BBA-B69A-4AF9-ABBF-421537E53E2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7948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mportance of Assessm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15640" y="1483920"/>
            <a:ext cx="7831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udents´ achievement is linked to the assessment techniques (Wiggins, 1998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ssessment is critical in determining if student learning is occurring (Jones, A. J. and  Gardner, C. as cited in Stripling, 1999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Find superior ways to evaluate students´ abilities to use academic skills (Baron, 1995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lock students´ success through assessment (Baron, 1995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A2557-AE32-45D0-8278-21430D177A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mportance of Assessment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42920" y="1557360"/>
            <a:ext cx="7904160" cy="48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Performance-based learning and assessment can be implemented at all grade levels and among all disciplines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Current testing just audits what students do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92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Ability to merge assessment and instruction into a single strategy</a:t>
            </a: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9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5EBE6-CA27-4EBC-8A78-EDCBC4CD38E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Importance of Assessment (3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0000"/>
                </a:solidFill>
                <a:latin typeface="Arial"/>
              </a:rPr>
              <a:t>There should be ongoing, continuously measuring of student performance throughout the learning cyc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Jones, A. J. &amp; Gardner, C., as cited in Stripling, 1999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cc0000"/>
                </a:solidFill>
                <a:latin typeface="Arial"/>
              </a:rPr>
              <a:t>Information literacy assessment should be integrated into the rest of the curriculum across all levels and all disciplines </a:t>
            </a: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BDE3-A516-46C5-A431-4964F5D67B4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Focus on Independent Learning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564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Assessment should be performance-based, so that students are prepared for life not just for school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By promoting self-assessment techniques, students learn how to evaluate information to solve problems, make decisions and become independent learner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Enable students to create a set of assessment strategies and criteria to monitor their work (Donnahan, J. and Stein, B. B., as cited in Stripling, 1999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6B0F9-1630-4816-9B42-92D3EEF2E7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Focus on Independent Learning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58560" y="1916280"/>
            <a:ext cx="7543800" cy="42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Help students in self-reflection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Assessment should be deliberately designed to improve and educate student performance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Authentic assessment means measuring student performance based on tasks that are relevant and used in real life (Baron, 1995)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Arial"/>
              </a:rPr>
              <a:t>Design and use assessment focused on the learner’s needs</a:t>
            </a: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C22BD-9E05-41CD-B481-EC889D98E31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Focus on Higher Level Thinking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e new information literacy focus is on information searching, evaluating, and utilizing, rather than on source location and retrieva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formation literacy should emphasize higher level thinking processes (applying, synthesizing, and evaluating information)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 addition to lower thinking activities (recalling and comprehending information) 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(Donnahan, J. and Stein, B. B., as cited in Stripling, 1999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781C8-B997-436C-A18C-3E08850101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5:48Z</dcterms:modified>
  <cp:revision>166</cp:revision>
  <dc:subject/>
  <dc:title>Presentación de PowerPoint</dc:title>
</cp:coreProperties>
</file>