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005F-3FC4-47C3-8B03-0E55116EA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7543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402920" y="4008600"/>
            <a:ext cx="7543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69D5-539F-4F6F-8C01-F84577F4A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26860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402920" y="400860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268600" y="400860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BDC8-D2A6-4F89-A38A-76B4F31A5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953520" y="170028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504480" y="170028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402920" y="400860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953520" y="400860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504480" y="400860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EAFB-0F07-4023-A64D-6D182AD32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34A57-ED34-463A-92BA-712D7DEAC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402920" y="170028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A2AE1-5A89-40B5-AC4A-F990704DF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52FC6-E6FE-4BBA-BC49-41C375F8C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3681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68600" y="1700280"/>
            <a:ext cx="3681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E4147-9E40-4B61-BAE9-19332E4B8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6F1B5-D870-481E-8172-24E137EC4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D5013-E2B3-47B0-B2BF-209F11D9F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68600" y="1700280"/>
            <a:ext cx="3681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02920" y="400860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C20D2-E7FF-434D-BD23-2557D64B4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402920" y="170028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E0E4-7B1F-4EF6-9B9F-679C96844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3681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6860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268600" y="400860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89BEB-E481-45B6-9A9E-9D1A25F9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6860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402920" y="4008600"/>
            <a:ext cx="7543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04813-0F63-4EBF-9489-41718673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7543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402920" y="4008600"/>
            <a:ext cx="7543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26B23-397D-40FE-AE23-24AD175BC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26860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402920" y="400860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268600" y="400860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96D2E-FFEB-47BD-A038-296158591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953520" y="170028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504480" y="170028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402920" y="400860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953520" y="400860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504480" y="400860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E163C-6D14-4EF2-BE3B-44D761CBD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6BA7-0F3D-4758-9B3C-DB407A193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3681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68600" y="1700280"/>
            <a:ext cx="3681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3B7A-5081-40C5-A5DB-39C61B739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1E5C-0FF6-4DC8-9D46-0BA5D8C4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7115-7A51-4AD2-9026-81532AF1E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68600" y="1700280"/>
            <a:ext cx="3681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02920" y="400860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41AB-3F2E-461D-B84A-459F9E68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3681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6860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268600" y="400860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B9C6-78EE-4C27-896B-54B5BC24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6860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402920" y="4008600"/>
            <a:ext cx="7543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1F6D-3B5E-4ABE-87D3-F6820E3F0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440" y="0"/>
            <a:ext cx="914544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V="1">
            <a:off x="0" y="1125000"/>
            <a:ext cx="9144000" cy="1800"/>
          </a:xfrm>
          <a:prstGeom prst="line">
            <a:avLst/>
          </a:prstGeom>
          <a:ln w="73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108000" y="1916280"/>
            <a:ext cx="552240" cy="62388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0"/>
            <a:ext cx="9144000" cy="11592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788160"/>
            <a:ext cx="9144000" cy="698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1402920" y="170028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218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6572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Gill Sans MT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" name="" descr=""/>
          <p:cNvPicPr/>
          <p:nvPr/>
        </p:nvPicPr>
        <p:blipFill>
          <a:blip r:embed="rId4"/>
          <a:stretch/>
        </p:blipFill>
        <p:spPr>
          <a:xfrm>
            <a:off x="76320" y="4292640"/>
            <a:ext cx="628560" cy="72072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/>
          <p:cNvPicPr/>
          <p:nvPr/>
        </p:nvPicPr>
        <p:blipFill>
          <a:blip r:embed="rId5"/>
          <a:stretch/>
        </p:blipFill>
        <p:spPr>
          <a:xfrm>
            <a:off x="90360" y="2708280"/>
            <a:ext cx="648000" cy="56664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gradFill rotWithShape="0">
            <a:gsLst>
              <a:gs pos="0">
                <a:srgbClr val="ff9900">
                  <a:alpha val="57254"/>
                </a:srgbClr>
              </a:gs>
              <a:gs pos="100000">
                <a:srgbClr val="ff9900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26920" y="1125360"/>
            <a:ext cx="0" cy="5399280"/>
          </a:xfrm>
          <a:prstGeom prst="line">
            <a:avLst/>
          </a:prstGeom>
          <a:ln w="69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900000" y="189000"/>
            <a:ext cx="8064720" cy="792000"/>
          </a:xfrm>
          <a:prstGeom prst="roundRect">
            <a:avLst>
              <a:gd name="adj" fmla="val 13426"/>
            </a:avLst>
          </a:prstGeom>
          <a:solidFill>
            <a:srgbClr val="ff9900">
              <a:alpha val="27000"/>
            </a:srgbClr>
          </a:solidFill>
          <a:ln cap="sq"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sldNum" idx="3"/>
          </p:nvPr>
        </p:nvSpPr>
        <p:spPr>
          <a:xfrm>
            <a:off x="6732720" y="61653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95919-84C6-43A9-B1DE-9371D703CF2A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89120" y="142920"/>
            <a:ext cx="8316720" cy="6626160"/>
          </a:xfrm>
          <a:prstGeom prst="rect">
            <a:avLst/>
          </a:prstGeom>
          <a:blipFill rotWithShape="0">
            <a:blip r:embed="rId2"/>
            <a:srcRect/>
            <a:stretch/>
          </a:blipFill>
          <a:ln cap="sq"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5440" cy="685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4360" y="115920"/>
            <a:ext cx="8964720" cy="404640"/>
          </a:xfrm>
          <a:prstGeom prst="rect">
            <a:avLst/>
          </a:prstGeom>
          <a:gradFill rotWithShape="0">
            <a:gsLst>
              <a:gs pos="0">
                <a:srgbClr val="ff9900">
                  <a:alpha val="78039"/>
                </a:srgbClr>
              </a:gs>
              <a:gs pos="100000">
                <a:srgbClr val="ff9900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950760" y="442440"/>
            <a:ext cx="8028000" cy="1800"/>
          </a:xfrm>
          <a:prstGeom prst="line">
            <a:avLst/>
          </a:prstGeom>
          <a:ln w="73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108000" y="1916280"/>
            <a:ext cx="552240" cy="6238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0"/>
            <a:ext cx="9144000" cy="11592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788160"/>
            <a:ext cx="9144000" cy="698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body"/>
          </p:nvPr>
        </p:nvSpPr>
        <p:spPr>
          <a:xfrm>
            <a:off x="1402920" y="170028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1218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6572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Gill Sans MT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76320" y="4292640"/>
            <a:ext cx="628560" cy="720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90360" y="2708280"/>
            <a:ext cx="64800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826920" y="1125360"/>
            <a:ext cx="0" cy="5542200"/>
          </a:xfrm>
          <a:prstGeom prst="line">
            <a:avLst/>
          </a:prstGeom>
          <a:ln w="69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6732720" y="61653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6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525CB-B737-4FDC-940A-7004D063F20C}" type="slidenum">
              <a:rPr b="0" lang="es-ES" sz="16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esuslau.com/" TargetMode="External"/><Relationship Id="rId2" Type="http://schemas.openxmlformats.org/officeDocument/2006/relationships/hyperlink" Target="http://www.uv.mx/usbi_ver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908000" y="4076640"/>
            <a:ext cx="5702400" cy="2376720"/>
          </a:xfrm>
          <a:prstGeom prst="rect">
            <a:avLst/>
          </a:prstGeom>
          <a:gradFill rotWithShape="0">
            <a:gsLst>
              <a:gs pos="0">
                <a:srgbClr val="ff9933">
                  <a:alpha val="41176"/>
                </a:srgbClr>
              </a:gs>
              <a:gs pos="50000">
                <a:srgbClr val="ffcc66">
                  <a:alpha val="29019"/>
                </a:srgbClr>
              </a:gs>
              <a:gs pos="100000">
                <a:srgbClr val="ff9933">
                  <a:alpha val="41176"/>
                </a:srgbClr>
              </a:gs>
            </a:gsLst>
            <a:lin ang="5400000"/>
          </a:gra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39840" y="838080"/>
            <a:ext cx="7543800" cy="2743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33">
                  <a:alpha val="41176"/>
                </a:srgbClr>
              </a:gs>
              <a:gs pos="50000">
                <a:srgbClr val="ffcc66">
                  <a:alpha val="29019"/>
                </a:srgbClr>
              </a:gs>
              <a:gs pos="100000">
                <a:srgbClr val="ff9933">
                  <a:alpha val="41176"/>
                </a:srgbClr>
              </a:gs>
            </a:gsLst>
            <a:lin ang="5400000"/>
          </a:gradFill>
          <a:ln w="414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114264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Arial"/>
              </a:rPr>
              <a:t>How to Create an Institutional Infolit Program</a:t>
            </a:r>
            <a:br>
              <a:rPr sz="2000"/>
            </a:br>
            <a:r>
              <a:rPr b="1" lang="en-GB" sz="2000" spc="-1" strike="noStrike">
                <a:solidFill>
                  <a:srgbClr val="cc6600"/>
                </a:solidFill>
                <a:latin typeface="Arial"/>
              </a:rPr>
              <a:t>( Based on the IFLA Information Literacy Guidelines)</a:t>
            </a:r>
            <a:br>
              <a:rPr sz="2800"/>
            </a:br>
            <a:br>
              <a:rPr sz="2800"/>
            </a:br>
            <a:r>
              <a:rPr b="0" lang="es-MX" sz="4000" spc="-1" strike="noStrike" u="sng">
                <a:solidFill>
                  <a:srgbClr val="cc0000"/>
                </a:solidFill>
                <a:uFillTx/>
                <a:latin typeface="Arial"/>
              </a:rPr>
              <a:t>5. Action Plan</a:t>
            </a:r>
            <a:endParaRPr b="0" lang="en-US" sz="40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402920" y="4076280"/>
            <a:ext cx="672948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Gill Sans MT"/>
              </a:rPr>
              <a:t>Jesús Lau, Ph.D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 u="sng">
                <a:solidFill>
                  <a:srgbClr val="cc0000"/>
                </a:solidFill>
                <a:uFillTx/>
                <a:latin typeface="Gill Sans MT"/>
                <a:hlinkClick r:id="rId1"/>
              </a:rPr>
              <a:t>www.jesuslau.com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Director, USBI Veracruz  Library, and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UV Virtual Library Coordinator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Veracruz, México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 u="sng">
                <a:solidFill>
                  <a:srgbClr val="cc0000"/>
                </a:solidFill>
                <a:uFillTx/>
                <a:latin typeface="Gill Sans MT"/>
                <a:hlinkClick r:id="rId2"/>
              </a:rPr>
              <a:t>www.uv.mx/usbi_ver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 u="sng">
                <a:solidFill>
                  <a:srgbClr val="000000"/>
                </a:solidFill>
                <a:uFillTx/>
                <a:latin typeface="Gill Sans MT"/>
              </a:rPr>
              <a:t>www.uv.mx/bvirtua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1C094-27CD-4CF4-A50B-6670E06726A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35120" y="536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Actions</a:t>
            </a:r>
            <a:r>
              <a:rPr b="1" lang="es-ES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endParaRPr b="0" lang="en-US" sz="37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258560" y="1989000"/>
            <a:ext cx="72738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3300"/>
                </a:solidFill>
                <a:latin typeface="Arial"/>
                <a:ea typeface="Times New Roman"/>
              </a:rPr>
              <a:t>State the different actions required to achieve each goal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3300"/>
                </a:solidFill>
                <a:latin typeface="Arial"/>
                <a:ea typeface="Times New Roman"/>
              </a:rPr>
              <a:t>List one action or several, but try to be brief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3300"/>
                </a:solidFill>
                <a:latin typeface="Arial"/>
                <a:ea typeface="Times New Roman"/>
              </a:rPr>
              <a:t>Write actions in the order they need to be complete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B5F0-A7EB-4204-BB6C-54B0F30062B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55640" y="43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Resources / Requirements </a:t>
            </a:r>
            <a:endParaRPr b="0" lang="en-US" sz="37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1483920"/>
            <a:ext cx="7759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  <a:ea typeface="Times New Roman"/>
              </a:rPr>
              <a:t>Make a separate list of titles of actions, without any detai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  <a:ea typeface="Times New Roman"/>
              </a:rPr>
              <a:t>Quantify under each action the number and type of human resources requir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  <a:ea typeface="Times New Roman"/>
              </a:rPr>
              <a:t>Describe your physical requirements, such as a classroom, office space, furniture, equipment, etc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  <a:ea typeface="Times New Roman"/>
              </a:rPr>
              <a:t>Describe the methodologies, training and management that you need to carry out your ac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B3B2-FCC0-4507-884C-CA0BFA5D21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35120" y="43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Budge</a:t>
            </a:r>
            <a:r>
              <a:rPr b="1" lang="es-ES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t</a:t>
            </a:r>
            <a:endParaRPr b="0" lang="en-US" sz="37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6920" y="14839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993300"/>
                </a:solidFill>
                <a:latin typeface="Arial"/>
                <a:ea typeface="Times New Roman"/>
              </a:rPr>
              <a:t>Estimate your cost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993300"/>
                </a:solidFill>
                <a:latin typeface="Arial"/>
                <a:ea typeface="Times New Roman"/>
              </a:rPr>
              <a:t>Be flexible in estimating cost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3300"/>
                </a:solidFill>
                <a:latin typeface="Arial"/>
                <a:ea typeface="Times New Roman"/>
              </a:rPr>
              <a:t>Figures determine how much funding the IL program need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3300"/>
                </a:solidFill>
                <a:latin typeface="Arial"/>
                <a:ea typeface="Times New Roman"/>
              </a:rPr>
              <a:t>Budget information determines the feasibility of the IL objectives and goa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43F4-4B83-4CB7-A44A-01E2D044822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35120" y="43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Timetable</a:t>
            </a:r>
            <a:r>
              <a:rPr b="1" lang="es-ES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endParaRPr b="0" lang="en-US" sz="37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6920" y="170028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3300"/>
                </a:solidFill>
                <a:latin typeface="Arial"/>
                <a:ea typeface="Times New Roman"/>
              </a:rPr>
              <a:t>Create a matrix listing objectives subdivided by goals followed by the specific actions necessary to complete each goa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3300"/>
                </a:solidFill>
                <a:latin typeface="Arial"/>
                <a:ea typeface="Times New Roman"/>
              </a:rPr>
              <a:t>Create columns for time units (days, weeks, months, years)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3300"/>
                </a:solidFill>
                <a:latin typeface="Arial"/>
                <a:ea typeface="Times New Roman"/>
              </a:rPr>
              <a:t>Mark the date cell that corresponds to the expected start and/or finish date for each ac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3300"/>
                </a:solidFill>
                <a:latin typeface="Arial"/>
                <a:ea typeface="Times New Roman"/>
              </a:rPr>
              <a:t>Different colors could be used to mark beginning and ending date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3ECE-EA7E-4EAC-A76D-262D10BC0C8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059280" y="4986360"/>
            <a:ext cx="3727440" cy="96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200" rIns="61200" tIns="30600" bIns="30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pportunitie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allenges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ternal environment sc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042920" y="1773360"/>
            <a:ext cx="7844040" cy="3063240"/>
            <a:chOff x="1042920" y="1773360"/>
            <a:chExt cx="7844040" cy="3063240"/>
          </a:xfrm>
        </p:grpSpPr>
        <p:sp>
          <p:nvSpPr>
            <p:cNvPr id="114" name=""/>
            <p:cNvSpPr/>
            <p:nvPr/>
          </p:nvSpPr>
          <p:spPr>
            <a:xfrm>
              <a:off x="1611360" y="2609640"/>
              <a:ext cx="6667560" cy="2226960"/>
            </a:xfrm>
            <a:prstGeom prst="rect">
              <a:avLst/>
            </a:prstGeom>
            <a:solidFill>
              <a:srgbClr val="ffcc00">
                <a:alpha val="2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894800" y="2760480"/>
              <a:ext cx="992160" cy="1763280"/>
            </a:xfrm>
            <a:custGeom>
              <a:avLst/>
              <a:gdLst>
                <a:gd name="textAreaLeft" fmla="*/ 48240 w 992160"/>
                <a:gd name="textAreaRight" fmla="*/ 943920 w 992160"/>
                <a:gd name="textAreaTop" fmla="*/ 48240 h 1763280"/>
                <a:gd name="textAreaBottom" fmla="*/ 1715040 h 1763280"/>
              </a:gdLst>
              <a:ahLst/>
              <a:rect l="textAreaLeft" t="textAreaTop" r="textAreaRight" b="textAreaBottom"/>
              <a:pathLst>
                <a:path w="21600" h="38382">
                  <a:moveTo>
                    <a:pt x="3600" y="0"/>
                  </a:moveTo>
                  <a:arcTo wR="3600" hR="3600" stAng="16200000" swAng="-5400000"/>
                  <a:lnTo>
                    <a:pt x="0" y="34782"/>
                  </a:lnTo>
                  <a:arcTo wR="3600" hR="3600" stAng="10800000" swAng="-5400000"/>
                  <a:lnTo>
                    <a:pt x="18000" y="3838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00">
                <a:alpha val="49000"/>
              </a:srgbClr>
            </a:solidFill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1200" rIns="612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Vi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600440" y="3228840"/>
              <a:ext cx="1135080" cy="941040"/>
            </a:xfrm>
            <a:prstGeom prst="ellipse">
              <a:avLst/>
            </a:prstGeom>
            <a:solidFill>
              <a:srgbClr val="ff9900">
                <a:alpha val="49000"/>
              </a:srgbClr>
            </a:solidFill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1200" rIns="612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Ac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"/>
                </a:rPr>
                <a:t>Program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449520" y="3190680"/>
              <a:ext cx="1076400" cy="990360"/>
            </a:xfrm>
            <a:prstGeom prst="ellipse">
              <a:avLst/>
            </a:prstGeom>
            <a:solidFill>
              <a:srgbClr val="ff9900">
                <a:alpha val="49000"/>
              </a:srgbClr>
            </a:solidFill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1200" rIns="612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"/>
                </a:rPr>
                <a:t>Goa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"/>
                </a:rPr>
                <a:t>o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"/>
                </a:rPr>
                <a:t>objectiv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24080" y="3305160"/>
              <a:ext cx="1138320" cy="744120"/>
            </a:xfrm>
            <a:prstGeom prst="ellipse">
              <a:avLst/>
            </a:prstGeom>
            <a:solidFill>
              <a:srgbClr val="ff9900">
                <a:alpha val="49000"/>
              </a:srgbClr>
            </a:solidFill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1200" rIns="612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Objectiv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42920" y="2789280"/>
              <a:ext cx="1033560" cy="1733040"/>
            </a:xfrm>
            <a:custGeom>
              <a:avLst/>
              <a:gdLst>
                <a:gd name="textAreaLeft" fmla="*/ 50400 w 1033560"/>
                <a:gd name="textAreaRight" fmla="*/ 983160 w 1033560"/>
                <a:gd name="textAreaTop" fmla="*/ 50400 h 1733040"/>
                <a:gd name="textAreaBottom" fmla="*/ 1682640 h 1733040"/>
              </a:gdLst>
              <a:ahLst/>
              <a:rect l="textAreaLeft" t="textAreaTop" r="textAreaRight" b="textAreaBottom"/>
              <a:pathLst>
                <a:path w="21600" h="36213">
                  <a:moveTo>
                    <a:pt x="3600" y="0"/>
                  </a:moveTo>
                  <a:arcTo wR="3600" hR="3600" stAng="16200000" swAng="-5400000"/>
                  <a:lnTo>
                    <a:pt x="0" y="32613"/>
                  </a:lnTo>
                  <a:arcTo wR="3600" hR="3600" stAng="10800000" swAng="-5400000"/>
                  <a:lnTo>
                    <a:pt x="18000" y="3621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00">
                <a:alpha val="49000"/>
              </a:srgbClr>
            </a:solidFill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1200" rIns="612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Mis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"/>
                </a:rPr>
                <a:t>Valu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56280" y="3751200"/>
              <a:ext cx="1695600" cy="864720"/>
            </a:xfrm>
            <a:prstGeom prst="ellipse">
              <a:avLst/>
            </a:prstGeom>
            <a:solidFill>
              <a:srgbClr val="ff9900">
                <a:alpha val="49000"/>
              </a:srgbClr>
            </a:solidFill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1200" rIns="612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Costs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"/>
                </a:rPr>
                <a:t>Budg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56280" y="2738160"/>
              <a:ext cx="1731960" cy="1176120"/>
            </a:xfrm>
            <a:prstGeom prst="ellipse">
              <a:avLst/>
            </a:prstGeom>
            <a:solidFill>
              <a:srgbClr val="ff9900">
                <a:alpha val="49000"/>
              </a:srgbClr>
            </a:solidFill>
            <a:ln cap="sq"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1200" rIns="612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"/>
                </a:rPr>
                <a:t>Resources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"/>
                </a:rPr>
                <a:t>Huma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Economic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Arial"/>
                </a:rPr>
                <a:t>Facilitie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365640" y="2760480"/>
              <a:ext cx="1352520" cy="34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200" rIns="61200" tIns="30600" bIns="30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Evalua</a:t>
              </a:r>
              <a:r>
                <a:rPr b="1" i="1" lang="es-ES" sz="14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r>
                <a:rPr b="1" lang="es-ES" sz="1400" spc="-1" strike="noStrike">
                  <a:solidFill>
                    <a:srgbClr val="000000"/>
                  </a:solidFill>
                  <a:latin typeface="Arial"/>
                </a:rPr>
                <a:t>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3" name=""/>
            <p:cNvCxnSpPr/>
            <p:nvPr/>
          </p:nvCxnSpPr>
          <p:spPr>
            <a:xfrm flipH="1" flipV="1" rot="5400000">
              <a:off x="4931280" y="1191240"/>
              <a:ext cx="33840" cy="6628680"/>
            </a:xfrm>
            <a:prstGeom prst="bentConnector3">
              <a:avLst>
                <a:gd name="adj1" fmla="val -804301"/>
              </a:avLst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24" name=""/>
            <p:cNvCxnSpPr/>
            <p:nvPr/>
          </p:nvCxnSpPr>
          <p:spPr>
            <a:xfrm flipH="1" flipV="1" rot="5400000">
              <a:off x="4893120" y="-444240"/>
              <a:ext cx="64080" cy="6628320"/>
            </a:xfrm>
            <a:prstGeom prst="bentConnector3">
              <a:avLst>
                <a:gd name="adj1" fmla="val 528248"/>
              </a:avLst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125" name=""/>
            <p:cNvCxnSpPr>
              <a:stCxn id="119" idx="3"/>
              <a:endCxn id="118" idx="2"/>
            </p:cNvCxnSpPr>
            <p:nvPr/>
          </p:nvCxnSpPr>
          <p:spPr>
            <a:xfrm>
              <a:off x="2097000" y="3655440"/>
              <a:ext cx="107280" cy="22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6" name=""/>
            <p:cNvCxnSpPr>
              <a:stCxn id="117" idx="6"/>
              <a:endCxn id="116" idx="2"/>
            </p:cNvCxnSpPr>
            <p:nvPr/>
          </p:nvCxnSpPr>
          <p:spPr>
            <a:xfrm>
              <a:off x="4546080" y="3685680"/>
              <a:ext cx="34200" cy="14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7" name=""/>
            <p:cNvCxnSpPr>
              <a:stCxn id="116" idx="6"/>
              <a:endCxn id="121" idx="2"/>
            </p:cNvCxnSpPr>
            <p:nvPr/>
          </p:nvCxnSpPr>
          <p:spPr>
            <a:xfrm flipV="1">
              <a:off x="5756400" y="3326760"/>
              <a:ext cx="280080" cy="373680"/>
            </a:xfrm>
            <a:prstGeom prst="bentConnector3">
              <a:avLst>
                <a:gd name="adj1" fmla="val 4993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16" idx="6"/>
              <a:endCxn id="120" idx="2"/>
            </p:cNvCxnSpPr>
            <p:nvPr/>
          </p:nvCxnSpPr>
          <p:spPr>
            <a:xfrm>
              <a:off x="5756400" y="3700080"/>
              <a:ext cx="280080" cy="482760"/>
            </a:xfrm>
            <a:prstGeom prst="bentConnector3">
              <a:avLst>
                <a:gd name="adj1" fmla="val 49935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9" name=""/>
            <p:cNvSpPr/>
            <p:nvPr/>
          </p:nvSpPr>
          <p:spPr>
            <a:xfrm>
              <a:off x="7608960" y="3687480"/>
              <a:ext cx="26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124000" y="1773360"/>
              <a:ext cx="5688000" cy="60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200" rIns="61200" tIns="30600" bIns="306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993300"/>
                  </a:solidFill>
                  <a:latin typeface="Arial"/>
                </a:rPr>
                <a:t>Strengths and weaknes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993300"/>
                  </a:solidFill>
                  <a:latin typeface="Arial"/>
                </a:rPr>
                <a:t>I</a:t>
              </a:r>
              <a:r>
                <a:rPr b="1" lang="es-MX" sz="2000" spc="-1" strike="noStrike">
                  <a:solidFill>
                    <a:srgbClr val="993300"/>
                  </a:solidFill>
                  <a:latin typeface="Arial"/>
                </a:rPr>
                <a:t>nternal environ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2627280" y="333360"/>
            <a:ext cx="43927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Strategic Plan</a:t>
            </a:r>
            <a:r>
              <a:rPr b="1" lang="es-ES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D1BD-B80B-482F-8AC7-878814946B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63480" y="536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Misión</a:t>
            </a:r>
            <a:r>
              <a:rPr b="1" lang="es-ES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endParaRPr b="0" lang="en-US" sz="37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6920" y="1483920"/>
            <a:ext cx="7543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  <a:ea typeface="Times New Roman"/>
              </a:rPr>
              <a:t>Incluir definición institucional y propia de habilidades informativas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  <a:ea typeface="Times New Roman"/>
              </a:rPr>
              <a:t>Cumplir con las normas establecidas por la biblioteca en materia de DHI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  <a:ea typeface="Times New Roman"/>
              </a:rPr>
              <a:t>Aplicar la misión de la Institución y de la bibliotec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  <a:ea typeface="Times New Roman"/>
              </a:rPr>
              <a:t>Enfatizar ql qué? Por encima del por qué? Y cuál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  <a:ea typeface="Times New Roman"/>
              </a:rPr>
              <a:t>Estimular la participación de los diferentes miembros de la comunidad:bibliotecarios y personal administrativ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56F26-1C08-40B3-AC6A-AC2E96DCAE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63480" y="536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Vision</a:t>
            </a:r>
            <a:endParaRPr b="0" lang="en-US" sz="37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204560" y="1916280"/>
            <a:ext cx="7543800" cy="420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  <a:ea typeface="Times New Roman"/>
              </a:rPr>
              <a:t>Incluir expectativas a largo plazo e incluirlas en el programa de Información documenta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  <a:ea typeface="Times New Roman"/>
              </a:rPr>
              <a:t>Escribir en lenguaje simple y concis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  <a:ea typeface="Times New Roman"/>
              </a:rPr>
              <a:t>Enfatizar los resultados por encima de la forma de lograrlo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7F1D-608D-48C2-BD53-CC682AD2D90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Justificación</a:t>
            </a:r>
            <a:r>
              <a:rPr b="1" lang="es-ES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endParaRPr b="0" lang="en-US" sz="37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258920" y="1844280"/>
            <a:ext cx="7688160" cy="42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  <a:ea typeface="Times New Roman"/>
              </a:rPr>
              <a:t>La justificación describe las razones,necesidades y beneficios de crear un programa de DHI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  <a:ea typeface="Times New Roman"/>
              </a:rPr>
              <a:t>La extensión de esta sección puede ser de una página o más. Es crucial convencer a los participantes para crear el IL program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  <a:ea typeface="Times New Roman"/>
              </a:rPr>
              <a:t>La sección de justificación incluye:</a:t>
            </a:r>
            <a:r>
              <a:rPr b="0" lang="es-ES" sz="2800" spc="-1" strike="noStrike">
                <a:solidFill>
                  <a:srgbClr val="9933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AAC8-D163-4F9E-9FB3-FE7BFC3AF3E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90400" y="536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Puntos fuertes y débiles</a:t>
            </a:r>
            <a:endParaRPr b="0" lang="en-US" sz="37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02920" y="1484280"/>
            <a:ext cx="7543800" cy="46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  <a:ea typeface="Times New Roman"/>
              </a:rPr>
              <a:t>Listar los factores positivos de la bibliotec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  <a:ea typeface="Times New Roman"/>
              </a:rPr>
              <a:t>Análisis humano, economico y físico de la bibliotec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  <a:ea typeface="Times New Roman"/>
              </a:rPr>
              <a:t>Include the challenges that the library has or may face in IL pursuits on a separate lis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  <a:ea typeface="Times New Roman"/>
              </a:rPr>
              <a:t>Evaluate your weaknesses in terms of human, economic and physical resources available in the library for the IL progra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Arial"/>
                <a:ea typeface="Times New Roman"/>
              </a:rPr>
              <a:t>Write with positive statements, assuming that problems are opportunities for growt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1A9E-C319-4465-ACC1-5440F1DE007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Environmental Scan</a:t>
            </a:r>
            <a:endParaRPr b="0" lang="en-US" sz="37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7280" y="1773360"/>
            <a:ext cx="75600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  <a:ea typeface="Times New Roman"/>
              </a:rPr>
              <a:t>List the institutional factors that can help or limit the progra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  <a:ea typeface="Times New Roman"/>
              </a:rPr>
              <a:t>Evaluate the external factors to your parent organization can contribute or reduce the possibilities of a successful information literacy progra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3300"/>
                </a:solidFill>
                <a:latin typeface="Arial"/>
                <a:ea typeface="Times New Roman"/>
              </a:rPr>
              <a:t>Write the texts using positive langu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1501-3DCC-400D-874D-3E20D582CA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Strategies</a:t>
            </a:r>
            <a:endParaRPr b="0" lang="en-US" sz="37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6920" y="1916280"/>
            <a:ext cx="7759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  <a:ea typeface="Times New Roman"/>
              </a:rPr>
              <a:t>Budgetary strategies that you will use to fund the program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  <a:ea typeface="Times New Roman"/>
              </a:rPr>
              <a:t>Descriptions of the efficient and effective strategies that you will apply to achieve the IL pla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  <a:ea typeface="Times New Roman"/>
              </a:rPr>
              <a:t>Relevant management principles that you have for the administration of the librar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7189-97B2-4664-BF07-33CEF35FCF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19120" y="536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Objectives and Goals</a:t>
            </a:r>
            <a:r>
              <a:rPr b="1" lang="es-ES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endParaRPr b="0" lang="en-US" sz="37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6000" y="1483920"/>
            <a:ext cx="7704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  <a:ea typeface="Times New Roman"/>
              </a:rPr>
              <a:t>Each goal could be divided into general and specific goals depending on the details that you may need or want to specif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  <a:ea typeface="Times New Roman"/>
              </a:rPr>
              <a:t>Under each objective you should state the goal or goals that you will achiev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Arial"/>
                <a:ea typeface="Times New Roman"/>
              </a:rPr>
              <a:t>Goals should be specific, on the other hand, keeping in mind and focused on the learning outcomes that you feel should be achieved by all the students, thereby maintaining a student-centered approach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187D-D6DB-41D9-8396-2E1D6CEBA3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17:36:22Z</dcterms:created>
  <dc:creator>guardar</dc:creator>
  <dc:description/>
  <dc:language>en-US</dc:language>
  <cp:lastModifiedBy>Prácticas BiV / USBI VER</cp:lastModifiedBy>
  <dcterms:modified xsi:type="dcterms:W3CDTF">2007-11-29T19:04:04Z</dcterms:modified>
  <cp:revision>187</cp:revision>
  <dc:subject/>
  <dc:title>Presentación de PowerPoint</dc:title>
</cp:coreProperties>
</file>