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E6430-A6FE-4E15-9FFE-01A9D960539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BBD43-4D6C-43EF-8C88-727F0278354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C72E1-0E4A-43B4-B222-3C3C5360128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52C2-5A1C-480F-959E-A0A902FBE17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5186-107D-4611-AA85-3B72D93D5D7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5DC0-2058-4372-B396-536791F2FB6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C219-E9BF-48D9-AB5C-861E7FF0FD8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11EF-16F9-44F6-9EC0-52D316A3779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0F9D6-F444-4931-AE3A-7718966CFBF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9BD79-B353-4B95-A735-2AFF9F7B17F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7208-C752-41E1-AA74-449E76F4A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402920" y="400860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63A3-0A01-4714-8963-B4F425CFA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26860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7CB9-6476-49B1-AE8A-CABC9CC52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95352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50448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40292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95352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50448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885B-FDCD-4CC3-8225-C726FF2D1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58439-5D14-40F4-9AFF-82F511B2B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8C2E-EFE9-46D2-A67E-F6C8A00E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300F4-10DE-4939-9C51-F6177CC00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810C-FB9E-4C7A-8560-4E4AAEBCA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3CC0C-DAC6-4335-B170-ED95B2844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3F0E1-415A-4346-B338-230CACB6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DC92-B807-457F-84EB-D3353D20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47E5-9131-4C18-AD54-9F736493E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26860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6AD4-6C44-4830-A027-D554E6AD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86B9-6F2C-4495-8084-974DB059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402920" y="400860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D7E3-26C7-41A0-B13C-E8F2CAAB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26860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89C39-DD6F-4EAA-BC81-942E9C434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95352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50448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40292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95352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50448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47E4-ABE2-4A5E-9947-C9368E4FC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0DEA-AA2C-4033-9555-AF641F5C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C53F-6EDB-4A8E-8232-F32D3A2D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C6DF-D5B8-402E-84BE-F590946E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693C-62F1-4E3D-B6B3-40BD3AA1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427C-C4F1-41B5-A98A-91A5469E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26860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126C-8C51-41B4-8F4A-C5F067743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DF01-DBBC-4F07-8AFA-A15CFD27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440" y="0"/>
            <a:ext cx="91454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V="1">
            <a:off x="0" y="1125000"/>
            <a:ext cx="9144000" cy="1800"/>
          </a:xfrm>
          <a:prstGeom prst="line">
            <a:avLst/>
          </a:prstGeom>
          <a:ln w="73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108000" y="1916280"/>
            <a:ext cx="552240" cy="6238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0"/>
            <a:ext cx="9144000" cy="1159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218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6572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4"/>
          <a:stretch/>
        </p:blipFill>
        <p:spPr>
          <a:xfrm>
            <a:off x="76320" y="4292640"/>
            <a:ext cx="628560" cy="72072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5"/>
          <a:stretch/>
        </p:blipFill>
        <p:spPr>
          <a:xfrm>
            <a:off x="90360" y="2708280"/>
            <a:ext cx="648000" cy="56664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gradFill rotWithShape="0">
            <a:gsLst>
              <a:gs pos="0">
                <a:srgbClr val="ff9900">
                  <a:alpha val="57254"/>
                </a:srgbClr>
              </a:gs>
              <a:gs pos="100000">
                <a:srgbClr val="ff9900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26920" y="1125360"/>
            <a:ext cx="0" cy="5399280"/>
          </a:xfrm>
          <a:prstGeom prst="line">
            <a:avLst/>
          </a:prstGeom>
          <a:ln w="69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900000" y="189000"/>
            <a:ext cx="8064720" cy="792000"/>
          </a:xfrm>
          <a:prstGeom prst="roundRect">
            <a:avLst>
              <a:gd name="adj" fmla="val 13426"/>
            </a:avLst>
          </a:prstGeom>
          <a:solidFill>
            <a:srgbClr val="ff9900">
              <a:alpha val="27000"/>
            </a:srgbClr>
          </a:solid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91E8-A526-4344-8E00-6B529029645D}" type="slidenum">
              <a:rPr b="1" lang="es-E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89120" y="142920"/>
            <a:ext cx="8316720" cy="6626160"/>
          </a:xfrm>
          <a:prstGeom prst="rect">
            <a:avLst/>
          </a:prstGeom>
          <a:blipFill rotWithShape="0">
            <a:blip r:embed="rId2"/>
            <a:srcRect/>
            <a:stretch/>
          </a:blip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5440" cy="685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360" y="115920"/>
            <a:ext cx="8964720" cy="404640"/>
          </a:xfrm>
          <a:prstGeom prst="rect">
            <a:avLst/>
          </a:prstGeom>
          <a:gradFill rotWithShape="0">
            <a:gsLst>
              <a:gs pos="0">
                <a:srgbClr val="ff9900">
                  <a:alpha val="78039"/>
                </a:srgbClr>
              </a:gs>
              <a:gs pos="100000">
                <a:srgbClr val="ff9900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950760" y="442440"/>
            <a:ext cx="8028000" cy="1800"/>
          </a:xfrm>
          <a:prstGeom prst="line">
            <a:avLst/>
          </a:prstGeom>
          <a:ln w="73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08000" y="1916280"/>
            <a:ext cx="552240" cy="623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9144000" cy="1159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18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6572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76320" y="4292640"/>
            <a:ext cx="628560" cy="720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90360" y="2708280"/>
            <a:ext cx="64800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26920" y="1125360"/>
            <a:ext cx="0" cy="5542200"/>
          </a:xfrm>
          <a:prstGeom prst="line">
            <a:avLst/>
          </a:prstGeom>
          <a:ln w="69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0189-BFE3-423A-BFB9-3CE40BF3B69E}" type="slidenum">
              <a:rPr b="1" lang="es-E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03280" y="836640"/>
            <a:ext cx="7201080" cy="2879640"/>
          </a:xfrm>
          <a:prstGeom prst="roundRect">
            <a:avLst>
              <a:gd name="adj" fmla="val 16667"/>
            </a:avLst>
          </a:prstGeom>
          <a:solidFill>
            <a:srgbClr val="ff9900">
              <a:alpha val="27000"/>
            </a:srgbClr>
          </a:solid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80880" y="927000"/>
            <a:ext cx="7467480" cy="2286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99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Arial"/>
              </a:rPr>
              <a:t>How to Create an Institutional Infolit Program</a:t>
            </a:r>
            <a:br>
              <a:rPr sz="1800"/>
            </a:br>
            <a:r>
              <a:rPr b="1" lang="en-GB" sz="1800" spc="-1" strike="noStrike">
                <a:solidFill>
                  <a:srgbClr val="cc6600"/>
                </a:solidFill>
                <a:latin typeface="Arial"/>
              </a:rPr>
              <a:t>( Based on the IFLA Information Literacy Guidelines)</a:t>
            </a:r>
            <a:br>
              <a:rPr sz="2400"/>
            </a:br>
            <a:br>
              <a:rPr sz="4000"/>
            </a:br>
            <a:r>
              <a:rPr b="1" lang="es-MX" sz="4000" spc="-1" strike="noStrike" u="sng">
                <a:solidFill>
                  <a:srgbClr val="cc0000"/>
                </a:solidFill>
                <a:uFillTx/>
                <a:latin typeface="Arial"/>
              </a:rPr>
              <a:t>3. InfoLit </a:t>
            </a:r>
            <a:br>
              <a:rPr sz="4000"/>
            </a:br>
            <a:r>
              <a:rPr b="1" lang="es-MX" sz="4000" spc="-1" strike="noStrike" u="sng">
                <a:solidFill>
                  <a:srgbClr val="cc0000"/>
                </a:solidFill>
                <a:uFillTx/>
                <a:latin typeface="Arial"/>
              </a:rPr>
              <a:t> International Standards</a:t>
            </a:r>
            <a:endParaRPr b="0" lang="en-US" sz="40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186920" y="41497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Gill Sans MT"/>
              </a:rPr>
              <a:t>Jesús Lau, Ph.D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www.jesuslau.com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Director, USBI Veracruz  Library, and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UV Virtual Library Coordinator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Veracruz, Méxic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000000"/>
                </a:solidFill>
                <a:uFillTx/>
                <a:latin typeface="Gill Sans MT"/>
              </a:rPr>
              <a:t>www.uv.mx/usbi_ver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000000"/>
                </a:solidFill>
                <a:uFillTx/>
                <a:latin typeface="Gill Sans MT"/>
              </a:rPr>
              <a:t>www.uv.mx/bvirtua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9B6D7-D606-4944-8A6C-A62F85BA3FF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71640" y="75960"/>
            <a:ext cx="7772400" cy="9745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Osaka"/>
              </a:rPr>
              <a:t>Information Literacy (ACRL)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523880"/>
            <a:ext cx="6781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Identify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 several types and formats of information resourc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onsider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costs and benefits of acquiring needed inform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Select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and use proper methods to recover and access inform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Extract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, register and handle information and its source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Assess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critically information and its sourc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onstruct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new concepts based on the processed informatio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information effectively, individually or in group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Respect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ethical and legal principles on access and use of informatio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ommunicate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intellectual products in compliance with bibliographic norm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3EEC-2D4D-4D10-814B-D25C525BA5F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209680" y="1371600"/>
            <a:ext cx="4953240" cy="5029200"/>
          </a:xfrm>
          <a:prstGeom prst="rect">
            <a:avLst/>
          </a:prstGeom>
          <a:gradFill rotWithShape="0">
            <a:gsLst>
              <a:gs pos="0">
                <a:srgbClr val="ff6600">
                  <a:alpha val="22352"/>
                </a:srgbClr>
              </a:gs>
              <a:gs pos="100000">
                <a:srgbClr val="fee6d6"/>
              </a:gs>
            </a:gsLst>
            <a:lin ang="5400000"/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526400"/>
            <a:ext cx="350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00"/>
                </a:solidFill>
                <a:latin typeface="Verdana"/>
                <a:ea typeface="Times New Roman"/>
              </a:rPr>
              <a:t>COMPE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1797120"/>
            <a:ext cx="3527640" cy="552240"/>
          </a:xfrm>
          <a:prstGeom prst="rect">
            <a:avLst/>
          </a:prstGeom>
          <a:solidFill>
            <a:srgbClr val="ff99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1.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Understand information.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Understand the structure of knowledge and inform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2482920"/>
            <a:ext cx="3527640" cy="552240"/>
          </a:xfrm>
          <a:prstGeom prst="rect">
            <a:avLst/>
          </a:prstGeom>
          <a:solidFill>
            <a:srgbClr val="ff99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2.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y Need.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Determine the nature of an information ne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3168720"/>
            <a:ext cx="3527640" cy="552240"/>
          </a:xfrm>
          <a:prstGeom prst="rect">
            <a:avLst/>
          </a:prstGeom>
          <a:solidFill>
            <a:srgbClr val="ff99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3.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Locate.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Work out effective strategies to search and find inform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3833640"/>
            <a:ext cx="3505320" cy="358920"/>
          </a:xfrm>
          <a:prstGeom prst="rect">
            <a:avLst/>
          </a:prstGeom>
          <a:solidFill>
            <a:srgbClr val="ff99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4.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Retrieve.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Retrieve information efficientl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95480" y="4245120"/>
            <a:ext cx="3505320" cy="360360"/>
          </a:xfrm>
          <a:prstGeom prst="rect">
            <a:avLst/>
          </a:prstGeom>
          <a:solidFill>
            <a:srgbClr val="ff99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5.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Assess.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yze and appraise inform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4702320"/>
            <a:ext cx="3505320" cy="360360"/>
          </a:xfrm>
          <a:prstGeom prst="rect">
            <a:avLst/>
          </a:prstGeom>
          <a:solidFill>
            <a:srgbClr val="ff99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6.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Use.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Put together, synthesize and use inform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895480" y="5159520"/>
            <a:ext cx="3505320" cy="504720"/>
          </a:xfrm>
          <a:prstGeom prst="rect">
            <a:avLst/>
          </a:prstGeom>
          <a:solidFill>
            <a:srgbClr val="ff99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7.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Communicate.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Properly spread the results of an intellectual produ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5715000"/>
            <a:ext cx="3505320" cy="360360"/>
          </a:xfrm>
          <a:prstGeom prst="rect">
            <a:avLst/>
          </a:prstGeom>
          <a:solidFill>
            <a:srgbClr val="ff99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8.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Ethics.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Respect intellectual property and copyrigh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304920"/>
            <a:ext cx="784872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Osaka"/>
              </a:rPr>
              <a:t>Information Competences - MX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26920" y="2565360"/>
            <a:ext cx="5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5640" y="35002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E230-85E7-444C-986C-A571BAF495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066680" y="2666880"/>
            <a:ext cx="1828800" cy="2264040"/>
          </a:xfrm>
          <a:prstGeom prst="rect">
            <a:avLst/>
          </a:prstGeom>
          <a:solidFill>
            <a:srgbClr val="f8f8f8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2361600"/>
            <a:ext cx="13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99"/>
                </a:solidFill>
                <a:latin typeface="Verdana"/>
                <a:ea typeface="Times New Roman"/>
              </a:rPr>
              <a:t>SCHOOLING 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55600" y="2854440"/>
            <a:ext cx="1658880" cy="199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Ph.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55600" y="3165480"/>
            <a:ext cx="1658880" cy="200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Mast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155600" y="3454560"/>
            <a:ext cx="1658880" cy="199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College Majo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55600" y="3741840"/>
            <a:ext cx="1658880" cy="199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Senior High School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55600" y="4029120"/>
            <a:ext cx="1658880" cy="200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Junior High School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55600" y="4317840"/>
            <a:ext cx="1658880" cy="2001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Ele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55600" y="4605480"/>
            <a:ext cx="1658880" cy="1998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Kinder Garde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527280" y="2819520"/>
            <a:ext cx="1219320" cy="2163600"/>
          </a:xfrm>
          <a:prstGeom prst="rect">
            <a:avLst/>
          </a:prstGeom>
          <a:solidFill>
            <a:srgbClr val="f8f8f8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79920" y="2437560"/>
            <a:ext cx="94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99"/>
                </a:solidFill>
                <a:latin typeface="Verdana"/>
                <a:ea typeface="Times New Roman"/>
              </a:rPr>
              <a:t>LEVELS</a:t>
            </a:r>
            <a:r>
              <a:rPr b="1" lang="es-MX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22680" y="3016080"/>
            <a:ext cx="1055520" cy="309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Avanz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46440" y="4079880"/>
            <a:ext cx="943200" cy="282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Medio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646440" y="4608360"/>
            <a:ext cx="943200" cy="2206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Básico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365800" y="1601640"/>
            <a:ext cx="3505320" cy="4491360"/>
          </a:xfrm>
          <a:prstGeom prst="rect">
            <a:avLst/>
          </a:prstGeom>
          <a:solidFill>
            <a:srgbClr val="f8f8f8"/>
          </a:solidFill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42040" y="1324800"/>
            <a:ext cx="180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99"/>
                </a:solidFill>
                <a:latin typeface="Verdana"/>
                <a:ea typeface="Times New Roman"/>
              </a:rPr>
              <a:t>COMPETE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76920" y="1600200"/>
            <a:ext cx="399960" cy="4729320"/>
          </a:xfrm>
          <a:custGeom>
            <a:avLst/>
            <a:gdLst>
              <a:gd name="textAreaLeft" fmla="*/ 255600 w 399960"/>
              <a:gd name="textAreaRight" fmla="*/ 400320 w 399960"/>
              <a:gd name="textAreaTop" fmla="*/ 123120 h 4729320"/>
              <a:gd name="textAreaBottom" fmla="*/ 4606200 h 472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71960" y="2460600"/>
            <a:ext cx="333360" cy="2797200"/>
          </a:xfrm>
          <a:custGeom>
            <a:avLst/>
            <a:gdLst>
              <a:gd name="textAreaLeft" fmla="*/ 213120 w 333360"/>
              <a:gd name="textAreaRight" fmla="*/ 333720 w 333360"/>
              <a:gd name="textAreaTop" fmla="*/ 72720 h 2797200"/>
              <a:gd name="textAreaBottom" fmla="*/ 2724480 h 279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86040" y="3546360"/>
            <a:ext cx="943200" cy="2826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Al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304920"/>
            <a:ext cx="7848720" cy="579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Osaka"/>
              </a:rPr>
              <a:t>Information Competences - MX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513400" y="1736640"/>
            <a:ext cx="3263760" cy="511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1.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Understand information.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Understand the structure of knowledge and inform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13400" y="2422440"/>
            <a:ext cx="3263760" cy="511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2.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Identify Need.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Determine the nature of an information ne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513400" y="3108240"/>
            <a:ext cx="3263760" cy="511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3.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Locate.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Work out effective strategies to search and find inform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513400" y="3759120"/>
            <a:ext cx="3241800" cy="331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4.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Retrieve.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Retrieve information efficientl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11960" y="4191120"/>
            <a:ext cx="3243240" cy="333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5.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Assess.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yze and appraise inform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11960" y="4618080"/>
            <a:ext cx="3243240" cy="333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6.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Use.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Put together, synthesize and use inform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14840" y="5086440"/>
            <a:ext cx="3240360" cy="466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7.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Communicate.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Properly spread the results of an intellectual produc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511960" y="5630760"/>
            <a:ext cx="3243240" cy="3333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8. </a:t>
            </a:r>
            <a:r>
              <a:rPr b="1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Ethics.  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Times New Roman"/>
              </a:rPr>
              <a:t>Respect intellectual property and copyrigh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BC4F-D549-44CC-8661-5C71D19816A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Osaka"/>
              </a:rPr>
              <a:t>Standards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Learning objectiv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Standard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Goa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IL actions gu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Qualitativ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C545-51DE-4C55-ABAB-F53EE43E4F2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Osaka"/>
              </a:rPr>
              <a:t>Standard Components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42640" y="14479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Standard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One for each expected skill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2. Performance indicato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As many as needed for every standard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3. Expected resul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(Several for each indicator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2741-7BCC-43E7-B51A-7A8A1615287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91960" y="134640"/>
            <a:ext cx="7700760" cy="99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Arial"/>
                <a:ea typeface="Times New Roman"/>
              </a:rPr>
              <a:t>Semantic Elements: IL Definitions</a:t>
            </a:r>
            <a:endParaRPr b="0" lang="en-US" sz="3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258920" y="1557000"/>
            <a:ext cx="739152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493560" indent="-49356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Need for inform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93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93560" indent="-49356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Locate inform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93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93560" indent="-49356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valuate and organize inform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93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93560" indent="-49356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Use inform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93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493560" indent="-49356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valuate process and produc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0DA7-D0AC-41AD-9EEC-E8C0BE44DED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Osaka"/>
              </a:rPr>
              <a:t>Countries with IL Standards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4264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USA (ACRL/AASL, US states standard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United Kingdom (CAUL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ustrali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Mexic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everal countries have adopted ACRL, and AASL standar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3524-FA01-426A-83E9-4D1A47C1A55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36520" y="189000"/>
            <a:ext cx="7467840" cy="853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Use of the Guidelines</a:t>
            </a:r>
            <a:r>
              <a:rPr b="1" lang="es-E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93" name=""/>
          <p:cNvSpPr/>
          <p:nvPr/>
        </p:nvSpPr>
        <p:spPr>
          <a:xfrm>
            <a:off x="2627280" y="1484280"/>
            <a:ext cx="4191120" cy="762120"/>
          </a:xfrm>
          <a:prstGeom prst="rect">
            <a:avLst/>
          </a:prstGeom>
          <a:solidFill>
            <a:srgbClr val="ff9900">
              <a:alpha val="27000"/>
            </a:srgbClr>
          </a:solid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A framework</a:t>
            </a:r>
            <a:r>
              <a:rPr b="0" lang="es-E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612880" y="2390760"/>
            <a:ext cx="4191120" cy="762120"/>
          </a:xfrm>
          <a:prstGeom prst="rect">
            <a:avLst/>
          </a:prstGeom>
          <a:solidFill>
            <a:srgbClr val="ff9900">
              <a:alpha val="27000"/>
            </a:srgbClr>
          </a:solid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Adapt to nation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and  institutional needs</a:t>
            </a:r>
            <a:r>
              <a:rPr b="0" lang="es-E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12880" y="3348000"/>
            <a:ext cx="4191120" cy="762120"/>
          </a:xfrm>
          <a:prstGeom prst="rect">
            <a:avLst/>
          </a:prstGeom>
          <a:solidFill>
            <a:srgbClr val="ff9900">
              <a:alpha val="27000"/>
            </a:srgbClr>
          </a:solid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Be flexible  in the appli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of guidelines</a:t>
            </a:r>
            <a:r>
              <a:rPr b="0" lang="es-E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12880" y="4251240"/>
            <a:ext cx="4191120" cy="990720"/>
          </a:xfrm>
          <a:prstGeom prst="rect">
            <a:avLst/>
          </a:prstGeom>
          <a:solidFill>
            <a:srgbClr val="ff9900">
              <a:alpha val="27000"/>
            </a:srgbClr>
          </a:solid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Begin or reinforc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previous 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literacy work</a:t>
            </a:r>
            <a:r>
              <a:rPr b="0" lang="es-E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12880" y="5481720"/>
            <a:ext cx="4191120" cy="761760"/>
          </a:xfrm>
          <a:prstGeom prst="rect">
            <a:avLst/>
          </a:prstGeom>
          <a:solidFill>
            <a:srgbClr val="ff9900">
              <a:alpha val="27000"/>
            </a:srgbClr>
          </a:solid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Do whatever you c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with the resources you have</a:t>
            </a:r>
            <a:r>
              <a:rPr b="0" lang="es-E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29240" y="2247840"/>
            <a:ext cx="0" cy="152640"/>
          </a:xfrm>
          <a:prstGeom prst="line">
            <a:avLst/>
          </a:prstGeom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94320" y="3132000"/>
            <a:ext cx="0" cy="228600"/>
          </a:xfrm>
          <a:prstGeom prst="line">
            <a:avLst/>
          </a:prstGeom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94320" y="4122720"/>
            <a:ext cx="0" cy="152280"/>
          </a:xfrm>
          <a:prstGeom prst="line">
            <a:avLst/>
          </a:prstGeom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29240" y="5272200"/>
            <a:ext cx="0" cy="228600"/>
          </a:xfrm>
          <a:prstGeom prst="line">
            <a:avLst/>
          </a:prstGeom>
          <a:ln cap="sq" w="284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E91A-8FFE-4CD1-A762-62436586C9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31640" y="61920"/>
            <a:ext cx="896472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0000"/>
                </a:solidFill>
                <a:latin typeface="Arial"/>
                <a:ea typeface="Times New Roman"/>
              </a:rPr>
              <a:t>Exercise: Work out your institutional IL definition</a:t>
            </a:r>
            <a:endParaRPr b="0" lang="en-US" sz="26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258920" y="1915920"/>
            <a:ext cx="7391520" cy="32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dapt, adopt or create the IL concept for your institu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hink about your library, your needs, goals and challenges regarding I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544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554400" indent="-55440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e clear, concise and objectiv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8E96-89B5-4A9C-8C93-06ABB6076F0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" name=""/>
          <p:cNvGrpSpPr/>
          <p:nvPr/>
        </p:nvGrpSpPr>
        <p:grpSpPr>
          <a:xfrm>
            <a:off x="1476000" y="1484280"/>
            <a:ext cx="6999840" cy="4068720"/>
            <a:chOff x="1476000" y="1484280"/>
            <a:chExt cx="6999840" cy="4068720"/>
          </a:xfrm>
        </p:grpSpPr>
        <p:sp>
          <p:nvSpPr>
            <p:cNvPr id="119" name=""/>
            <p:cNvSpPr/>
            <p:nvPr/>
          </p:nvSpPr>
          <p:spPr>
            <a:xfrm>
              <a:off x="1563840" y="1484280"/>
              <a:ext cx="138240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640" rIns="7164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10560" y="1484280"/>
              <a:ext cx="92520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640" rIns="7164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600" spc="-1" strike="noStrike">
                  <a:solidFill>
                    <a:srgbClr val="000000"/>
                  </a:solidFill>
                  <a:latin typeface="Arial"/>
                </a:rPr>
                <a:t>Use</a:t>
              </a:r>
              <a:r>
                <a:rPr b="1" lang="es-ES" sz="2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3995640" y="2276640"/>
              <a:ext cx="2176560" cy="3230280"/>
            </a:xfrm>
            <a:prstGeom prst="leftArrowCallout">
              <a:avLst>
                <a:gd name="adj1" fmla="val 29080"/>
                <a:gd name="adj2" fmla="val 26474"/>
                <a:gd name="adj3" fmla="val 13611"/>
                <a:gd name="adj4" fmla="val 81531"/>
              </a:avLst>
            </a:prstGeom>
            <a:solidFill>
              <a:srgbClr val="ff9900">
                <a:alpha val="27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cc0000"/>
                  </a:solidFill>
                  <a:uFillTx/>
                  <a:latin typeface="Arial"/>
                </a:rPr>
                <a:t>ASSESS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Analyz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Generaliz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Evalua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cc0000"/>
                  </a:solidFill>
                  <a:uFillTx/>
                  <a:latin typeface="Arial"/>
                </a:rPr>
                <a:t>ORGANIZ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Categoriz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Structu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Organiz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24360" y="1484280"/>
              <a:ext cx="2122560" cy="83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1640" rIns="71640" tIns="36000" bIns="36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</a:rPr>
                <a:t>Evaluation</a:t>
              </a:r>
              <a:r>
                <a:rPr b="1" lang="es-ES" sz="2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1475640" y="2276640"/>
              <a:ext cx="2103480" cy="3230280"/>
            </a:xfrm>
            <a:prstGeom prst="leftArrowCallout">
              <a:avLst>
                <a:gd name="adj1" fmla="val 30091"/>
                <a:gd name="adj2" fmla="val 27393"/>
                <a:gd name="adj3" fmla="val 13611"/>
                <a:gd name="adj4" fmla="val 81531"/>
              </a:avLst>
            </a:prstGeom>
            <a:solidFill>
              <a:srgbClr val="ff9900">
                <a:alpha val="27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cc0000"/>
                  </a:solidFill>
                  <a:uFillTx/>
                  <a:latin typeface="Arial"/>
                </a:rPr>
                <a:t>NE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Decid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Express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Initia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cc0000"/>
                  </a:solidFill>
                  <a:uFillTx/>
                  <a:latin typeface="Arial"/>
                </a:rPr>
                <a:t>LO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Searc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Selec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Retriev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516720" y="2349720"/>
              <a:ext cx="1959120" cy="3203280"/>
            </a:xfrm>
            <a:prstGeom prst="leftArrowCallout">
              <a:avLst>
                <a:gd name="adj1" fmla="val 32083"/>
                <a:gd name="adj2" fmla="val 29166"/>
                <a:gd name="adj3" fmla="val 0"/>
                <a:gd name="adj4" fmla="val 100009"/>
              </a:avLst>
            </a:prstGeom>
            <a:solidFill>
              <a:srgbClr val="ff9900">
                <a:alpha val="27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71280" rIns="71280" tIns="35640" bIns="35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cc0000"/>
                  </a:solidFill>
                  <a:uFillTx/>
                  <a:latin typeface="Arial"/>
                </a:rPr>
                <a:t>INFO U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Apply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Lear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Us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cc0000"/>
                  </a:solidFill>
                  <a:uFillTx/>
                  <a:latin typeface="Arial"/>
                </a:rPr>
                <a:t>COMMUNICA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Ethical u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Acknowledg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Style standard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1330200" y="333360"/>
            <a:ext cx="73454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IFLA - Standards</a:t>
            </a:r>
            <a:r>
              <a:rPr b="1" lang="es-E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FCA0-4876-46B6-BEB0-D820F06EC8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43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Access</a:t>
            </a:r>
            <a:r>
              <a:rPr b="1" lang="es-E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1.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Definition and articulation of the information need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Defines or recognizes the need for informatio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Decides to do something to find the inform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Express and defines the information ne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Initiates the search proces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2.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Location of inform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Identifies and evaluates potential sources of informatio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Develops search strategi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ccesses the selected information sourc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elects and retrieves the located inform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E20E-F257-4EF2-ABB5-9AB06918F34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26920" y="53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Evaluation</a:t>
            </a:r>
            <a:r>
              <a:rPr b="1" lang="es-E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3.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Assessment of informatio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nalyzes, examines, and extract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inform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Generalizes and interprets inform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elects and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synthesizes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inform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Evaluates accuracy and relevance of the retrieved inform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4.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Organization of information</a:t>
            </a:r>
            <a:r>
              <a:rPr b="1" lang="en-US" sz="20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rranges and categorizes inform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Groups and organizes the retrieved informatio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Determines which is the best and most useful informatio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0F5E-12F4-4D8D-A985-8EA213BA4F0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06400" y="-27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Use</a:t>
            </a:r>
            <a:r>
              <a:rPr b="1" lang="es-E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5.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Use of inform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Finds new ways to communicate, present and use inform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pplies the retrieved inform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earns or internalizes information as personal knowledg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resents the information produc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6.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Communication and ethical use of inform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Understands ethical use of inform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spects the legal use of inform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ommunicates the learning product with acknowledgement of intellectual propert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Uses the relevant acknowledgement style standards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A904-A557-420A-A733-D0623A6920E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4360" y="127080"/>
            <a:ext cx="8229600" cy="853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 “</a:t>
            </a: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Big6 Skills” Model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31640" y="1601280"/>
            <a:ext cx="7272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Task defini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Information seeking strategi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Location and acces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Use of informa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Synthesi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Evalua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C79D-146C-4166-8A1A-90719EE7EC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476360" y="1916280"/>
            <a:ext cx="7128000" cy="3025440"/>
          </a:xfrm>
          <a:prstGeom prst="roundRect">
            <a:avLst>
              <a:gd name="adj" fmla="val 16667"/>
            </a:avLst>
          </a:prstGeom>
          <a:solidFill>
            <a:srgbClr val="ff6600">
              <a:alpha val="17000"/>
            </a:srgbClr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91960" y="134640"/>
            <a:ext cx="7700760" cy="990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Times New Roman"/>
              </a:rPr>
              <a:t>ALA Definition: Information Literacy</a:t>
            </a:r>
            <a:endParaRPr b="0" lang="en-US" sz="32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36" name=""/>
          <p:cNvSpPr/>
          <p:nvPr/>
        </p:nvSpPr>
        <p:spPr>
          <a:xfrm>
            <a:off x="1476360" y="2287440"/>
            <a:ext cx="712944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entury Gothic"/>
              </a:rPr>
              <a:t>“</a:t>
            </a:r>
            <a:r>
              <a:rPr b="1" i="1" lang="en-US" sz="2800" spc="-1" strike="noStrike">
                <a:solidFill>
                  <a:srgbClr val="cc0000"/>
                </a:solidFill>
                <a:latin typeface="Century Gothic"/>
              </a:rPr>
              <a:t>To be information literate, a person must be able to recognize when information is needed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entury Gothic"/>
              </a:rPr>
              <a:t>have the ability to locate, evaluate and use effectively the needed information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F388-54B2-4CA8-9B5B-9A5A9F842A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76320" y="-109440"/>
            <a:ext cx="7772400" cy="1450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 “</a:t>
            </a: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Pathways to Knowledge” Model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32000" y="1773360"/>
            <a:ext cx="7122960" cy="38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Appreciation and enjoymen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Pre-Search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Search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Interpretation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ommunica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Evaluation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F884-2265-4F9C-AD72-78DEB36FDA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 “</a:t>
            </a:r>
            <a:r>
              <a:rPr b="1" lang="es-MX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Dialogue” Model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835280" y="1557360"/>
            <a:ext cx="6804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Defin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Initia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Asses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Loca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Gu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U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Evalua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AFB5-9BF5-46EE-A2BC-929A6C3334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17:36:22Z</dcterms:created>
  <dc:creator>guardar</dc:creator>
  <dc:description/>
  <dc:language>en-US</dc:language>
  <cp:lastModifiedBy>Prácticas BiV / USBI VER</cp:lastModifiedBy>
  <dcterms:modified xsi:type="dcterms:W3CDTF">2007-11-29T19:03:27Z</dcterms:modified>
  <cp:revision>170</cp:revision>
  <dc:subject/>
  <dc:title>Presentación de PowerPoint</dc:title>
</cp:coreProperties>
</file>