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CF66B-4860-4612-9B82-3D80DCE11C2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DEB8D-1620-43F4-95B1-9D51F6A6463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760F-9357-41A8-9627-7C4251FEB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B80-15B7-4F59-98DC-3193A673F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7365-DE32-4FC3-B32E-105D7851A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9535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0448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4029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9535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0448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684C-1B16-4B65-830C-43754DED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0CC8E-EB82-431C-918B-3EEC7BD4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9E11D-1349-4BBB-A3D9-43CBF399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2FF7C-7FE6-4F72-97C2-3D009E97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EC46A-1FAB-4002-9A6A-05FA22A9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62A9-276B-44CA-BB03-75AA7754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EE8CD-402C-4A1E-B555-CA646D06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8906-180C-4946-A190-E98FFFA7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B47D-9442-4ECC-9F57-15A0370E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0993-A9F4-4D52-A01F-23C1275DA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0688F-B8CE-4EEE-8F78-EDF1525E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901CB-A8E9-48DC-A5DF-1FA70D35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2B2B8-C893-4506-BA8E-3C214D1C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535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448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4029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9535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50448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6848F-A302-41EE-B606-552FDD8BD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C2F7-4A96-48A8-8CFE-07F14862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8C70-C222-42AC-836B-D239587FA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BF0-0FCC-4575-A4BD-7E07AB3FB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36D7-481D-4CC0-A013-80F802C9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182F-644A-4464-B21D-3A2799EF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AE03-559A-4584-8707-7CB8ED90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6C62-ABA5-4B90-BF44-94A27241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440" y="0"/>
            <a:ext cx="9145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V="1">
            <a:off x="0" y="1125000"/>
            <a:ext cx="9144000" cy="1800"/>
          </a:xfrm>
          <a:prstGeom prst="line">
            <a:avLst/>
          </a:prstGeom>
          <a:ln w="73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108000" y="1916280"/>
            <a:ext cx="552240" cy="6238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76320" y="4292640"/>
            <a:ext cx="628560" cy="72072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5"/>
          <a:stretch/>
        </p:blipFill>
        <p:spPr>
          <a:xfrm>
            <a:off x="90360" y="2708280"/>
            <a:ext cx="648000" cy="5666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ff9900">
                  <a:alpha val="57254"/>
                </a:srgbClr>
              </a:gs>
              <a:gs pos="100000">
                <a:srgbClr val="ff99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26920" y="1125360"/>
            <a:ext cx="0" cy="5399280"/>
          </a:xfrm>
          <a:prstGeom prst="line">
            <a:avLst/>
          </a:prstGeom>
          <a:ln w="69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900000" y="189000"/>
            <a:ext cx="8064720" cy="792000"/>
          </a:xfrm>
          <a:prstGeom prst="roundRect">
            <a:avLst>
              <a:gd name="adj" fmla="val 13426"/>
            </a:avLst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7E79-DA0F-4C7A-AB63-7D7B394C34F2}" type="slidenum">
              <a:rPr b="1" lang="es-E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89120" y="142920"/>
            <a:ext cx="8316720" cy="6626160"/>
          </a:xfrm>
          <a:prstGeom prst="rect">
            <a:avLst/>
          </a:prstGeom>
          <a:blipFill rotWithShape="0">
            <a:blip r:embed="rId2"/>
            <a:srcRect/>
            <a:stretch/>
          </a:blip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544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360" y="115920"/>
            <a:ext cx="8964720" cy="404640"/>
          </a:xfrm>
          <a:prstGeom prst="rect">
            <a:avLst/>
          </a:prstGeom>
          <a:gradFill rotWithShape="0">
            <a:gsLst>
              <a:gs pos="0">
                <a:srgbClr val="ff9900">
                  <a:alpha val="78039"/>
                </a:srgbClr>
              </a:gs>
              <a:gs pos="100000">
                <a:srgbClr val="ff99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950760" y="442440"/>
            <a:ext cx="8028000" cy="1800"/>
          </a:xfrm>
          <a:prstGeom prst="line">
            <a:avLst/>
          </a:prstGeom>
          <a:ln w="73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08000" y="1916280"/>
            <a:ext cx="552240" cy="623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76320" y="4292640"/>
            <a:ext cx="62856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90360" y="2708280"/>
            <a:ext cx="64800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6920" y="1125360"/>
            <a:ext cx="0" cy="5542200"/>
          </a:xfrm>
          <a:prstGeom prst="line">
            <a:avLst/>
          </a:prstGeom>
          <a:ln w="69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79F4-C2D4-4464-B4F0-BEAD6F1886C5}" type="slidenum">
              <a:rPr b="1" lang="es-E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03280" y="836640"/>
            <a:ext cx="7201080" cy="2879640"/>
          </a:xfrm>
          <a:prstGeom prst="roundRect">
            <a:avLst>
              <a:gd name="adj" fmla="val 16667"/>
            </a:avLst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80880" y="927000"/>
            <a:ext cx="7467480" cy="2286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Arial"/>
              </a:rPr>
              <a:t>How to Create an Institutional Infolit Program</a:t>
            </a:r>
            <a:br>
              <a:rPr sz="1800"/>
            </a:br>
            <a:r>
              <a:rPr b="1" lang="en-GB" sz="1800" spc="-1" strike="noStrike">
                <a:solidFill>
                  <a:srgbClr val="cc6600"/>
                </a:solidFill>
                <a:latin typeface="Arial"/>
              </a:rPr>
              <a:t>( Based on the IFLA Information Literacy Guidelines)</a:t>
            </a:r>
            <a:br>
              <a:rPr sz="2400"/>
            </a:br>
            <a:br>
              <a:rPr sz="2400"/>
            </a:br>
            <a:r>
              <a:rPr b="1" lang="es-MX" sz="4000" spc="-1" strike="noStrike" u="sng">
                <a:solidFill>
                  <a:srgbClr val="cc0000"/>
                </a:solidFill>
                <a:uFillTx/>
                <a:latin typeface="Arial"/>
              </a:rPr>
              <a:t>6. Learning / Instruction Management</a:t>
            </a:r>
            <a:r>
              <a:rPr b="1" lang="es-MX" sz="40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40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86920" y="41497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Jesús Lau, Ph.D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www.jesuslau.com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rector,  USBI Veracruz  Library, and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UV Virtual Library Coordinato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Veracruz, Méxic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www.uv.mx/usbi_ve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www.uv.mx/bvirtu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8178-126A-4577-BB2F-50F997310B1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3333cc"/>
                </a:solidFill>
                <a:latin typeface="Gill Sans MT"/>
              </a:rPr>
              <a:t>Independendent Curricular Courses (2)</a:t>
            </a:r>
            <a:endParaRPr b="0" lang="en-US" sz="36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When possible, partner with a professor’s course, so that your exercises are on the same subjec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Adjust course length according to the available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Courses should not be too long—four to ten hours is ide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Divide topics and distribute present them in more than one course if necessa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C7B2-95AE-4E02-A184-9FFD57A6EA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06400" y="1159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Extra-Curricular Courses</a:t>
            </a: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7632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Follow the format and procedures for any regular school cour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Choose course dates when students may have less academic wor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Students have less time to take this type of course at the beginning and end of term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D74E-0A01-4461-9A2E-84F7D34855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Times New Roman"/>
              </a:rPr>
              <a:t>Extra-Curricular Courses (2)</a:t>
            </a:r>
            <a:endParaRPr b="0" lang="en-US" sz="36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Provide some recognition to those who take the course, such as a certific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The library can have its own information certificate program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Take this independent road only if it is necessary, remember that embedded programs are more successfu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E772-9972-476E-A416-51384E63CD7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Independent Short Courses</a:t>
            </a: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5640" y="1628280"/>
            <a:ext cx="7759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Plan information literacy workshops to enhance specific skil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Workshops should be focused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Time length should be short and scheduled when students have a study break, i.e., lunch periods or evening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15F7-8045-410C-BF58-2427FE44B1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3333cc"/>
                </a:solidFill>
                <a:latin typeface="Gill Sans MT"/>
              </a:rPr>
              <a:t>Independent Short Courses (2)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Create a program for the whole term with different workshops opt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Workshop facilitation can be shared among other information specialist, if they are availabl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Keep the sessions livel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Name the workshop with catchy words focused on the actual cont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75E8-379D-4AC1-A023-FB04CEABF8B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Courses for Faculty/Teachers</a:t>
            </a: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6920" y="1484280"/>
            <a:ext cx="7759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Faculty/teachers are the most important member of any education institution to convince of IL benef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Create a course or courses tailored to the needs of professors/teach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With each course you facilitate for this learning community, you will gain IL advocat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Design a hands-on experiential course where you can facilitate the IL learning that professors/teachers can adapt for use in their classroo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Offer the course before or after the term e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1DC4-3ADC-4ED1-8D28-3DB0D995D22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700" spc="-1" strike="noStrike">
                <a:solidFill>
                  <a:srgbClr val="cc0000"/>
                </a:solidFill>
                <a:latin typeface="Arial"/>
              </a:rPr>
              <a:t>Courses for Faculty / Teachers (2)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402920" y="184428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Make the course part of institutional faculty training progra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Promote the course among those faculty members who are library advocat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Offer the course at a special time and include a coffee brea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Prepare learning activities that participants can reflect upon, taking into consideration their own teaching need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Remember that participants who are faculty members can be more demanding, so prepare you course content and materials wel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5E79-B70C-450A-82F8-F4DC5A46E73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Other Activities</a:t>
            </a: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7280" y="1628280"/>
            <a:ext cx="78314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Offering faculty/teachers on-request information literacy training sess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Creating a menu of options with ready-to-go to teaching session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Providing information about objectives and benefits for participa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Preparing and distributing handouts for each type of activit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4DB5-D2E3-4FA8-9A3A-0A81A6395A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c0000"/>
                </a:solidFill>
                <a:latin typeface="Arial"/>
                <a:ea typeface="Times New Roman"/>
              </a:rPr>
              <a:t>Other Activities (continued)</a:t>
            </a:r>
            <a:endParaRPr b="0" lang="en-US" sz="41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Providing sessions in classrooms or other venues that may not be as well-suited as the library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Recognizing academics who offer library IL opportunit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If your time is limited,  reserve dates and times to do this IL wor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B58C-1024-4DA1-89CD-21DC80A204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547640" y="1628640"/>
            <a:ext cx="6913440" cy="4106520"/>
            <a:chOff x="1547640" y="1628640"/>
            <a:chExt cx="6913440" cy="4106520"/>
          </a:xfrm>
        </p:grpSpPr>
        <p:grpSp>
          <p:nvGrpSpPr>
            <p:cNvPr id="119" name=""/>
            <p:cNvGrpSpPr/>
            <p:nvPr/>
          </p:nvGrpSpPr>
          <p:grpSpPr>
            <a:xfrm>
              <a:off x="4956120" y="1628640"/>
              <a:ext cx="136440" cy="3404160"/>
              <a:chOff x="4956120" y="1628640"/>
              <a:chExt cx="136440" cy="3404160"/>
            </a:xfrm>
          </p:grpSpPr>
          <p:sp>
            <p:nvSpPr>
              <p:cNvPr id="120" name=""/>
              <p:cNvSpPr/>
              <p:nvPr/>
            </p:nvSpPr>
            <p:spPr>
              <a:xfrm>
                <a:off x="4956120" y="1628640"/>
                <a:ext cx="0" cy="340416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24160" y="1776600"/>
                <a:ext cx="0" cy="315720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092560" y="1628640"/>
                <a:ext cx="0" cy="3404160"/>
              </a:xfrm>
              <a:prstGeom prst="line">
                <a:avLst/>
              </a:prstGeom>
              <a:ln w="284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1622880" y="2338200"/>
              <a:ext cx="2923560" cy="71136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Independent  curricular cours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22880" y="3522600"/>
              <a:ext cx="2923560" cy="71316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cc0000"/>
                  </a:solidFill>
                  <a:latin typeface="Arial"/>
                </a:rPr>
                <a:t>Extra curricular cour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517000" y="2355480"/>
              <a:ext cx="2923920" cy="71136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Independent workshops 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87120" y="3522600"/>
              <a:ext cx="2923560" cy="71316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Courses for faculty/teacher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7640" y="5022000"/>
              <a:ext cx="6913440" cy="713160"/>
            </a:xfrm>
            <a:prstGeom prst="rect">
              <a:avLst/>
            </a:prstGeom>
            <a:solidFill>
              <a:srgbClr val="ff9900">
                <a:alpha val="28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Other activitie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cc0000"/>
                  </a:solidFill>
                  <a:latin typeface="Arial"/>
                </a:rPr>
                <a:t>Demonstrations, lectures, library visits, training sess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rot="12057000">
              <a:off x="4390560" y="2196000"/>
              <a:ext cx="543600" cy="60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rot="12057000">
              <a:off x="4390560" y="3254400"/>
              <a:ext cx="543600" cy="60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rot="15210000">
              <a:off x="5065200" y="2232360"/>
              <a:ext cx="604080" cy="54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rot="15210000">
              <a:off x="5065200" y="3291120"/>
              <a:ext cx="604800" cy="543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1763640" y="252360"/>
            <a:ext cx="6635880" cy="65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IL Learning Menu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FA2A-2ED4-4BDA-B020-4A7BE93109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06400" y="11592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General Guidelines 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5640" y="1674720"/>
            <a:ext cx="783108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A clear focus on an IL standard or standards for every IL activ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Work on standards one by one if you cannot work on all standards at the same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Get assistance from faculty if you need to know how to create a cour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  <a:ea typeface="Times New Roman"/>
              </a:rPr>
              <a:t>Promote your IL activity well—by whatever means you may ha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9A3E-E0DB-47F3-8B27-1B7665EE461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General Guidelines (2)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Work in teams—any activity can be done by more than one information profession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Appoint a leader for all library IL efforts if possi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Remember that IL is not the solely domain of the library—you need to collaborate with the different members of your learning commun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Be clear about IL objectives with any type of activ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B6BD-F471-416D-96B7-41A04207FE4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95280" y="-360"/>
            <a:ext cx="7423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Pedagogy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upport different approaches to teaching-learning proc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Use convenient information technolog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nclude active and collaborative activi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oster critical thinking and refl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65F4-8A58-494E-87FE-11615ADBC67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700" spc="-1" strike="noStrike">
                <a:solidFill>
                  <a:srgbClr val="cc0000"/>
                </a:solidFill>
                <a:latin typeface="Arial"/>
              </a:rPr>
              <a:t>Pedagogy (2)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nsider and respond properly to the different learning sty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AutoNum type="arabicPeriod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upport student-centered lear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AutoNum type="arabicPeriod" startAt="7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nstruct new meaning based on the existing knowledge the students hav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8.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Link Information Literacy with courses and real life experiences that are appropriate for the program and the level of the stud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D4F8-C262-46E7-9663-152F26F6D5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14320" y="-147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Arial"/>
                <a:ea typeface="Times New Roman"/>
              </a:rPr>
              <a:t>Part of Faculty Courses</a:t>
            </a:r>
            <a:r>
              <a:rPr b="1" lang="es-ES" sz="38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8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6000" y="1557360"/>
            <a:ext cx="7704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Meet faculty administrators and share IL benefits with them (del extra space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Meet potential information literacy professors/teach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Distribute documents stating the benefits of a faculty-wide IL program to appropriate partie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Offer your information literacy services to professors/teachers in their course plan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EE2C-134C-4E80-B589-E4D3109DA7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700" spc="-1" strike="noStrike">
                <a:solidFill>
                  <a:srgbClr val="cc0000"/>
                </a:solidFill>
                <a:latin typeface="Arial"/>
              </a:rPr>
              <a:t>Part of Faculty Courses (2)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Prepare IL learning exercises as examples of how to focus the course on information literacy lear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Make the library the information laborat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Prepare a workshop for faculty/teachers where IL concepts and the importance of implementing them in the classroom are discus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B7B-9656-4572-83CB-995E88F32B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06400" y="115560"/>
            <a:ext cx="8229600" cy="94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Independent Curricular Courses</a:t>
            </a: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560" y="1196640"/>
            <a:ext cx="7705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Plan your course or courses to coincide with the school/faculty design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Base the course on constructivist pedagogy—incentive is on students to practice concep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Make the course interesting and appealing to students according to the subjec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Exercises should focus on something that will benefit students in their regular cla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8D24-E197-4B95-A849-58E44AA967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17:36:22Z</dcterms:created>
  <dc:creator>guardar</dc:creator>
  <dc:description/>
  <dc:language>en-US</dc:language>
  <cp:lastModifiedBy>Prácticas BiV / USBI VER</cp:lastModifiedBy>
  <dcterms:modified xsi:type="dcterms:W3CDTF">2007-11-29T19:04:48Z</dcterms:modified>
  <cp:revision>167</cp:revision>
  <dc:subject/>
  <dc:title>Presentación de PowerPoint</dc:title>
</cp:coreProperties>
</file>