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2429-091E-48A8-90DD-9813E204910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A6E0-3D90-4A45-9C2E-46AE249729A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B024-FD8E-47CF-A1B2-034E2EBBDD5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91DB-729B-4AC3-89CF-97E66155B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94D6-6FA1-4A6C-8BCB-984D22CF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BCB-A3C0-4306-ABA1-D820581E2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E999-4B87-4D79-9A46-892CF0E2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6D5E-EF67-4EF4-89B1-2B8A0BA13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E50FE-DD3E-46AE-BFAA-EAFBD6EFE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1F8D-4891-4ACE-85EB-2A808445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43E5-E106-42E8-B593-71771EFE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CFC3C-4FEA-490B-865B-D1E3035F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13A83-1DC7-4F69-A397-05172BBB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2264-412C-41AE-A101-65657423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1159-F928-4773-84BE-42450CB3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F160-58F1-4F21-B233-6A5C696BC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292D-AF10-48DB-9954-D094113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0ACC-B845-482B-9A52-76A03F64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0E9D1-4AD9-4092-B967-1013F013E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B8E9-3BCC-4924-A0C7-597CA833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5EBA-0F9F-4A07-B515-01FA0026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C024-E7A0-45ED-977D-E98E31845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0FB-90B6-44B8-8811-F2F50E8D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D4A-208B-470A-BBEA-41937089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DE98-D1F8-4B9E-9A9C-835D5468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20B3-ECFE-46C1-91E6-E662FA2E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68C9-B9EE-4D84-B5D5-4F0F0290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D0D1-5AFB-4DD9-8568-27714A5E5A21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2493F-92FB-42F6-A7DE-44A6708D4C82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03280" y="836640"/>
            <a:ext cx="7201080" cy="2879640"/>
          </a:xfrm>
          <a:prstGeom prst="roundRect">
            <a:avLst>
              <a:gd name="adj" fmla="val 16667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3320" y="836640"/>
            <a:ext cx="76197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2400"/>
            </a:br>
            <a:r>
              <a:rPr b="1" lang="en-GB" sz="24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 u="sng">
                <a:solidFill>
                  <a:srgbClr val="cc0000"/>
                </a:solidFill>
                <a:uFillTx/>
                <a:latin typeface="Arial"/>
              </a:rPr>
              <a:t>4. Institutional Commit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86920" y="41497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ill Sans MT"/>
              </a:rPr>
              <a:t>Jesús Lau, Ph.D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www.jesuslau.co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irector, USBI Veracruz  Library, and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UV Virtual Library Coordinat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Veracruz, Méxic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Gill Sans MT"/>
              </a:rPr>
              <a:t>www.uv.mx/usbi_v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Gill Sans MT"/>
              </a:rPr>
              <a:t>www.uv.mx/bvirtu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6AC73-5CD9-4657-8861-A0D315F2B91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06400" y="125280"/>
            <a:ext cx="8229600" cy="927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otential Challenge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5640" y="1485720"/>
            <a:ext cx="754380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Be prepared for obstacles such as limited facilities and scarce or no economic or human resourc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Accept that some administrators may reject or ignore the information literacy benefits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Know and act upon positive, negative, or lack of interest reactions of teachers/faculty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Rely on technology to lead your institutional learning collabora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Look for support from your lifelong learning community, it may come from students, teachers/faculty, administrators, members from other institution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E2C6-AAEE-4A33-BB89-2580B1840A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342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Teamwork with faculty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enter your program in the student’s learning and his or her lifelong learning skil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ster communication among the academic community to achieve support for the progr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erge the Information Literacy concepts with the contents of the different su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dentify achievement opportunities for IL trough courses and other learning experienc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5.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Establish collaboration along the different stages of planning, development and learning assess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21C5-E37A-49A2-A3F2-A33C614625C2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188640"/>
            <a:ext cx="8229600" cy="79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Be Assertiv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Recognize that something has to be done and be aware that nothing will be perfe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Make it a goal to ensure information literacy is incorporated into the curriculu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Be positive and persuasive about what needs to be don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Remember, the library should be at the center of information literacy actions</a:t>
            </a:r>
            <a:r>
              <a:rPr b="0" lang="en-US" sz="2200" spc="-1" strike="noStrike">
                <a:solidFill>
                  <a:srgbClr val="9933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8B98-A495-49AF-8ABD-9005DDF4AB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42480"/>
            <a:ext cx="84582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Summary - Institutional Support</a:t>
            </a:r>
            <a:endParaRPr b="0" lang="en-US" sz="36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Identify or assign Information Literacy leadership and responsibiliti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80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80640" indent="-52812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 the inclusion of Information Literacy in institutional mission, strategic plan, policies and proced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8064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lvl="1" marL="980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rovide financing to establish and secure support for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3575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ormal and informal resources for learning processes, as well as suitable facilit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ppropriate support staff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357560" indent="-45252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rofessional development opportunities for librarians, faculty and administrative staff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5CB3-A6F5-402F-99F8-7594002DEC1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Summary – Institutional Suppor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ecognize and promote collaboration among faculties, librarians and support personnel before institutional uni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municate and thank support given to the pro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ward achievement and participation in the information literacy program within the institutional syste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520E-94D1-4954-A899-167D6349199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476360" y="1243800"/>
            <a:ext cx="7156440" cy="4561560"/>
            <a:chOff x="1476360" y="1243800"/>
            <a:chExt cx="7156440" cy="4561560"/>
          </a:xfrm>
        </p:grpSpPr>
        <p:sp>
          <p:nvSpPr>
            <p:cNvPr id="145" name=""/>
            <p:cNvSpPr/>
            <p:nvPr/>
          </p:nvSpPr>
          <p:spPr>
            <a:xfrm>
              <a:off x="1476360" y="1604880"/>
              <a:ext cx="3068640" cy="59364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27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Identify your  IL standard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32200" y="2574720"/>
              <a:ext cx="3997080" cy="47484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27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Plan your program</a:t>
              </a:r>
              <a:r>
                <a:rPr b="1" lang="es-ES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634000" y="1604880"/>
              <a:ext cx="2998800" cy="51912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27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Share  leadership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932200" y="3503520"/>
              <a:ext cx="3997080" cy="53496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27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Become acquainted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with  your  institutional  culture 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932200" y="4398840"/>
              <a:ext cx="3997080" cy="53496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27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Be prepared for  challenges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932200" y="5268600"/>
              <a:ext cx="3997080" cy="53676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27000"/>
              </a:srgbClr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3000" rIns="63000" tIns="31680" bIns="31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Do whatever you can do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cc0000"/>
                  </a:solidFill>
                  <a:latin typeface="Arial"/>
                </a:rPr>
                <a:t>Do not  expect to be perfect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10546200">
              <a:off x="1914840" y="1672560"/>
              <a:ext cx="1315080" cy="1338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01" y="1227"/>
                  </a:moveTo>
                  <a:arcTo wR="10800" hR="10800" stAng="-7054327" swAng="779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5801" y="1227"/>
                  </a:moveTo>
                  <a:arcTo wR="10800" hR="10800" stAng="-7054327" swAng="7796653"/>
                </a:path>
              </a:pathLst>
            </a:custGeom>
            <a:noFill/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6610800">
              <a:off x="6857280" y="1379160"/>
              <a:ext cx="1429920" cy="1635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801" y="1227"/>
                  </a:moveTo>
                  <a:arcTo wR="10800" hR="10800" stAng="-7054327" swAng="7796653"/>
                  <a:lnTo>
                    <a:pt x="10800" y="10800"/>
                  </a:lnTo>
                  <a:close/>
                </a:path>
                <a:path fill="none" w="21600" h="21600">
                  <a:moveTo>
                    <a:pt x="5801" y="1227"/>
                  </a:moveTo>
                  <a:arcTo wR="10800" hR="10800" stAng="-7054327" swAng="7796653"/>
                </a:path>
              </a:pathLst>
            </a:custGeom>
            <a:noFill/>
            <a:ln w="381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008680" y="3089160"/>
              <a:ext cx="1440" cy="388800"/>
            </a:xfrm>
            <a:prstGeom prst="line">
              <a:avLst/>
            </a:prstGeom>
            <a:ln w="316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5003640" y="4054320"/>
              <a:ext cx="5040" cy="358920"/>
            </a:xfrm>
            <a:prstGeom prst="line">
              <a:avLst/>
            </a:prstGeom>
            <a:ln w="316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005440" y="4917960"/>
              <a:ext cx="3240" cy="360360"/>
            </a:xfrm>
            <a:prstGeom prst="line">
              <a:avLst/>
            </a:prstGeom>
            <a:ln w="316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00000" y="333360"/>
            <a:ext cx="79567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Getting Institutional Commitment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FEC-6A6E-4008-AF42-99E938FA13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General Action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7280" y="1413000"/>
            <a:ext cx="749016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Adapt or adopt international information literacy standards and pract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Identify the information literacy program that works best for you and your institu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Adopt or design a program based on national and international experien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Identify what is required to implement the pro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53D-8E5D-4BF7-870D-7D3590BE45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General Actions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Regard  the information literacy process as non-linear, you may skip steps and change their 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Work on a strategic plan to chart the course of your goals and actions –See Chapter 5 for specif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Times New Roman"/>
              </a:rPr>
              <a:t>Involve all relevant parties in the planning process: your library team, faculty/teachers, administrators, and the final decision-maker for the projec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57B7-D24E-49D3-AEF6-3E08D45232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19120" y="115560"/>
            <a:ext cx="82296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Change Strategies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5640" y="1341000"/>
            <a:ext cx="754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Changes in methods of instruction are more difficult than changes in curriculum or administ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When a change requires teachers to abandon an existing instructional practice, it is not likely to succe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If retraining is required, success is threatened unless strong incentives are provided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Efforts to change curriculum by integrating or correlating the content are resisted and are especially at risk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2565-15A9-4E8E-8DB0-9D0C57A9D0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  <a:ea typeface="Times New Roman"/>
              </a:rPr>
              <a:t>The cost of change is a significant factor in determining the permanence of the change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  <a:ea typeface="Times New Roman"/>
              </a:rPr>
              <a:t>When a change puts a strain on school/university personnel or requires a substantial investment in learning new facts and procedures, it is not likely to succe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  <a:ea typeface="Times New Roman"/>
              </a:rPr>
              <a:t>Minimal new behavior has more possibility of being accept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Change Strategies</a:t>
            </a:r>
            <a:r>
              <a:rPr b="0" lang="en-US" sz="37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75F1-C171-4861-84D4-04CC674EC5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115640" y="981000"/>
            <a:ext cx="7831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Librarians need to take a larger share of the work to make things happen until faculty/teachers see the benefits of collaboration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Collaboration efforts should not be seen as difficult to achieve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Library collaboration should be viewed by teachers/faculty as essential to their succes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The gains  from change should be seen clearly by participant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 professionals should be strong advocates for their program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85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Change Strategies</a:t>
            </a:r>
            <a:r>
              <a:rPr b="0" lang="en-US" sz="37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3700" spc="-1" strike="noStrike">
                <a:solidFill>
                  <a:srgbClr val="cc0000"/>
                </a:solidFill>
                <a:latin typeface="Arial"/>
              </a:rPr>
              <a:t>(3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EC67-F92A-43D8-A3E4-17E6395D19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Share Leadership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15640" y="1486080"/>
            <a:ext cx="7777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3300"/>
                </a:solidFill>
                <a:latin typeface="Arial"/>
                <a:ea typeface="Times New Roman"/>
              </a:rPr>
              <a:t>Identify, assign, and share top leadership with the rest of the library team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993300"/>
                </a:solidFill>
                <a:latin typeface="Arial"/>
                <a:ea typeface="Times New Roman"/>
              </a:rPr>
              <a:t>Ask to include the information literacy philosophy in the core institutional documents, such as the mission, strategic plan, and relevant policies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18E-FB22-4F48-9417-82E502B2EDE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700" spc="-1" strike="noStrike">
                <a:solidFill>
                  <a:srgbClr val="cc0000"/>
                </a:solidFill>
                <a:latin typeface="Arial"/>
              </a:rPr>
              <a:t>Share Leadership (2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  <a:ea typeface="Times New Roman"/>
              </a:rPr>
              <a:t>Convince authorities to get the proper financial support for hiring librarians, library staff, building/adopting facilities, training personnel, and developing procedures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  <a:ea typeface="Times New Roman"/>
              </a:rPr>
              <a:t>Acknowledge collaboration among your partners, authorities, and different parties involved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993300"/>
                </a:solidFill>
                <a:latin typeface="Arial"/>
                <a:ea typeface="Times New Roman"/>
              </a:rPr>
              <a:t>Communicate and promote recognition of the IL support you receive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7707-B220-4C5D-9A47-4C504FA90E6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63480" y="189000"/>
            <a:ext cx="8229600" cy="86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nstitutional Cultur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31480" y="153000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Analyze the dynamics of politics, and budget allocation at your institution and its learning communiti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Identify your institution’s own organization style of work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Take the role of building learning partnership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  <a:ea typeface="Times New Roman"/>
              </a:rPr>
              <a:t>Start a collaborative academic scheme with teachers/faculty, other librarians, technology coordinators, administrators, curriculum planners and learning facilitator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866-FD87-4DAB-A97B-EB808968C5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9:03:48Z</dcterms:modified>
  <cp:revision>187</cp:revision>
  <dc:subject/>
  <dc:title>Presentación de PowerPoint</dc:title>
</cp:coreProperties>
</file>