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DB7B-BE0E-443C-BBB7-DF5C7DBAAE8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EFAD-DC8A-4B15-BBFC-6E86804360C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B64B1-AD37-4BE6-9B8C-CBA7A7DA1E5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167D7-D8FA-44B4-848E-7345A1677F0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141F-C15F-4EB3-B065-18870008D52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4ECD-F6FD-41B2-8A0E-4E9D52EC12D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E3E-9A92-430B-9C9D-90054C5C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049-20A9-434F-8742-14BEB42CF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01CF-2D70-43C1-95BF-99E280D9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FA19-8EF4-48F1-A559-548B37200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7016-39E9-4971-ADC8-D06DF72EC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5F67-4D8A-4E26-981D-344FFB3FD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1550D-EDD3-48D2-8D00-B83F76DF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5822-97DD-4D17-958C-9204C4C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DF881-C267-42F4-9E05-31ABA5D1B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738C-E55F-4E89-81C2-9C541BF4C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11AFE-BD35-4CE9-911A-346C02A7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7D5A-9992-4A77-890E-1DD67369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64522-6D6E-4C64-9903-E4E8C4BF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5B71-657D-405E-9FBC-918AF7F9C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398B-C0B4-4DC8-9803-5C3C0AC1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5EAE-2FBB-4CD0-A392-BCD4182F7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C27B-8FD3-40F5-8A54-66956991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38D8-84B6-40C2-A617-67D75ABE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88CA-0C6B-40BD-AACC-DDF2DCCF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FDA-F0E6-443C-B4D1-05B02332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C477-435E-4360-9D10-189862BE4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B723-575E-4D3E-B2EC-AAC4EE9C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2AA-5671-4AAB-B0D1-9835F3A7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57C2-AA6C-4319-9A70-DA7E707D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440" y="0"/>
            <a:ext cx="9145440" cy="6858000"/>
            <a:chOff x="-1440" y="0"/>
            <a:chExt cx="9145440" cy="6858000"/>
          </a:xfrm>
        </p:grpSpPr>
        <p:sp>
          <p:nvSpPr>
            <p:cNvPr id="1" name=""/>
            <p:cNvSpPr/>
            <p:nvPr/>
          </p:nvSpPr>
          <p:spPr>
            <a:xfrm>
              <a:off x="-1440" y="0"/>
              <a:ext cx="9145440" cy="685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>
              <a:off x="0" y="1125000"/>
              <a:ext cx="9144000" cy="1800"/>
            </a:xfrm>
            <a:prstGeom prst="line">
              <a:avLst/>
            </a:prstGeom>
            <a:ln w="7308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08000" y="1916280"/>
              <a:ext cx="552240" cy="62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0" y="0"/>
              <a:ext cx="9144000" cy="115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6788160"/>
              <a:ext cx="9144000" cy="69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6245280"/>
              <a:ext cx="213372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date/time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24080" y="6245280"/>
              <a:ext cx="2895840" cy="47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&lt;footer&gt;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179280" y="3213000"/>
            <a:ext cx="647640" cy="56700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7327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190A-9CEE-4368-A097-91FBFBEA9562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79280" y="1052640"/>
            <a:ext cx="552600" cy="623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79280" y="4005360"/>
            <a:ext cx="62892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90360" y="2565360"/>
            <a:ext cx="648000" cy="7095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32720" y="61653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4A7A7-1FD1-4A42-A0CC-72F0FA275578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mailto:jlau@uv.mx" TargetMode="External"/><Relationship Id="rId3" Type="http://schemas.openxmlformats.org/officeDocument/2006/relationships/hyperlink" Target="http://www.jesuslau.com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116000" y="620640"/>
            <a:ext cx="7777080" cy="5904000"/>
          </a:xfrm>
          <a:prstGeom prst="roundRect">
            <a:avLst>
              <a:gd name="adj" fmla="val 6130"/>
            </a:avLst>
          </a:prstGeom>
          <a:blipFill rotWithShape="0">
            <a:blip r:embed="rId1">
              <a:alphaModFix amt="48000"/>
            </a:blip>
            <a:srcRect/>
            <a:tile tx="0" ty="0" sx="100000" sy="100000" algn="ctr"/>
          </a:blip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92320" y="981000"/>
            <a:ext cx="77724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1800"/>
            </a:b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400"/>
            </a:br>
            <a:br>
              <a:rPr sz="2400"/>
            </a:br>
            <a:r>
              <a:rPr b="1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1. InfoLit Concepts and Demand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835280" y="4005360"/>
            <a:ext cx="64008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Jesús Lau, Ph.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cc0000"/>
                </a:solidFill>
                <a:uFillTx/>
                <a:latin typeface="Arial"/>
                <a:hlinkClick r:id="rId2"/>
              </a:rPr>
              <a:t>jlau@uv.mx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s-MX" sz="2000" spc="-1" strike="noStrike" u="sng">
                <a:solidFill>
                  <a:srgbClr val="cc0000"/>
                </a:solidFill>
                <a:uFillTx/>
                <a:latin typeface="Arial"/>
                <a:hlinkClick r:id="rId3"/>
              </a:rPr>
              <a:t>www.jesuslau.com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iversidad Veracruzana / DGB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oca del Río, Veracruz, Méxic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rsonal: http: // bivir.uacj.mx/la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stitutional: 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www.uv.mx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"/>
          <p:cNvSpPr/>
          <p:nvPr/>
        </p:nvSpPr>
        <p:spPr>
          <a:xfrm>
            <a:off x="1619280" y="3645000"/>
            <a:ext cx="6913440" cy="0"/>
          </a:xfrm>
          <a:prstGeom prst="line">
            <a:avLst/>
          </a:prstGeom>
          <a:ln w="3816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E590B-EF08-47AE-8D6E-3773160B9A5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18720"/>
            <a:ext cx="74073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Libraries - Concept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6000" y="1628640"/>
            <a:ext cx="75564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aboratory of idea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human knowledge compendium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source of quality inform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ateway to global information repositorie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place for self-study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E2EF-172D-48EB-B88A-F896147E35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47600" y="219240"/>
            <a:ext cx="7772400" cy="7617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Literacy Concepts</a:t>
            </a:r>
            <a:r>
              <a:rPr b="1" lang="es-E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1258920" y="1916280"/>
            <a:ext cx="7550280" cy="47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-663480" y="173880"/>
            <a:ext cx="9760680" cy="8071920"/>
            <a:chOff x="-663480" y="173880"/>
            <a:chExt cx="9760680" cy="8071920"/>
          </a:xfrm>
        </p:grpSpPr>
        <p:sp>
          <p:nvSpPr>
            <p:cNvPr id="162" name=""/>
            <p:cNvSpPr/>
            <p:nvPr/>
          </p:nvSpPr>
          <p:spPr>
            <a:xfrm>
              <a:off x="3924360" y="3319560"/>
              <a:ext cx="1800000" cy="1099440"/>
            </a:xfrm>
            <a:custGeom>
              <a:avLst/>
              <a:gdLst/>
              <a:ahLst/>
              <a:rect l="l" t="t" r="r" b="b"/>
              <a:pathLst>
                <a:path w="2379" h="1588">
                  <a:moveTo>
                    <a:pt x="350" y="1181"/>
                  </a:moveTo>
                  <a:lnTo>
                    <a:pt x="279" y="1189"/>
                  </a:lnTo>
                  <a:lnTo>
                    <a:pt x="208" y="1173"/>
                  </a:lnTo>
                  <a:lnTo>
                    <a:pt x="143" y="1133"/>
                  </a:lnTo>
                  <a:lnTo>
                    <a:pt x="79" y="1070"/>
                  </a:lnTo>
                  <a:lnTo>
                    <a:pt x="41" y="989"/>
                  </a:lnTo>
                  <a:lnTo>
                    <a:pt x="8" y="893"/>
                  </a:lnTo>
                  <a:lnTo>
                    <a:pt x="0" y="791"/>
                  </a:lnTo>
                  <a:lnTo>
                    <a:pt x="8" y="688"/>
                  </a:lnTo>
                  <a:lnTo>
                    <a:pt x="41" y="592"/>
                  </a:lnTo>
                  <a:lnTo>
                    <a:pt x="79" y="511"/>
                  </a:lnTo>
                  <a:lnTo>
                    <a:pt x="143" y="448"/>
                  </a:lnTo>
                  <a:lnTo>
                    <a:pt x="208" y="407"/>
                  </a:lnTo>
                  <a:lnTo>
                    <a:pt x="279" y="392"/>
                  </a:lnTo>
                  <a:lnTo>
                    <a:pt x="350" y="407"/>
                  </a:lnTo>
                  <a:lnTo>
                    <a:pt x="413" y="281"/>
                  </a:lnTo>
                  <a:lnTo>
                    <a:pt x="492" y="169"/>
                  </a:lnTo>
                  <a:lnTo>
                    <a:pt x="580" y="89"/>
                  </a:lnTo>
                  <a:lnTo>
                    <a:pt x="682" y="25"/>
                  </a:lnTo>
                  <a:lnTo>
                    <a:pt x="786" y="0"/>
                  </a:lnTo>
                  <a:lnTo>
                    <a:pt x="897" y="0"/>
                  </a:lnTo>
                  <a:lnTo>
                    <a:pt x="999" y="25"/>
                  </a:lnTo>
                  <a:lnTo>
                    <a:pt x="1103" y="89"/>
                  </a:lnTo>
                  <a:lnTo>
                    <a:pt x="1191" y="169"/>
                  </a:lnTo>
                  <a:lnTo>
                    <a:pt x="1285" y="89"/>
                  </a:lnTo>
                  <a:lnTo>
                    <a:pt x="1381" y="25"/>
                  </a:lnTo>
                  <a:lnTo>
                    <a:pt x="1490" y="0"/>
                  </a:lnTo>
                  <a:lnTo>
                    <a:pt x="1594" y="0"/>
                  </a:lnTo>
                  <a:lnTo>
                    <a:pt x="1705" y="25"/>
                  </a:lnTo>
                  <a:lnTo>
                    <a:pt x="1799" y="89"/>
                  </a:lnTo>
                  <a:lnTo>
                    <a:pt x="1895" y="169"/>
                  </a:lnTo>
                  <a:lnTo>
                    <a:pt x="1967" y="281"/>
                  </a:lnTo>
                  <a:lnTo>
                    <a:pt x="2030" y="407"/>
                  </a:lnTo>
                  <a:lnTo>
                    <a:pt x="2101" y="392"/>
                  </a:lnTo>
                  <a:lnTo>
                    <a:pt x="2174" y="407"/>
                  </a:lnTo>
                  <a:lnTo>
                    <a:pt x="2245" y="448"/>
                  </a:lnTo>
                  <a:lnTo>
                    <a:pt x="2301" y="511"/>
                  </a:lnTo>
                  <a:lnTo>
                    <a:pt x="2347" y="592"/>
                  </a:lnTo>
                  <a:lnTo>
                    <a:pt x="2372" y="688"/>
                  </a:lnTo>
                  <a:lnTo>
                    <a:pt x="2379" y="791"/>
                  </a:lnTo>
                  <a:lnTo>
                    <a:pt x="2372" y="893"/>
                  </a:lnTo>
                  <a:lnTo>
                    <a:pt x="2347" y="989"/>
                  </a:lnTo>
                  <a:lnTo>
                    <a:pt x="2301" y="1070"/>
                  </a:lnTo>
                  <a:lnTo>
                    <a:pt x="2245" y="1133"/>
                  </a:lnTo>
                  <a:lnTo>
                    <a:pt x="2174" y="1173"/>
                  </a:lnTo>
                  <a:lnTo>
                    <a:pt x="2101" y="1189"/>
                  </a:lnTo>
                  <a:lnTo>
                    <a:pt x="2030" y="1181"/>
                  </a:lnTo>
                  <a:lnTo>
                    <a:pt x="1967" y="1308"/>
                  </a:lnTo>
                  <a:lnTo>
                    <a:pt x="1895" y="1411"/>
                  </a:lnTo>
                  <a:lnTo>
                    <a:pt x="1799" y="1500"/>
                  </a:lnTo>
                  <a:lnTo>
                    <a:pt x="1705" y="1555"/>
                  </a:lnTo>
                  <a:lnTo>
                    <a:pt x="1594" y="1588"/>
                  </a:lnTo>
                  <a:lnTo>
                    <a:pt x="1490" y="1588"/>
                  </a:lnTo>
                  <a:lnTo>
                    <a:pt x="1381" y="1555"/>
                  </a:lnTo>
                  <a:lnTo>
                    <a:pt x="1285" y="1500"/>
                  </a:lnTo>
                  <a:lnTo>
                    <a:pt x="1191" y="1411"/>
                  </a:lnTo>
                  <a:lnTo>
                    <a:pt x="1103" y="1500"/>
                  </a:lnTo>
                  <a:lnTo>
                    <a:pt x="999" y="1555"/>
                  </a:lnTo>
                  <a:lnTo>
                    <a:pt x="897" y="1588"/>
                  </a:lnTo>
                  <a:lnTo>
                    <a:pt x="786" y="1588"/>
                  </a:lnTo>
                  <a:lnTo>
                    <a:pt x="682" y="1555"/>
                  </a:lnTo>
                  <a:lnTo>
                    <a:pt x="580" y="1500"/>
                  </a:lnTo>
                  <a:lnTo>
                    <a:pt x="492" y="1411"/>
                  </a:lnTo>
                  <a:lnTo>
                    <a:pt x="413" y="1308"/>
                  </a:lnTo>
                  <a:lnTo>
                    <a:pt x="350" y="1181"/>
                  </a:lnTo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19280" y="1806480"/>
              <a:ext cx="2152800" cy="1169640"/>
            </a:xfrm>
            <a:custGeom>
              <a:avLst/>
              <a:gdLst/>
              <a:ahLst/>
              <a:rect l="l" t="t" r="r" b="b"/>
              <a:pathLst>
                <a:path w="2586" h="1685">
                  <a:moveTo>
                    <a:pt x="380" y="1253"/>
                  </a:moveTo>
                  <a:lnTo>
                    <a:pt x="301" y="1263"/>
                  </a:lnTo>
                  <a:lnTo>
                    <a:pt x="224" y="1246"/>
                  </a:lnTo>
                  <a:lnTo>
                    <a:pt x="155" y="1203"/>
                  </a:lnTo>
                  <a:lnTo>
                    <a:pt x="86" y="1136"/>
                  </a:lnTo>
                  <a:lnTo>
                    <a:pt x="42" y="1050"/>
                  </a:lnTo>
                  <a:lnTo>
                    <a:pt x="7" y="948"/>
                  </a:lnTo>
                  <a:lnTo>
                    <a:pt x="0" y="839"/>
                  </a:lnTo>
                  <a:lnTo>
                    <a:pt x="7" y="729"/>
                  </a:lnTo>
                  <a:lnTo>
                    <a:pt x="42" y="627"/>
                  </a:lnTo>
                  <a:lnTo>
                    <a:pt x="86" y="543"/>
                  </a:lnTo>
                  <a:lnTo>
                    <a:pt x="155" y="474"/>
                  </a:lnTo>
                  <a:lnTo>
                    <a:pt x="224" y="432"/>
                  </a:lnTo>
                  <a:lnTo>
                    <a:pt x="301" y="414"/>
                  </a:lnTo>
                  <a:lnTo>
                    <a:pt x="380" y="432"/>
                  </a:lnTo>
                  <a:lnTo>
                    <a:pt x="447" y="295"/>
                  </a:lnTo>
                  <a:lnTo>
                    <a:pt x="533" y="178"/>
                  </a:lnTo>
                  <a:lnTo>
                    <a:pt x="629" y="94"/>
                  </a:lnTo>
                  <a:lnTo>
                    <a:pt x="741" y="25"/>
                  </a:lnTo>
                  <a:lnTo>
                    <a:pt x="852" y="0"/>
                  </a:lnTo>
                  <a:lnTo>
                    <a:pt x="973" y="0"/>
                  </a:lnTo>
                  <a:lnTo>
                    <a:pt x="1086" y="25"/>
                  </a:lnTo>
                  <a:lnTo>
                    <a:pt x="1198" y="94"/>
                  </a:lnTo>
                  <a:lnTo>
                    <a:pt x="1294" y="178"/>
                  </a:lnTo>
                  <a:lnTo>
                    <a:pt x="1395" y="94"/>
                  </a:lnTo>
                  <a:lnTo>
                    <a:pt x="1499" y="25"/>
                  </a:lnTo>
                  <a:lnTo>
                    <a:pt x="1620" y="0"/>
                  </a:lnTo>
                  <a:lnTo>
                    <a:pt x="1733" y="0"/>
                  </a:lnTo>
                  <a:lnTo>
                    <a:pt x="1852" y="25"/>
                  </a:lnTo>
                  <a:lnTo>
                    <a:pt x="1956" y="94"/>
                  </a:lnTo>
                  <a:lnTo>
                    <a:pt x="2060" y="178"/>
                  </a:lnTo>
                  <a:lnTo>
                    <a:pt x="2138" y="295"/>
                  </a:lnTo>
                  <a:lnTo>
                    <a:pt x="2206" y="432"/>
                  </a:lnTo>
                  <a:lnTo>
                    <a:pt x="2284" y="414"/>
                  </a:lnTo>
                  <a:lnTo>
                    <a:pt x="2361" y="432"/>
                  </a:lnTo>
                  <a:lnTo>
                    <a:pt x="2440" y="474"/>
                  </a:lnTo>
                  <a:lnTo>
                    <a:pt x="2499" y="543"/>
                  </a:lnTo>
                  <a:lnTo>
                    <a:pt x="2551" y="627"/>
                  </a:lnTo>
                  <a:lnTo>
                    <a:pt x="2578" y="729"/>
                  </a:lnTo>
                  <a:lnTo>
                    <a:pt x="2586" y="839"/>
                  </a:lnTo>
                  <a:lnTo>
                    <a:pt x="2578" y="948"/>
                  </a:lnTo>
                  <a:lnTo>
                    <a:pt x="2551" y="1050"/>
                  </a:lnTo>
                  <a:lnTo>
                    <a:pt x="2499" y="1136"/>
                  </a:lnTo>
                  <a:lnTo>
                    <a:pt x="2440" y="1203"/>
                  </a:lnTo>
                  <a:lnTo>
                    <a:pt x="2361" y="1246"/>
                  </a:lnTo>
                  <a:lnTo>
                    <a:pt x="2284" y="1263"/>
                  </a:lnTo>
                  <a:lnTo>
                    <a:pt x="2206" y="1253"/>
                  </a:lnTo>
                  <a:lnTo>
                    <a:pt x="2138" y="1390"/>
                  </a:lnTo>
                  <a:lnTo>
                    <a:pt x="2060" y="1499"/>
                  </a:lnTo>
                  <a:lnTo>
                    <a:pt x="1956" y="1593"/>
                  </a:lnTo>
                  <a:lnTo>
                    <a:pt x="1852" y="1653"/>
                  </a:lnTo>
                  <a:lnTo>
                    <a:pt x="1733" y="1685"/>
                  </a:lnTo>
                  <a:lnTo>
                    <a:pt x="1620" y="1685"/>
                  </a:lnTo>
                  <a:lnTo>
                    <a:pt x="1499" y="1653"/>
                  </a:lnTo>
                  <a:lnTo>
                    <a:pt x="1395" y="1593"/>
                  </a:lnTo>
                  <a:lnTo>
                    <a:pt x="1294" y="1499"/>
                  </a:lnTo>
                  <a:lnTo>
                    <a:pt x="1198" y="1593"/>
                  </a:lnTo>
                  <a:lnTo>
                    <a:pt x="1086" y="1653"/>
                  </a:lnTo>
                  <a:lnTo>
                    <a:pt x="973" y="1685"/>
                  </a:lnTo>
                  <a:lnTo>
                    <a:pt x="852" y="1685"/>
                  </a:lnTo>
                  <a:lnTo>
                    <a:pt x="741" y="1653"/>
                  </a:lnTo>
                  <a:lnTo>
                    <a:pt x="629" y="1593"/>
                  </a:lnTo>
                  <a:lnTo>
                    <a:pt x="533" y="1499"/>
                  </a:lnTo>
                  <a:lnTo>
                    <a:pt x="447" y="1390"/>
                  </a:lnTo>
                  <a:lnTo>
                    <a:pt x="380" y="1253"/>
                  </a:lnTo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58920" y="3246480"/>
              <a:ext cx="1768320" cy="1171080"/>
            </a:xfrm>
            <a:custGeom>
              <a:avLst/>
              <a:gdLst/>
              <a:ahLst/>
              <a:rect l="l" t="t" r="r" b="b"/>
              <a:pathLst>
                <a:path w="2337" h="1687">
                  <a:moveTo>
                    <a:pt x="342" y="1255"/>
                  </a:moveTo>
                  <a:lnTo>
                    <a:pt x="273" y="1263"/>
                  </a:lnTo>
                  <a:lnTo>
                    <a:pt x="202" y="1247"/>
                  </a:lnTo>
                  <a:lnTo>
                    <a:pt x="140" y="1205"/>
                  </a:lnTo>
                  <a:lnTo>
                    <a:pt x="77" y="1136"/>
                  </a:lnTo>
                  <a:lnTo>
                    <a:pt x="38" y="1052"/>
                  </a:lnTo>
                  <a:lnTo>
                    <a:pt x="8" y="950"/>
                  </a:lnTo>
                  <a:lnTo>
                    <a:pt x="0" y="840"/>
                  </a:lnTo>
                  <a:lnTo>
                    <a:pt x="8" y="729"/>
                  </a:lnTo>
                  <a:lnTo>
                    <a:pt x="38" y="627"/>
                  </a:lnTo>
                  <a:lnTo>
                    <a:pt x="77" y="543"/>
                  </a:lnTo>
                  <a:lnTo>
                    <a:pt x="140" y="474"/>
                  </a:lnTo>
                  <a:lnTo>
                    <a:pt x="202" y="432"/>
                  </a:lnTo>
                  <a:lnTo>
                    <a:pt x="273" y="416"/>
                  </a:lnTo>
                  <a:lnTo>
                    <a:pt x="342" y="432"/>
                  </a:lnTo>
                  <a:lnTo>
                    <a:pt x="405" y="297"/>
                  </a:lnTo>
                  <a:lnTo>
                    <a:pt x="482" y="178"/>
                  </a:lnTo>
                  <a:lnTo>
                    <a:pt x="568" y="94"/>
                  </a:lnTo>
                  <a:lnTo>
                    <a:pt x="670" y="25"/>
                  </a:lnTo>
                  <a:lnTo>
                    <a:pt x="772" y="0"/>
                  </a:lnTo>
                  <a:lnTo>
                    <a:pt x="879" y="0"/>
                  </a:lnTo>
                  <a:lnTo>
                    <a:pt x="981" y="25"/>
                  </a:lnTo>
                  <a:lnTo>
                    <a:pt x="1083" y="94"/>
                  </a:lnTo>
                  <a:lnTo>
                    <a:pt x="1169" y="178"/>
                  </a:lnTo>
                  <a:lnTo>
                    <a:pt x="1261" y="94"/>
                  </a:lnTo>
                  <a:lnTo>
                    <a:pt x="1355" y="25"/>
                  </a:lnTo>
                  <a:lnTo>
                    <a:pt x="1465" y="0"/>
                  </a:lnTo>
                  <a:lnTo>
                    <a:pt x="1565" y="0"/>
                  </a:lnTo>
                  <a:lnTo>
                    <a:pt x="1674" y="25"/>
                  </a:lnTo>
                  <a:lnTo>
                    <a:pt x="1768" y="94"/>
                  </a:lnTo>
                  <a:lnTo>
                    <a:pt x="1862" y="178"/>
                  </a:lnTo>
                  <a:lnTo>
                    <a:pt x="1931" y="297"/>
                  </a:lnTo>
                  <a:lnTo>
                    <a:pt x="1995" y="432"/>
                  </a:lnTo>
                  <a:lnTo>
                    <a:pt x="2064" y="416"/>
                  </a:lnTo>
                  <a:lnTo>
                    <a:pt x="2135" y="432"/>
                  </a:lnTo>
                  <a:lnTo>
                    <a:pt x="2204" y="474"/>
                  </a:lnTo>
                  <a:lnTo>
                    <a:pt x="2260" y="543"/>
                  </a:lnTo>
                  <a:lnTo>
                    <a:pt x="2306" y="627"/>
                  </a:lnTo>
                  <a:lnTo>
                    <a:pt x="2329" y="729"/>
                  </a:lnTo>
                  <a:lnTo>
                    <a:pt x="2337" y="840"/>
                  </a:lnTo>
                  <a:lnTo>
                    <a:pt x="2329" y="950"/>
                  </a:lnTo>
                  <a:lnTo>
                    <a:pt x="2306" y="1052"/>
                  </a:lnTo>
                  <a:lnTo>
                    <a:pt x="2260" y="1136"/>
                  </a:lnTo>
                  <a:lnTo>
                    <a:pt x="2204" y="1205"/>
                  </a:lnTo>
                  <a:lnTo>
                    <a:pt x="2135" y="1247"/>
                  </a:lnTo>
                  <a:lnTo>
                    <a:pt x="2064" y="1263"/>
                  </a:lnTo>
                  <a:lnTo>
                    <a:pt x="1995" y="1255"/>
                  </a:lnTo>
                  <a:lnTo>
                    <a:pt x="1931" y="1391"/>
                  </a:lnTo>
                  <a:lnTo>
                    <a:pt x="1862" y="1501"/>
                  </a:lnTo>
                  <a:lnTo>
                    <a:pt x="1768" y="1595"/>
                  </a:lnTo>
                  <a:lnTo>
                    <a:pt x="1674" y="1654"/>
                  </a:lnTo>
                  <a:lnTo>
                    <a:pt x="1565" y="1687"/>
                  </a:lnTo>
                  <a:lnTo>
                    <a:pt x="1465" y="1687"/>
                  </a:lnTo>
                  <a:lnTo>
                    <a:pt x="1355" y="1654"/>
                  </a:lnTo>
                  <a:lnTo>
                    <a:pt x="1261" y="1595"/>
                  </a:lnTo>
                  <a:lnTo>
                    <a:pt x="1169" y="1501"/>
                  </a:lnTo>
                  <a:lnTo>
                    <a:pt x="1083" y="1595"/>
                  </a:lnTo>
                  <a:lnTo>
                    <a:pt x="981" y="1654"/>
                  </a:lnTo>
                  <a:lnTo>
                    <a:pt x="879" y="1687"/>
                  </a:lnTo>
                  <a:lnTo>
                    <a:pt x="772" y="1687"/>
                  </a:lnTo>
                  <a:lnTo>
                    <a:pt x="670" y="1654"/>
                  </a:lnTo>
                  <a:lnTo>
                    <a:pt x="568" y="1595"/>
                  </a:lnTo>
                  <a:lnTo>
                    <a:pt x="482" y="1501"/>
                  </a:lnTo>
                  <a:lnTo>
                    <a:pt x="405" y="1391"/>
                  </a:lnTo>
                  <a:lnTo>
                    <a:pt x="342" y="1255"/>
                  </a:lnTo>
                  <a:close/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27640" y="4543200"/>
              <a:ext cx="1955880" cy="1172880"/>
            </a:xfrm>
            <a:custGeom>
              <a:avLst/>
              <a:gdLst/>
              <a:ahLst/>
              <a:rect l="l" t="t" r="r" b="b"/>
              <a:pathLst>
                <a:path w="2584" h="1695">
                  <a:moveTo>
                    <a:pt x="378" y="1261"/>
                  </a:moveTo>
                  <a:lnTo>
                    <a:pt x="301" y="1269"/>
                  </a:lnTo>
                  <a:lnTo>
                    <a:pt x="224" y="1253"/>
                  </a:lnTo>
                  <a:lnTo>
                    <a:pt x="155" y="1209"/>
                  </a:lnTo>
                  <a:lnTo>
                    <a:pt x="86" y="1142"/>
                  </a:lnTo>
                  <a:lnTo>
                    <a:pt x="42" y="1055"/>
                  </a:lnTo>
                  <a:lnTo>
                    <a:pt x="7" y="954"/>
                  </a:lnTo>
                  <a:lnTo>
                    <a:pt x="0" y="844"/>
                  </a:lnTo>
                  <a:lnTo>
                    <a:pt x="7" y="733"/>
                  </a:lnTo>
                  <a:lnTo>
                    <a:pt x="42" y="631"/>
                  </a:lnTo>
                  <a:lnTo>
                    <a:pt x="86" y="545"/>
                  </a:lnTo>
                  <a:lnTo>
                    <a:pt x="155" y="478"/>
                  </a:lnTo>
                  <a:lnTo>
                    <a:pt x="224" y="433"/>
                  </a:lnTo>
                  <a:lnTo>
                    <a:pt x="301" y="418"/>
                  </a:lnTo>
                  <a:lnTo>
                    <a:pt x="378" y="433"/>
                  </a:lnTo>
                  <a:lnTo>
                    <a:pt x="447" y="297"/>
                  </a:lnTo>
                  <a:lnTo>
                    <a:pt x="533" y="178"/>
                  </a:lnTo>
                  <a:lnTo>
                    <a:pt x="627" y="94"/>
                  </a:lnTo>
                  <a:lnTo>
                    <a:pt x="741" y="25"/>
                  </a:lnTo>
                  <a:lnTo>
                    <a:pt x="852" y="0"/>
                  </a:lnTo>
                  <a:lnTo>
                    <a:pt x="973" y="0"/>
                  </a:lnTo>
                  <a:lnTo>
                    <a:pt x="1084" y="25"/>
                  </a:lnTo>
                  <a:lnTo>
                    <a:pt x="1198" y="94"/>
                  </a:lnTo>
                  <a:lnTo>
                    <a:pt x="1292" y="178"/>
                  </a:lnTo>
                  <a:lnTo>
                    <a:pt x="1395" y="94"/>
                  </a:lnTo>
                  <a:lnTo>
                    <a:pt x="1499" y="25"/>
                  </a:lnTo>
                  <a:lnTo>
                    <a:pt x="1620" y="0"/>
                  </a:lnTo>
                  <a:lnTo>
                    <a:pt x="1731" y="0"/>
                  </a:lnTo>
                  <a:lnTo>
                    <a:pt x="1852" y="25"/>
                  </a:lnTo>
                  <a:lnTo>
                    <a:pt x="1956" y="94"/>
                  </a:lnTo>
                  <a:lnTo>
                    <a:pt x="2058" y="178"/>
                  </a:lnTo>
                  <a:lnTo>
                    <a:pt x="2137" y="297"/>
                  </a:lnTo>
                  <a:lnTo>
                    <a:pt x="2206" y="433"/>
                  </a:lnTo>
                  <a:lnTo>
                    <a:pt x="2282" y="418"/>
                  </a:lnTo>
                  <a:lnTo>
                    <a:pt x="2359" y="433"/>
                  </a:lnTo>
                  <a:lnTo>
                    <a:pt x="2438" y="478"/>
                  </a:lnTo>
                  <a:lnTo>
                    <a:pt x="2498" y="545"/>
                  </a:lnTo>
                  <a:lnTo>
                    <a:pt x="2549" y="631"/>
                  </a:lnTo>
                  <a:lnTo>
                    <a:pt x="2576" y="733"/>
                  </a:lnTo>
                  <a:lnTo>
                    <a:pt x="2584" y="844"/>
                  </a:lnTo>
                  <a:lnTo>
                    <a:pt x="2576" y="954"/>
                  </a:lnTo>
                  <a:lnTo>
                    <a:pt x="2549" y="1055"/>
                  </a:lnTo>
                  <a:lnTo>
                    <a:pt x="2498" y="1142"/>
                  </a:lnTo>
                  <a:lnTo>
                    <a:pt x="2438" y="1209"/>
                  </a:lnTo>
                  <a:lnTo>
                    <a:pt x="2359" y="1253"/>
                  </a:lnTo>
                  <a:lnTo>
                    <a:pt x="2282" y="1269"/>
                  </a:lnTo>
                  <a:lnTo>
                    <a:pt x="2206" y="1261"/>
                  </a:lnTo>
                  <a:lnTo>
                    <a:pt x="2137" y="1397"/>
                  </a:lnTo>
                  <a:lnTo>
                    <a:pt x="2058" y="1509"/>
                  </a:lnTo>
                  <a:lnTo>
                    <a:pt x="1956" y="1601"/>
                  </a:lnTo>
                  <a:lnTo>
                    <a:pt x="1852" y="1662"/>
                  </a:lnTo>
                  <a:lnTo>
                    <a:pt x="1731" y="1695"/>
                  </a:lnTo>
                  <a:lnTo>
                    <a:pt x="1620" y="1695"/>
                  </a:lnTo>
                  <a:lnTo>
                    <a:pt x="1499" y="1662"/>
                  </a:lnTo>
                  <a:lnTo>
                    <a:pt x="1395" y="1601"/>
                  </a:lnTo>
                  <a:lnTo>
                    <a:pt x="1292" y="1509"/>
                  </a:lnTo>
                  <a:lnTo>
                    <a:pt x="1198" y="1601"/>
                  </a:lnTo>
                  <a:lnTo>
                    <a:pt x="1084" y="1662"/>
                  </a:lnTo>
                  <a:lnTo>
                    <a:pt x="973" y="1695"/>
                  </a:lnTo>
                  <a:lnTo>
                    <a:pt x="852" y="1695"/>
                  </a:lnTo>
                  <a:lnTo>
                    <a:pt x="741" y="1662"/>
                  </a:lnTo>
                  <a:lnTo>
                    <a:pt x="627" y="1601"/>
                  </a:lnTo>
                  <a:lnTo>
                    <a:pt x="533" y="1509"/>
                  </a:lnTo>
                  <a:lnTo>
                    <a:pt x="447" y="1397"/>
                  </a:lnTo>
                  <a:lnTo>
                    <a:pt x="378" y="1261"/>
                  </a:lnTo>
                  <a:close/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156360" y="1879560"/>
              <a:ext cx="1928880" cy="1169640"/>
            </a:xfrm>
            <a:custGeom>
              <a:avLst/>
              <a:gdLst/>
              <a:ahLst/>
              <a:rect l="l" t="t" r="r" b="b"/>
              <a:pathLst>
                <a:path w="2548" h="1688">
                  <a:moveTo>
                    <a:pt x="372" y="1256"/>
                  </a:moveTo>
                  <a:lnTo>
                    <a:pt x="297" y="1264"/>
                  </a:lnTo>
                  <a:lnTo>
                    <a:pt x="221" y="1248"/>
                  </a:lnTo>
                  <a:lnTo>
                    <a:pt x="152" y="1206"/>
                  </a:lnTo>
                  <a:lnTo>
                    <a:pt x="84" y="1137"/>
                  </a:lnTo>
                  <a:lnTo>
                    <a:pt x="42" y="1052"/>
                  </a:lnTo>
                  <a:lnTo>
                    <a:pt x="8" y="951"/>
                  </a:lnTo>
                  <a:lnTo>
                    <a:pt x="0" y="841"/>
                  </a:lnTo>
                  <a:lnTo>
                    <a:pt x="8" y="730"/>
                  </a:lnTo>
                  <a:lnTo>
                    <a:pt x="42" y="628"/>
                  </a:lnTo>
                  <a:lnTo>
                    <a:pt x="84" y="544"/>
                  </a:lnTo>
                  <a:lnTo>
                    <a:pt x="152" y="475"/>
                  </a:lnTo>
                  <a:lnTo>
                    <a:pt x="221" y="432"/>
                  </a:lnTo>
                  <a:lnTo>
                    <a:pt x="297" y="417"/>
                  </a:lnTo>
                  <a:lnTo>
                    <a:pt x="372" y="432"/>
                  </a:lnTo>
                  <a:lnTo>
                    <a:pt x="441" y="298"/>
                  </a:lnTo>
                  <a:lnTo>
                    <a:pt x="526" y="179"/>
                  </a:lnTo>
                  <a:lnTo>
                    <a:pt x="620" y="94"/>
                  </a:lnTo>
                  <a:lnTo>
                    <a:pt x="729" y="25"/>
                  </a:lnTo>
                  <a:lnTo>
                    <a:pt x="841" y="0"/>
                  </a:lnTo>
                  <a:lnTo>
                    <a:pt x="960" y="0"/>
                  </a:lnTo>
                  <a:lnTo>
                    <a:pt x="1069" y="25"/>
                  </a:lnTo>
                  <a:lnTo>
                    <a:pt x="1181" y="94"/>
                  </a:lnTo>
                  <a:lnTo>
                    <a:pt x="1275" y="179"/>
                  </a:lnTo>
                  <a:lnTo>
                    <a:pt x="1376" y="94"/>
                  </a:lnTo>
                  <a:lnTo>
                    <a:pt x="1478" y="25"/>
                  </a:lnTo>
                  <a:lnTo>
                    <a:pt x="1597" y="0"/>
                  </a:lnTo>
                  <a:lnTo>
                    <a:pt x="1707" y="0"/>
                  </a:lnTo>
                  <a:lnTo>
                    <a:pt x="1826" y="25"/>
                  </a:lnTo>
                  <a:lnTo>
                    <a:pt x="1928" y="94"/>
                  </a:lnTo>
                  <a:lnTo>
                    <a:pt x="2029" y="179"/>
                  </a:lnTo>
                  <a:lnTo>
                    <a:pt x="2106" y="298"/>
                  </a:lnTo>
                  <a:lnTo>
                    <a:pt x="2175" y="432"/>
                  </a:lnTo>
                  <a:lnTo>
                    <a:pt x="2250" y="417"/>
                  </a:lnTo>
                  <a:lnTo>
                    <a:pt x="2327" y="432"/>
                  </a:lnTo>
                  <a:lnTo>
                    <a:pt x="2404" y="475"/>
                  </a:lnTo>
                  <a:lnTo>
                    <a:pt x="2463" y="544"/>
                  </a:lnTo>
                  <a:lnTo>
                    <a:pt x="2515" y="628"/>
                  </a:lnTo>
                  <a:lnTo>
                    <a:pt x="2540" y="730"/>
                  </a:lnTo>
                  <a:lnTo>
                    <a:pt x="2548" y="841"/>
                  </a:lnTo>
                  <a:lnTo>
                    <a:pt x="2540" y="951"/>
                  </a:lnTo>
                  <a:lnTo>
                    <a:pt x="2515" y="1052"/>
                  </a:lnTo>
                  <a:lnTo>
                    <a:pt x="2463" y="1137"/>
                  </a:lnTo>
                  <a:lnTo>
                    <a:pt x="2404" y="1206"/>
                  </a:lnTo>
                  <a:lnTo>
                    <a:pt x="2327" y="1248"/>
                  </a:lnTo>
                  <a:lnTo>
                    <a:pt x="2250" y="1264"/>
                  </a:lnTo>
                  <a:lnTo>
                    <a:pt x="2175" y="1256"/>
                  </a:lnTo>
                  <a:lnTo>
                    <a:pt x="2106" y="1392"/>
                  </a:lnTo>
                  <a:lnTo>
                    <a:pt x="2029" y="1502"/>
                  </a:lnTo>
                  <a:lnTo>
                    <a:pt x="1928" y="1596"/>
                  </a:lnTo>
                  <a:lnTo>
                    <a:pt x="1826" y="1655"/>
                  </a:lnTo>
                  <a:lnTo>
                    <a:pt x="1707" y="1688"/>
                  </a:lnTo>
                  <a:lnTo>
                    <a:pt x="1597" y="1688"/>
                  </a:lnTo>
                  <a:lnTo>
                    <a:pt x="1478" y="1655"/>
                  </a:lnTo>
                  <a:lnTo>
                    <a:pt x="1376" y="1596"/>
                  </a:lnTo>
                  <a:lnTo>
                    <a:pt x="1275" y="1502"/>
                  </a:lnTo>
                  <a:lnTo>
                    <a:pt x="1181" y="1596"/>
                  </a:lnTo>
                  <a:lnTo>
                    <a:pt x="1069" y="1655"/>
                  </a:lnTo>
                  <a:lnTo>
                    <a:pt x="960" y="1688"/>
                  </a:lnTo>
                  <a:lnTo>
                    <a:pt x="841" y="1688"/>
                  </a:lnTo>
                  <a:lnTo>
                    <a:pt x="729" y="1655"/>
                  </a:lnTo>
                  <a:lnTo>
                    <a:pt x="620" y="1596"/>
                  </a:lnTo>
                  <a:lnTo>
                    <a:pt x="526" y="1502"/>
                  </a:lnTo>
                  <a:lnTo>
                    <a:pt x="441" y="1392"/>
                  </a:lnTo>
                  <a:lnTo>
                    <a:pt x="372" y="1256"/>
                  </a:lnTo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77080" y="3246480"/>
              <a:ext cx="1920960" cy="1171080"/>
            </a:xfrm>
            <a:custGeom>
              <a:avLst/>
              <a:gdLst/>
              <a:ahLst/>
              <a:rect l="l" t="t" r="r" b="b"/>
              <a:pathLst>
                <a:path w="2538" h="1689">
                  <a:moveTo>
                    <a:pt x="372" y="1257"/>
                  </a:moveTo>
                  <a:lnTo>
                    <a:pt x="296" y="1265"/>
                  </a:lnTo>
                  <a:lnTo>
                    <a:pt x="219" y="1247"/>
                  </a:lnTo>
                  <a:lnTo>
                    <a:pt x="152" y="1205"/>
                  </a:lnTo>
                  <a:lnTo>
                    <a:pt x="84" y="1138"/>
                  </a:lnTo>
                  <a:lnTo>
                    <a:pt x="42" y="1054"/>
                  </a:lnTo>
                  <a:lnTo>
                    <a:pt x="8" y="952"/>
                  </a:lnTo>
                  <a:lnTo>
                    <a:pt x="0" y="840"/>
                  </a:lnTo>
                  <a:lnTo>
                    <a:pt x="8" y="729"/>
                  </a:lnTo>
                  <a:lnTo>
                    <a:pt x="42" y="627"/>
                  </a:lnTo>
                  <a:lnTo>
                    <a:pt x="84" y="543"/>
                  </a:lnTo>
                  <a:lnTo>
                    <a:pt x="152" y="476"/>
                  </a:lnTo>
                  <a:lnTo>
                    <a:pt x="219" y="433"/>
                  </a:lnTo>
                  <a:lnTo>
                    <a:pt x="296" y="416"/>
                  </a:lnTo>
                  <a:lnTo>
                    <a:pt x="372" y="433"/>
                  </a:lnTo>
                  <a:lnTo>
                    <a:pt x="440" y="297"/>
                  </a:lnTo>
                  <a:lnTo>
                    <a:pt x="524" y="178"/>
                  </a:lnTo>
                  <a:lnTo>
                    <a:pt x="616" y="94"/>
                  </a:lnTo>
                  <a:lnTo>
                    <a:pt x="728" y="25"/>
                  </a:lnTo>
                  <a:lnTo>
                    <a:pt x="837" y="0"/>
                  </a:lnTo>
                  <a:lnTo>
                    <a:pt x="956" y="0"/>
                  </a:lnTo>
                  <a:lnTo>
                    <a:pt x="1066" y="25"/>
                  </a:lnTo>
                  <a:lnTo>
                    <a:pt x="1175" y="94"/>
                  </a:lnTo>
                  <a:lnTo>
                    <a:pt x="1269" y="178"/>
                  </a:lnTo>
                  <a:lnTo>
                    <a:pt x="1371" y="94"/>
                  </a:lnTo>
                  <a:lnTo>
                    <a:pt x="1473" y="25"/>
                  </a:lnTo>
                  <a:lnTo>
                    <a:pt x="1592" y="0"/>
                  </a:lnTo>
                  <a:lnTo>
                    <a:pt x="1701" y="0"/>
                  </a:lnTo>
                  <a:lnTo>
                    <a:pt x="1820" y="25"/>
                  </a:lnTo>
                  <a:lnTo>
                    <a:pt x="1922" y="94"/>
                  </a:lnTo>
                  <a:lnTo>
                    <a:pt x="2022" y="178"/>
                  </a:lnTo>
                  <a:lnTo>
                    <a:pt x="2098" y="297"/>
                  </a:lnTo>
                  <a:lnTo>
                    <a:pt x="2166" y="433"/>
                  </a:lnTo>
                  <a:lnTo>
                    <a:pt x="2242" y="416"/>
                  </a:lnTo>
                  <a:lnTo>
                    <a:pt x="2319" y="433"/>
                  </a:lnTo>
                  <a:lnTo>
                    <a:pt x="2394" y="476"/>
                  </a:lnTo>
                  <a:lnTo>
                    <a:pt x="2454" y="543"/>
                  </a:lnTo>
                  <a:lnTo>
                    <a:pt x="2506" y="627"/>
                  </a:lnTo>
                  <a:lnTo>
                    <a:pt x="2530" y="729"/>
                  </a:lnTo>
                  <a:lnTo>
                    <a:pt x="2538" y="840"/>
                  </a:lnTo>
                  <a:lnTo>
                    <a:pt x="2530" y="952"/>
                  </a:lnTo>
                  <a:lnTo>
                    <a:pt x="2506" y="1054"/>
                  </a:lnTo>
                  <a:lnTo>
                    <a:pt x="2454" y="1138"/>
                  </a:lnTo>
                  <a:lnTo>
                    <a:pt x="2394" y="1205"/>
                  </a:lnTo>
                  <a:lnTo>
                    <a:pt x="2319" y="1247"/>
                  </a:lnTo>
                  <a:lnTo>
                    <a:pt x="2242" y="1265"/>
                  </a:lnTo>
                  <a:lnTo>
                    <a:pt x="2166" y="1257"/>
                  </a:lnTo>
                  <a:lnTo>
                    <a:pt x="2098" y="1393"/>
                  </a:lnTo>
                  <a:lnTo>
                    <a:pt x="2022" y="1503"/>
                  </a:lnTo>
                  <a:lnTo>
                    <a:pt x="1922" y="1597"/>
                  </a:lnTo>
                  <a:lnTo>
                    <a:pt x="1820" y="1656"/>
                  </a:lnTo>
                  <a:lnTo>
                    <a:pt x="1701" y="1689"/>
                  </a:lnTo>
                  <a:lnTo>
                    <a:pt x="1592" y="1689"/>
                  </a:lnTo>
                  <a:lnTo>
                    <a:pt x="1473" y="1656"/>
                  </a:lnTo>
                  <a:lnTo>
                    <a:pt x="1371" y="1597"/>
                  </a:lnTo>
                  <a:lnTo>
                    <a:pt x="1269" y="1503"/>
                  </a:lnTo>
                  <a:lnTo>
                    <a:pt x="1175" y="1597"/>
                  </a:lnTo>
                  <a:lnTo>
                    <a:pt x="1066" y="1656"/>
                  </a:lnTo>
                  <a:lnTo>
                    <a:pt x="956" y="1689"/>
                  </a:lnTo>
                  <a:lnTo>
                    <a:pt x="837" y="1689"/>
                  </a:lnTo>
                  <a:lnTo>
                    <a:pt x="728" y="1656"/>
                  </a:lnTo>
                  <a:lnTo>
                    <a:pt x="616" y="1597"/>
                  </a:lnTo>
                  <a:lnTo>
                    <a:pt x="524" y="1503"/>
                  </a:lnTo>
                  <a:lnTo>
                    <a:pt x="440" y="1393"/>
                  </a:lnTo>
                  <a:lnTo>
                    <a:pt x="372" y="1257"/>
                  </a:lnTo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979800" y="1695600"/>
              <a:ext cx="1920960" cy="1176120"/>
            </a:xfrm>
            <a:custGeom>
              <a:avLst/>
              <a:gdLst/>
              <a:ahLst/>
              <a:rect l="l" t="t" r="r" b="b"/>
              <a:pathLst>
                <a:path w="2538" h="1697">
                  <a:moveTo>
                    <a:pt x="372" y="1263"/>
                  </a:moveTo>
                  <a:lnTo>
                    <a:pt x="295" y="1270"/>
                  </a:lnTo>
                  <a:lnTo>
                    <a:pt x="219" y="1253"/>
                  </a:lnTo>
                  <a:lnTo>
                    <a:pt x="151" y="1211"/>
                  </a:lnTo>
                  <a:lnTo>
                    <a:pt x="84" y="1144"/>
                  </a:lnTo>
                  <a:lnTo>
                    <a:pt x="42" y="1057"/>
                  </a:lnTo>
                  <a:lnTo>
                    <a:pt x="7" y="956"/>
                  </a:lnTo>
                  <a:lnTo>
                    <a:pt x="0" y="844"/>
                  </a:lnTo>
                  <a:lnTo>
                    <a:pt x="7" y="733"/>
                  </a:lnTo>
                  <a:lnTo>
                    <a:pt x="42" y="631"/>
                  </a:lnTo>
                  <a:lnTo>
                    <a:pt x="84" y="547"/>
                  </a:lnTo>
                  <a:lnTo>
                    <a:pt x="151" y="478"/>
                  </a:lnTo>
                  <a:lnTo>
                    <a:pt x="219" y="435"/>
                  </a:lnTo>
                  <a:lnTo>
                    <a:pt x="295" y="418"/>
                  </a:lnTo>
                  <a:lnTo>
                    <a:pt x="372" y="435"/>
                  </a:lnTo>
                  <a:lnTo>
                    <a:pt x="439" y="299"/>
                  </a:lnTo>
                  <a:lnTo>
                    <a:pt x="524" y="178"/>
                  </a:lnTo>
                  <a:lnTo>
                    <a:pt x="616" y="94"/>
                  </a:lnTo>
                  <a:lnTo>
                    <a:pt x="727" y="25"/>
                  </a:lnTo>
                  <a:lnTo>
                    <a:pt x="837" y="0"/>
                  </a:lnTo>
                  <a:lnTo>
                    <a:pt x="956" y="0"/>
                  </a:lnTo>
                  <a:lnTo>
                    <a:pt x="1065" y="25"/>
                  </a:lnTo>
                  <a:lnTo>
                    <a:pt x="1175" y="94"/>
                  </a:lnTo>
                  <a:lnTo>
                    <a:pt x="1269" y="178"/>
                  </a:lnTo>
                  <a:lnTo>
                    <a:pt x="1371" y="94"/>
                  </a:lnTo>
                  <a:lnTo>
                    <a:pt x="1472" y="25"/>
                  </a:lnTo>
                  <a:lnTo>
                    <a:pt x="1591" y="0"/>
                  </a:lnTo>
                  <a:lnTo>
                    <a:pt x="1701" y="0"/>
                  </a:lnTo>
                  <a:lnTo>
                    <a:pt x="1820" y="25"/>
                  </a:lnTo>
                  <a:lnTo>
                    <a:pt x="1922" y="94"/>
                  </a:lnTo>
                  <a:lnTo>
                    <a:pt x="2021" y="178"/>
                  </a:lnTo>
                  <a:lnTo>
                    <a:pt x="2098" y="299"/>
                  </a:lnTo>
                  <a:lnTo>
                    <a:pt x="2165" y="435"/>
                  </a:lnTo>
                  <a:lnTo>
                    <a:pt x="2242" y="418"/>
                  </a:lnTo>
                  <a:lnTo>
                    <a:pt x="2319" y="435"/>
                  </a:lnTo>
                  <a:lnTo>
                    <a:pt x="2394" y="478"/>
                  </a:lnTo>
                  <a:lnTo>
                    <a:pt x="2453" y="547"/>
                  </a:lnTo>
                  <a:lnTo>
                    <a:pt x="2505" y="631"/>
                  </a:lnTo>
                  <a:lnTo>
                    <a:pt x="2530" y="733"/>
                  </a:lnTo>
                  <a:lnTo>
                    <a:pt x="2538" y="844"/>
                  </a:lnTo>
                  <a:lnTo>
                    <a:pt x="2530" y="956"/>
                  </a:lnTo>
                  <a:lnTo>
                    <a:pt x="2505" y="1057"/>
                  </a:lnTo>
                  <a:lnTo>
                    <a:pt x="2453" y="1144"/>
                  </a:lnTo>
                  <a:lnTo>
                    <a:pt x="2394" y="1211"/>
                  </a:lnTo>
                  <a:lnTo>
                    <a:pt x="2319" y="1253"/>
                  </a:lnTo>
                  <a:lnTo>
                    <a:pt x="2242" y="1270"/>
                  </a:lnTo>
                  <a:lnTo>
                    <a:pt x="2165" y="1263"/>
                  </a:lnTo>
                  <a:lnTo>
                    <a:pt x="2098" y="1399"/>
                  </a:lnTo>
                  <a:lnTo>
                    <a:pt x="2021" y="1510"/>
                  </a:lnTo>
                  <a:lnTo>
                    <a:pt x="1922" y="1603"/>
                  </a:lnTo>
                  <a:lnTo>
                    <a:pt x="1820" y="1664"/>
                  </a:lnTo>
                  <a:lnTo>
                    <a:pt x="1701" y="1697"/>
                  </a:lnTo>
                  <a:lnTo>
                    <a:pt x="1591" y="1697"/>
                  </a:lnTo>
                  <a:lnTo>
                    <a:pt x="1472" y="1664"/>
                  </a:lnTo>
                  <a:lnTo>
                    <a:pt x="1371" y="1603"/>
                  </a:lnTo>
                  <a:lnTo>
                    <a:pt x="1269" y="1510"/>
                  </a:lnTo>
                  <a:lnTo>
                    <a:pt x="1175" y="1603"/>
                  </a:lnTo>
                  <a:lnTo>
                    <a:pt x="1065" y="1664"/>
                  </a:lnTo>
                  <a:lnTo>
                    <a:pt x="956" y="1697"/>
                  </a:lnTo>
                  <a:lnTo>
                    <a:pt x="837" y="1697"/>
                  </a:lnTo>
                  <a:lnTo>
                    <a:pt x="727" y="1664"/>
                  </a:lnTo>
                  <a:lnTo>
                    <a:pt x="616" y="1603"/>
                  </a:lnTo>
                  <a:lnTo>
                    <a:pt x="524" y="1510"/>
                  </a:lnTo>
                  <a:lnTo>
                    <a:pt x="439" y="1399"/>
                  </a:lnTo>
                  <a:lnTo>
                    <a:pt x="372" y="1263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79800" y="1695600"/>
              <a:ext cx="1920960" cy="1176120"/>
            </a:xfrm>
            <a:custGeom>
              <a:avLst/>
              <a:gdLst/>
              <a:ahLst/>
              <a:rect l="l" t="t" r="r" b="b"/>
              <a:pathLst>
                <a:path w="2538" h="1697">
                  <a:moveTo>
                    <a:pt x="372" y="1263"/>
                  </a:moveTo>
                  <a:lnTo>
                    <a:pt x="295" y="1270"/>
                  </a:lnTo>
                  <a:lnTo>
                    <a:pt x="219" y="1253"/>
                  </a:lnTo>
                  <a:lnTo>
                    <a:pt x="151" y="1211"/>
                  </a:lnTo>
                  <a:lnTo>
                    <a:pt x="84" y="1144"/>
                  </a:lnTo>
                  <a:lnTo>
                    <a:pt x="42" y="1057"/>
                  </a:lnTo>
                  <a:lnTo>
                    <a:pt x="7" y="956"/>
                  </a:lnTo>
                  <a:lnTo>
                    <a:pt x="0" y="844"/>
                  </a:lnTo>
                  <a:lnTo>
                    <a:pt x="7" y="733"/>
                  </a:lnTo>
                  <a:lnTo>
                    <a:pt x="42" y="631"/>
                  </a:lnTo>
                  <a:lnTo>
                    <a:pt x="84" y="547"/>
                  </a:lnTo>
                  <a:lnTo>
                    <a:pt x="151" y="478"/>
                  </a:lnTo>
                  <a:lnTo>
                    <a:pt x="219" y="435"/>
                  </a:lnTo>
                  <a:lnTo>
                    <a:pt x="295" y="418"/>
                  </a:lnTo>
                  <a:lnTo>
                    <a:pt x="372" y="435"/>
                  </a:lnTo>
                  <a:lnTo>
                    <a:pt x="439" y="299"/>
                  </a:lnTo>
                  <a:lnTo>
                    <a:pt x="524" y="178"/>
                  </a:lnTo>
                  <a:lnTo>
                    <a:pt x="616" y="94"/>
                  </a:lnTo>
                  <a:lnTo>
                    <a:pt x="727" y="25"/>
                  </a:lnTo>
                  <a:lnTo>
                    <a:pt x="837" y="0"/>
                  </a:lnTo>
                  <a:lnTo>
                    <a:pt x="956" y="0"/>
                  </a:lnTo>
                  <a:lnTo>
                    <a:pt x="1065" y="25"/>
                  </a:lnTo>
                  <a:lnTo>
                    <a:pt x="1175" y="94"/>
                  </a:lnTo>
                  <a:lnTo>
                    <a:pt x="1269" y="178"/>
                  </a:lnTo>
                  <a:lnTo>
                    <a:pt x="1371" y="94"/>
                  </a:lnTo>
                  <a:lnTo>
                    <a:pt x="1472" y="25"/>
                  </a:lnTo>
                  <a:lnTo>
                    <a:pt x="1591" y="0"/>
                  </a:lnTo>
                  <a:lnTo>
                    <a:pt x="1701" y="0"/>
                  </a:lnTo>
                  <a:lnTo>
                    <a:pt x="1820" y="25"/>
                  </a:lnTo>
                  <a:lnTo>
                    <a:pt x="1922" y="94"/>
                  </a:lnTo>
                  <a:lnTo>
                    <a:pt x="2021" y="178"/>
                  </a:lnTo>
                  <a:lnTo>
                    <a:pt x="2098" y="299"/>
                  </a:lnTo>
                  <a:lnTo>
                    <a:pt x="2165" y="435"/>
                  </a:lnTo>
                  <a:lnTo>
                    <a:pt x="2242" y="418"/>
                  </a:lnTo>
                  <a:lnTo>
                    <a:pt x="2319" y="435"/>
                  </a:lnTo>
                  <a:lnTo>
                    <a:pt x="2394" y="478"/>
                  </a:lnTo>
                  <a:lnTo>
                    <a:pt x="2453" y="547"/>
                  </a:lnTo>
                  <a:lnTo>
                    <a:pt x="2505" y="631"/>
                  </a:lnTo>
                  <a:lnTo>
                    <a:pt x="2530" y="733"/>
                  </a:lnTo>
                  <a:lnTo>
                    <a:pt x="2538" y="844"/>
                  </a:lnTo>
                  <a:lnTo>
                    <a:pt x="2530" y="956"/>
                  </a:lnTo>
                  <a:lnTo>
                    <a:pt x="2505" y="1057"/>
                  </a:lnTo>
                  <a:lnTo>
                    <a:pt x="2453" y="1144"/>
                  </a:lnTo>
                  <a:lnTo>
                    <a:pt x="2394" y="1211"/>
                  </a:lnTo>
                  <a:lnTo>
                    <a:pt x="2319" y="1253"/>
                  </a:lnTo>
                  <a:lnTo>
                    <a:pt x="2242" y="1270"/>
                  </a:lnTo>
                  <a:lnTo>
                    <a:pt x="2165" y="1263"/>
                  </a:lnTo>
                  <a:lnTo>
                    <a:pt x="2098" y="1399"/>
                  </a:lnTo>
                  <a:lnTo>
                    <a:pt x="2021" y="1510"/>
                  </a:lnTo>
                  <a:lnTo>
                    <a:pt x="1922" y="1603"/>
                  </a:lnTo>
                  <a:lnTo>
                    <a:pt x="1820" y="1664"/>
                  </a:lnTo>
                  <a:lnTo>
                    <a:pt x="1701" y="1697"/>
                  </a:lnTo>
                  <a:lnTo>
                    <a:pt x="1591" y="1697"/>
                  </a:lnTo>
                  <a:lnTo>
                    <a:pt x="1472" y="1664"/>
                  </a:lnTo>
                  <a:lnTo>
                    <a:pt x="1371" y="1603"/>
                  </a:lnTo>
                  <a:lnTo>
                    <a:pt x="1269" y="1510"/>
                  </a:lnTo>
                  <a:lnTo>
                    <a:pt x="1175" y="1603"/>
                  </a:lnTo>
                  <a:lnTo>
                    <a:pt x="1065" y="1664"/>
                  </a:lnTo>
                  <a:lnTo>
                    <a:pt x="956" y="1697"/>
                  </a:lnTo>
                  <a:lnTo>
                    <a:pt x="837" y="1697"/>
                  </a:lnTo>
                  <a:lnTo>
                    <a:pt x="727" y="1664"/>
                  </a:lnTo>
                  <a:lnTo>
                    <a:pt x="616" y="1603"/>
                  </a:lnTo>
                  <a:lnTo>
                    <a:pt x="524" y="1510"/>
                  </a:lnTo>
                  <a:lnTo>
                    <a:pt x="439" y="1399"/>
                  </a:lnTo>
                  <a:lnTo>
                    <a:pt x="372" y="12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03560" y="1711440"/>
              <a:ext cx="1922400" cy="1175760"/>
            </a:xfrm>
            <a:custGeom>
              <a:avLst/>
              <a:gdLst/>
              <a:ahLst/>
              <a:rect l="l" t="t" r="r" b="b"/>
              <a:pathLst>
                <a:path w="2538" h="1697">
                  <a:moveTo>
                    <a:pt x="372" y="1263"/>
                  </a:moveTo>
                  <a:lnTo>
                    <a:pt x="295" y="1270"/>
                  </a:lnTo>
                  <a:lnTo>
                    <a:pt x="219" y="1253"/>
                  </a:lnTo>
                  <a:lnTo>
                    <a:pt x="151" y="1211"/>
                  </a:lnTo>
                  <a:lnTo>
                    <a:pt x="84" y="1144"/>
                  </a:lnTo>
                  <a:lnTo>
                    <a:pt x="42" y="1057"/>
                  </a:lnTo>
                  <a:lnTo>
                    <a:pt x="7" y="956"/>
                  </a:lnTo>
                  <a:lnTo>
                    <a:pt x="0" y="844"/>
                  </a:lnTo>
                  <a:lnTo>
                    <a:pt x="7" y="733"/>
                  </a:lnTo>
                  <a:lnTo>
                    <a:pt x="42" y="631"/>
                  </a:lnTo>
                  <a:lnTo>
                    <a:pt x="84" y="547"/>
                  </a:lnTo>
                  <a:lnTo>
                    <a:pt x="151" y="478"/>
                  </a:lnTo>
                  <a:lnTo>
                    <a:pt x="219" y="435"/>
                  </a:lnTo>
                  <a:lnTo>
                    <a:pt x="295" y="418"/>
                  </a:lnTo>
                  <a:lnTo>
                    <a:pt x="372" y="435"/>
                  </a:lnTo>
                  <a:lnTo>
                    <a:pt x="439" y="299"/>
                  </a:lnTo>
                  <a:lnTo>
                    <a:pt x="524" y="178"/>
                  </a:lnTo>
                  <a:lnTo>
                    <a:pt x="616" y="94"/>
                  </a:lnTo>
                  <a:lnTo>
                    <a:pt x="727" y="24"/>
                  </a:lnTo>
                  <a:lnTo>
                    <a:pt x="837" y="0"/>
                  </a:lnTo>
                  <a:lnTo>
                    <a:pt x="956" y="0"/>
                  </a:lnTo>
                  <a:lnTo>
                    <a:pt x="1065" y="24"/>
                  </a:lnTo>
                  <a:lnTo>
                    <a:pt x="1175" y="94"/>
                  </a:lnTo>
                  <a:lnTo>
                    <a:pt x="1269" y="178"/>
                  </a:lnTo>
                  <a:lnTo>
                    <a:pt x="1371" y="94"/>
                  </a:lnTo>
                  <a:lnTo>
                    <a:pt x="1472" y="24"/>
                  </a:lnTo>
                  <a:lnTo>
                    <a:pt x="1591" y="0"/>
                  </a:lnTo>
                  <a:lnTo>
                    <a:pt x="1701" y="0"/>
                  </a:lnTo>
                  <a:lnTo>
                    <a:pt x="1820" y="24"/>
                  </a:lnTo>
                  <a:lnTo>
                    <a:pt x="1922" y="94"/>
                  </a:lnTo>
                  <a:lnTo>
                    <a:pt x="2021" y="178"/>
                  </a:lnTo>
                  <a:lnTo>
                    <a:pt x="2098" y="299"/>
                  </a:lnTo>
                  <a:lnTo>
                    <a:pt x="2165" y="435"/>
                  </a:lnTo>
                  <a:lnTo>
                    <a:pt x="2242" y="418"/>
                  </a:lnTo>
                  <a:lnTo>
                    <a:pt x="2319" y="435"/>
                  </a:lnTo>
                  <a:lnTo>
                    <a:pt x="2394" y="478"/>
                  </a:lnTo>
                  <a:lnTo>
                    <a:pt x="2453" y="547"/>
                  </a:lnTo>
                  <a:lnTo>
                    <a:pt x="2505" y="631"/>
                  </a:lnTo>
                  <a:lnTo>
                    <a:pt x="2530" y="733"/>
                  </a:lnTo>
                  <a:lnTo>
                    <a:pt x="2538" y="844"/>
                  </a:lnTo>
                  <a:lnTo>
                    <a:pt x="2530" y="956"/>
                  </a:lnTo>
                  <a:lnTo>
                    <a:pt x="2505" y="1057"/>
                  </a:lnTo>
                  <a:lnTo>
                    <a:pt x="2453" y="1144"/>
                  </a:lnTo>
                  <a:lnTo>
                    <a:pt x="2394" y="1211"/>
                  </a:lnTo>
                  <a:lnTo>
                    <a:pt x="2319" y="1253"/>
                  </a:lnTo>
                  <a:lnTo>
                    <a:pt x="2242" y="1270"/>
                  </a:lnTo>
                  <a:lnTo>
                    <a:pt x="2165" y="1263"/>
                  </a:lnTo>
                  <a:lnTo>
                    <a:pt x="2098" y="1399"/>
                  </a:lnTo>
                  <a:lnTo>
                    <a:pt x="2021" y="1510"/>
                  </a:lnTo>
                  <a:lnTo>
                    <a:pt x="1922" y="1602"/>
                  </a:lnTo>
                  <a:lnTo>
                    <a:pt x="1820" y="1664"/>
                  </a:lnTo>
                  <a:lnTo>
                    <a:pt x="1701" y="1697"/>
                  </a:lnTo>
                  <a:lnTo>
                    <a:pt x="1591" y="1697"/>
                  </a:lnTo>
                  <a:lnTo>
                    <a:pt x="1472" y="1664"/>
                  </a:lnTo>
                  <a:lnTo>
                    <a:pt x="1371" y="1602"/>
                  </a:lnTo>
                  <a:lnTo>
                    <a:pt x="1269" y="1510"/>
                  </a:lnTo>
                  <a:lnTo>
                    <a:pt x="1175" y="1602"/>
                  </a:lnTo>
                  <a:lnTo>
                    <a:pt x="1065" y="1664"/>
                  </a:lnTo>
                  <a:lnTo>
                    <a:pt x="956" y="1697"/>
                  </a:lnTo>
                  <a:lnTo>
                    <a:pt x="837" y="1697"/>
                  </a:lnTo>
                  <a:lnTo>
                    <a:pt x="727" y="1664"/>
                  </a:lnTo>
                  <a:lnTo>
                    <a:pt x="616" y="1602"/>
                  </a:lnTo>
                  <a:lnTo>
                    <a:pt x="524" y="1510"/>
                  </a:lnTo>
                  <a:lnTo>
                    <a:pt x="439" y="1399"/>
                  </a:lnTo>
                  <a:lnTo>
                    <a:pt x="372" y="1263"/>
                  </a:lnTo>
                  <a:close/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91120" y="5018040"/>
              <a:ext cx="1931760" cy="1171080"/>
            </a:xfrm>
            <a:custGeom>
              <a:avLst/>
              <a:gdLst/>
              <a:ahLst/>
              <a:rect l="l" t="t" r="r" b="b"/>
              <a:pathLst>
                <a:path w="2554" h="1687">
                  <a:moveTo>
                    <a:pt x="375" y="1255"/>
                  </a:moveTo>
                  <a:lnTo>
                    <a:pt x="298" y="1263"/>
                  </a:lnTo>
                  <a:lnTo>
                    <a:pt x="221" y="1248"/>
                  </a:lnTo>
                  <a:lnTo>
                    <a:pt x="154" y="1205"/>
                  </a:lnTo>
                  <a:lnTo>
                    <a:pt x="85" y="1136"/>
                  </a:lnTo>
                  <a:lnTo>
                    <a:pt x="42" y="1052"/>
                  </a:lnTo>
                  <a:lnTo>
                    <a:pt x="8" y="950"/>
                  </a:lnTo>
                  <a:lnTo>
                    <a:pt x="0" y="841"/>
                  </a:lnTo>
                  <a:lnTo>
                    <a:pt x="8" y="729"/>
                  </a:lnTo>
                  <a:lnTo>
                    <a:pt x="42" y="628"/>
                  </a:lnTo>
                  <a:lnTo>
                    <a:pt x="85" y="543"/>
                  </a:lnTo>
                  <a:lnTo>
                    <a:pt x="154" y="474"/>
                  </a:lnTo>
                  <a:lnTo>
                    <a:pt x="221" y="432"/>
                  </a:lnTo>
                  <a:lnTo>
                    <a:pt x="298" y="416"/>
                  </a:lnTo>
                  <a:lnTo>
                    <a:pt x="375" y="432"/>
                  </a:lnTo>
                  <a:lnTo>
                    <a:pt x="442" y="297"/>
                  </a:lnTo>
                  <a:lnTo>
                    <a:pt x="528" y="178"/>
                  </a:lnTo>
                  <a:lnTo>
                    <a:pt x="620" y="94"/>
                  </a:lnTo>
                  <a:lnTo>
                    <a:pt x="732" y="25"/>
                  </a:lnTo>
                  <a:lnTo>
                    <a:pt x="843" y="0"/>
                  </a:lnTo>
                  <a:lnTo>
                    <a:pt x="962" y="0"/>
                  </a:lnTo>
                  <a:lnTo>
                    <a:pt x="1073" y="25"/>
                  </a:lnTo>
                  <a:lnTo>
                    <a:pt x="1183" y="94"/>
                  </a:lnTo>
                  <a:lnTo>
                    <a:pt x="1277" y="178"/>
                  </a:lnTo>
                  <a:lnTo>
                    <a:pt x="1379" y="94"/>
                  </a:lnTo>
                  <a:lnTo>
                    <a:pt x="1481" y="25"/>
                  </a:lnTo>
                  <a:lnTo>
                    <a:pt x="1601" y="0"/>
                  </a:lnTo>
                  <a:lnTo>
                    <a:pt x="1711" y="0"/>
                  </a:lnTo>
                  <a:lnTo>
                    <a:pt x="1830" y="25"/>
                  </a:lnTo>
                  <a:lnTo>
                    <a:pt x="1934" y="94"/>
                  </a:lnTo>
                  <a:lnTo>
                    <a:pt x="2035" y="178"/>
                  </a:lnTo>
                  <a:lnTo>
                    <a:pt x="2112" y="297"/>
                  </a:lnTo>
                  <a:lnTo>
                    <a:pt x="2179" y="432"/>
                  </a:lnTo>
                  <a:lnTo>
                    <a:pt x="2256" y="416"/>
                  </a:lnTo>
                  <a:lnTo>
                    <a:pt x="2333" y="432"/>
                  </a:lnTo>
                  <a:lnTo>
                    <a:pt x="2410" y="474"/>
                  </a:lnTo>
                  <a:lnTo>
                    <a:pt x="2469" y="543"/>
                  </a:lnTo>
                  <a:lnTo>
                    <a:pt x="2521" y="628"/>
                  </a:lnTo>
                  <a:lnTo>
                    <a:pt x="2546" y="729"/>
                  </a:lnTo>
                  <a:lnTo>
                    <a:pt x="2554" y="841"/>
                  </a:lnTo>
                  <a:lnTo>
                    <a:pt x="2546" y="950"/>
                  </a:lnTo>
                  <a:lnTo>
                    <a:pt x="2521" y="1052"/>
                  </a:lnTo>
                  <a:lnTo>
                    <a:pt x="2469" y="1136"/>
                  </a:lnTo>
                  <a:lnTo>
                    <a:pt x="2410" y="1205"/>
                  </a:lnTo>
                  <a:lnTo>
                    <a:pt x="2333" y="1248"/>
                  </a:lnTo>
                  <a:lnTo>
                    <a:pt x="2256" y="1263"/>
                  </a:lnTo>
                  <a:lnTo>
                    <a:pt x="2179" y="1255"/>
                  </a:lnTo>
                  <a:lnTo>
                    <a:pt x="2112" y="1392"/>
                  </a:lnTo>
                  <a:lnTo>
                    <a:pt x="2035" y="1501"/>
                  </a:lnTo>
                  <a:lnTo>
                    <a:pt x="1934" y="1595"/>
                  </a:lnTo>
                  <a:lnTo>
                    <a:pt x="1830" y="1655"/>
                  </a:lnTo>
                  <a:lnTo>
                    <a:pt x="1711" y="1687"/>
                  </a:lnTo>
                  <a:lnTo>
                    <a:pt x="1601" y="1687"/>
                  </a:lnTo>
                  <a:lnTo>
                    <a:pt x="1481" y="1655"/>
                  </a:lnTo>
                  <a:lnTo>
                    <a:pt x="1379" y="1595"/>
                  </a:lnTo>
                  <a:lnTo>
                    <a:pt x="1277" y="1501"/>
                  </a:lnTo>
                  <a:lnTo>
                    <a:pt x="1183" y="1595"/>
                  </a:lnTo>
                  <a:lnTo>
                    <a:pt x="1073" y="1655"/>
                  </a:lnTo>
                  <a:lnTo>
                    <a:pt x="962" y="1687"/>
                  </a:lnTo>
                  <a:lnTo>
                    <a:pt x="843" y="1687"/>
                  </a:lnTo>
                  <a:lnTo>
                    <a:pt x="732" y="1655"/>
                  </a:lnTo>
                  <a:lnTo>
                    <a:pt x="620" y="1595"/>
                  </a:lnTo>
                  <a:lnTo>
                    <a:pt x="528" y="1501"/>
                  </a:lnTo>
                  <a:lnTo>
                    <a:pt x="442" y="1392"/>
                  </a:lnTo>
                  <a:lnTo>
                    <a:pt x="375" y="125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91120" y="5018040"/>
              <a:ext cx="1931760" cy="1171080"/>
            </a:xfrm>
            <a:custGeom>
              <a:avLst/>
              <a:gdLst/>
              <a:ahLst/>
              <a:rect l="l" t="t" r="r" b="b"/>
              <a:pathLst>
                <a:path w="2554" h="1687">
                  <a:moveTo>
                    <a:pt x="375" y="1255"/>
                  </a:moveTo>
                  <a:lnTo>
                    <a:pt x="298" y="1263"/>
                  </a:lnTo>
                  <a:lnTo>
                    <a:pt x="221" y="1248"/>
                  </a:lnTo>
                  <a:lnTo>
                    <a:pt x="154" y="1205"/>
                  </a:lnTo>
                  <a:lnTo>
                    <a:pt x="85" y="1136"/>
                  </a:lnTo>
                  <a:lnTo>
                    <a:pt x="42" y="1052"/>
                  </a:lnTo>
                  <a:lnTo>
                    <a:pt x="8" y="950"/>
                  </a:lnTo>
                  <a:lnTo>
                    <a:pt x="0" y="841"/>
                  </a:lnTo>
                  <a:lnTo>
                    <a:pt x="8" y="729"/>
                  </a:lnTo>
                  <a:lnTo>
                    <a:pt x="42" y="628"/>
                  </a:lnTo>
                  <a:lnTo>
                    <a:pt x="85" y="543"/>
                  </a:lnTo>
                  <a:lnTo>
                    <a:pt x="154" y="474"/>
                  </a:lnTo>
                  <a:lnTo>
                    <a:pt x="221" y="432"/>
                  </a:lnTo>
                  <a:lnTo>
                    <a:pt x="298" y="416"/>
                  </a:lnTo>
                  <a:lnTo>
                    <a:pt x="375" y="432"/>
                  </a:lnTo>
                  <a:lnTo>
                    <a:pt x="442" y="297"/>
                  </a:lnTo>
                  <a:lnTo>
                    <a:pt x="528" y="178"/>
                  </a:lnTo>
                  <a:lnTo>
                    <a:pt x="620" y="94"/>
                  </a:lnTo>
                  <a:lnTo>
                    <a:pt x="732" y="25"/>
                  </a:lnTo>
                  <a:lnTo>
                    <a:pt x="843" y="0"/>
                  </a:lnTo>
                  <a:lnTo>
                    <a:pt x="962" y="0"/>
                  </a:lnTo>
                  <a:lnTo>
                    <a:pt x="1073" y="25"/>
                  </a:lnTo>
                  <a:lnTo>
                    <a:pt x="1183" y="94"/>
                  </a:lnTo>
                  <a:lnTo>
                    <a:pt x="1277" y="178"/>
                  </a:lnTo>
                  <a:lnTo>
                    <a:pt x="1379" y="94"/>
                  </a:lnTo>
                  <a:lnTo>
                    <a:pt x="1481" y="25"/>
                  </a:lnTo>
                  <a:lnTo>
                    <a:pt x="1601" y="0"/>
                  </a:lnTo>
                  <a:lnTo>
                    <a:pt x="1711" y="0"/>
                  </a:lnTo>
                  <a:lnTo>
                    <a:pt x="1830" y="25"/>
                  </a:lnTo>
                  <a:lnTo>
                    <a:pt x="1934" y="94"/>
                  </a:lnTo>
                  <a:lnTo>
                    <a:pt x="2035" y="178"/>
                  </a:lnTo>
                  <a:lnTo>
                    <a:pt x="2112" y="297"/>
                  </a:lnTo>
                  <a:lnTo>
                    <a:pt x="2179" y="432"/>
                  </a:lnTo>
                  <a:lnTo>
                    <a:pt x="2256" y="416"/>
                  </a:lnTo>
                  <a:lnTo>
                    <a:pt x="2333" y="432"/>
                  </a:lnTo>
                  <a:lnTo>
                    <a:pt x="2410" y="474"/>
                  </a:lnTo>
                  <a:lnTo>
                    <a:pt x="2469" y="543"/>
                  </a:lnTo>
                  <a:lnTo>
                    <a:pt x="2521" y="628"/>
                  </a:lnTo>
                  <a:lnTo>
                    <a:pt x="2546" y="729"/>
                  </a:lnTo>
                  <a:lnTo>
                    <a:pt x="2554" y="841"/>
                  </a:lnTo>
                  <a:lnTo>
                    <a:pt x="2546" y="950"/>
                  </a:lnTo>
                  <a:lnTo>
                    <a:pt x="2521" y="1052"/>
                  </a:lnTo>
                  <a:lnTo>
                    <a:pt x="2469" y="1136"/>
                  </a:lnTo>
                  <a:lnTo>
                    <a:pt x="2410" y="1205"/>
                  </a:lnTo>
                  <a:lnTo>
                    <a:pt x="2333" y="1248"/>
                  </a:lnTo>
                  <a:lnTo>
                    <a:pt x="2256" y="1263"/>
                  </a:lnTo>
                  <a:lnTo>
                    <a:pt x="2179" y="1255"/>
                  </a:lnTo>
                  <a:lnTo>
                    <a:pt x="2112" y="1392"/>
                  </a:lnTo>
                  <a:lnTo>
                    <a:pt x="2035" y="1501"/>
                  </a:lnTo>
                  <a:lnTo>
                    <a:pt x="1934" y="1595"/>
                  </a:lnTo>
                  <a:lnTo>
                    <a:pt x="1830" y="1655"/>
                  </a:lnTo>
                  <a:lnTo>
                    <a:pt x="1711" y="1687"/>
                  </a:lnTo>
                  <a:lnTo>
                    <a:pt x="1601" y="1687"/>
                  </a:lnTo>
                  <a:lnTo>
                    <a:pt x="1481" y="1655"/>
                  </a:lnTo>
                  <a:lnTo>
                    <a:pt x="1379" y="1595"/>
                  </a:lnTo>
                  <a:lnTo>
                    <a:pt x="1277" y="1501"/>
                  </a:lnTo>
                  <a:lnTo>
                    <a:pt x="1183" y="1595"/>
                  </a:lnTo>
                  <a:lnTo>
                    <a:pt x="1073" y="1655"/>
                  </a:lnTo>
                  <a:lnTo>
                    <a:pt x="962" y="1687"/>
                  </a:lnTo>
                  <a:lnTo>
                    <a:pt x="843" y="1687"/>
                  </a:lnTo>
                  <a:lnTo>
                    <a:pt x="732" y="1655"/>
                  </a:lnTo>
                  <a:lnTo>
                    <a:pt x="620" y="1595"/>
                  </a:lnTo>
                  <a:lnTo>
                    <a:pt x="528" y="1501"/>
                  </a:lnTo>
                  <a:lnTo>
                    <a:pt x="442" y="1392"/>
                  </a:lnTo>
                  <a:lnTo>
                    <a:pt x="375" y="12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11640" y="5003640"/>
              <a:ext cx="1930320" cy="1171440"/>
            </a:xfrm>
            <a:custGeom>
              <a:avLst/>
              <a:gdLst/>
              <a:ahLst/>
              <a:rect l="l" t="t" r="r" b="b"/>
              <a:pathLst>
                <a:path w="2554" h="1687">
                  <a:moveTo>
                    <a:pt x="375" y="1255"/>
                  </a:moveTo>
                  <a:lnTo>
                    <a:pt x="298" y="1263"/>
                  </a:lnTo>
                  <a:lnTo>
                    <a:pt x="221" y="1248"/>
                  </a:lnTo>
                  <a:lnTo>
                    <a:pt x="154" y="1205"/>
                  </a:lnTo>
                  <a:lnTo>
                    <a:pt x="85" y="1136"/>
                  </a:lnTo>
                  <a:lnTo>
                    <a:pt x="42" y="1052"/>
                  </a:lnTo>
                  <a:lnTo>
                    <a:pt x="8" y="950"/>
                  </a:lnTo>
                  <a:lnTo>
                    <a:pt x="0" y="841"/>
                  </a:lnTo>
                  <a:lnTo>
                    <a:pt x="8" y="729"/>
                  </a:lnTo>
                  <a:lnTo>
                    <a:pt x="42" y="627"/>
                  </a:lnTo>
                  <a:lnTo>
                    <a:pt x="85" y="543"/>
                  </a:lnTo>
                  <a:lnTo>
                    <a:pt x="154" y="474"/>
                  </a:lnTo>
                  <a:lnTo>
                    <a:pt x="221" y="432"/>
                  </a:lnTo>
                  <a:lnTo>
                    <a:pt x="298" y="416"/>
                  </a:lnTo>
                  <a:lnTo>
                    <a:pt x="375" y="432"/>
                  </a:lnTo>
                  <a:lnTo>
                    <a:pt x="442" y="297"/>
                  </a:lnTo>
                  <a:lnTo>
                    <a:pt x="528" y="178"/>
                  </a:lnTo>
                  <a:lnTo>
                    <a:pt x="620" y="94"/>
                  </a:lnTo>
                  <a:lnTo>
                    <a:pt x="732" y="25"/>
                  </a:lnTo>
                  <a:lnTo>
                    <a:pt x="843" y="0"/>
                  </a:lnTo>
                  <a:lnTo>
                    <a:pt x="962" y="0"/>
                  </a:lnTo>
                  <a:lnTo>
                    <a:pt x="1073" y="25"/>
                  </a:lnTo>
                  <a:lnTo>
                    <a:pt x="1183" y="94"/>
                  </a:lnTo>
                  <a:lnTo>
                    <a:pt x="1277" y="178"/>
                  </a:lnTo>
                  <a:lnTo>
                    <a:pt x="1379" y="94"/>
                  </a:lnTo>
                  <a:lnTo>
                    <a:pt x="1480" y="25"/>
                  </a:lnTo>
                  <a:lnTo>
                    <a:pt x="1601" y="0"/>
                  </a:lnTo>
                  <a:lnTo>
                    <a:pt x="1711" y="0"/>
                  </a:lnTo>
                  <a:lnTo>
                    <a:pt x="1830" y="25"/>
                  </a:lnTo>
                  <a:lnTo>
                    <a:pt x="1934" y="94"/>
                  </a:lnTo>
                  <a:lnTo>
                    <a:pt x="2035" y="178"/>
                  </a:lnTo>
                  <a:lnTo>
                    <a:pt x="2112" y="297"/>
                  </a:lnTo>
                  <a:lnTo>
                    <a:pt x="2179" y="432"/>
                  </a:lnTo>
                  <a:lnTo>
                    <a:pt x="2256" y="416"/>
                  </a:lnTo>
                  <a:lnTo>
                    <a:pt x="2333" y="432"/>
                  </a:lnTo>
                  <a:lnTo>
                    <a:pt x="2410" y="474"/>
                  </a:lnTo>
                  <a:lnTo>
                    <a:pt x="2469" y="543"/>
                  </a:lnTo>
                  <a:lnTo>
                    <a:pt x="2521" y="627"/>
                  </a:lnTo>
                  <a:lnTo>
                    <a:pt x="2546" y="729"/>
                  </a:lnTo>
                  <a:lnTo>
                    <a:pt x="2554" y="841"/>
                  </a:lnTo>
                  <a:lnTo>
                    <a:pt x="2546" y="950"/>
                  </a:lnTo>
                  <a:lnTo>
                    <a:pt x="2521" y="1052"/>
                  </a:lnTo>
                  <a:lnTo>
                    <a:pt x="2469" y="1136"/>
                  </a:lnTo>
                  <a:lnTo>
                    <a:pt x="2410" y="1205"/>
                  </a:lnTo>
                  <a:lnTo>
                    <a:pt x="2333" y="1248"/>
                  </a:lnTo>
                  <a:lnTo>
                    <a:pt x="2256" y="1263"/>
                  </a:lnTo>
                  <a:lnTo>
                    <a:pt x="2179" y="1255"/>
                  </a:lnTo>
                  <a:lnTo>
                    <a:pt x="2112" y="1392"/>
                  </a:lnTo>
                  <a:lnTo>
                    <a:pt x="2035" y="1501"/>
                  </a:lnTo>
                  <a:lnTo>
                    <a:pt x="1934" y="1595"/>
                  </a:lnTo>
                  <a:lnTo>
                    <a:pt x="1830" y="1655"/>
                  </a:lnTo>
                  <a:lnTo>
                    <a:pt x="1711" y="1687"/>
                  </a:lnTo>
                  <a:lnTo>
                    <a:pt x="1601" y="1687"/>
                  </a:lnTo>
                  <a:lnTo>
                    <a:pt x="1480" y="1655"/>
                  </a:lnTo>
                  <a:lnTo>
                    <a:pt x="1379" y="1595"/>
                  </a:lnTo>
                  <a:lnTo>
                    <a:pt x="1277" y="1501"/>
                  </a:lnTo>
                  <a:lnTo>
                    <a:pt x="1183" y="1595"/>
                  </a:lnTo>
                  <a:lnTo>
                    <a:pt x="1073" y="1655"/>
                  </a:lnTo>
                  <a:lnTo>
                    <a:pt x="962" y="1687"/>
                  </a:lnTo>
                  <a:lnTo>
                    <a:pt x="843" y="1687"/>
                  </a:lnTo>
                  <a:lnTo>
                    <a:pt x="732" y="1655"/>
                  </a:lnTo>
                  <a:lnTo>
                    <a:pt x="620" y="1595"/>
                  </a:lnTo>
                  <a:lnTo>
                    <a:pt x="528" y="1501"/>
                  </a:lnTo>
                  <a:lnTo>
                    <a:pt x="442" y="1392"/>
                  </a:lnTo>
                  <a:lnTo>
                    <a:pt x="375" y="1255"/>
                  </a:lnTo>
                  <a:close/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36800" y="4860720"/>
              <a:ext cx="1930320" cy="1171440"/>
            </a:xfrm>
            <a:custGeom>
              <a:avLst/>
              <a:gdLst/>
              <a:ahLst/>
              <a:rect l="l" t="t" r="r" b="b"/>
              <a:pathLst>
                <a:path w="2548" h="1690">
                  <a:moveTo>
                    <a:pt x="373" y="1258"/>
                  </a:moveTo>
                  <a:lnTo>
                    <a:pt x="298" y="1265"/>
                  </a:lnTo>
                  <a:lnTo>
                    <a:pt x="221" y="1248"/>
                  </a:lnTo>
                  <a:lnTo>
                    <a:pt x="152" y="1206"/>
                  </a:lnTo>
                  <a:lnTo>
                    <a:pt x="85" y="1139"/>
                  </a:lnTo>
                  <a:lnTo>
                    <a:pt x="43" y="1054"/>
                  </a:lnTo>
                  <a:lnTo>
                    <a:pt x="8" y="953"/>
                  </a:lnTo>
                  <a:lnTo>
                    <a:pt x="0" y="841"/>
                  </a:lnTo>
                  <a:lnTo>
                    <a:pt x="8" y="730"/>
                  </a:lnTo>
                  <a:lnTo>
                    <a:pt x="43" y="628"/>
                  </a:lnTo>
                  <a:lnTo>
                    <a:pt x="85" y="544"/>
                  </a:lnTo>
                  <a:lnTo>
                    <a:pt x="152" y="476"/>
                  </a:lnTo>
                  <a:lnTo>
                    <a:pt x="221" y="434"/>
                  </a:lnTo>
                  <a:lnTo>
                    <a:pt x="298" y="417"/>
                  </a:lnTo>
                  <a:lnTo>
                    <a:pt x="373" y="434"/>
                  </a:lnTo>
                  <a:lnTo>
                    <a:pt x="442" y="298"/>
                  </a:lnTo>
                  <a:lnTo>
                    <a:pt x="526" y="179"/>
                  </a:lnTo>
                  <a:lnTo>
                    <a:pt x="620" y="94"/>
                  </a:lnTo>
                  <a:lnTo>
                    <a:pt x="730" y="25"/>
                  </a:lnTo>
                  <a:lnTo>
                    <a:pt x="841" y="0"/>
                  </a:lnTo>
                  <a:lnTo>
                    <a:pt x="960" y="0"/>
                  </a:lnTo>
                  <a:lnTo>
                    <a:pt x="1070" y="25"/>
                  </a:lnTo>
                  <a:lnTo>
                    <a:pt x="1181" y="94"/>
                  </a:lnTo>
                  <a:lnTo>
                    <a:pt x="1275" y="179"/>
                  </a:lnTo>
                  <a:lnTo>
                    <a:pt x="1377" y="94"/>
                  </a:lnTo>
                  <a:lnTo>
                    <a:pt x="1479" y="25"/>
                  </a:lnTo>
                  <a:lnTo>
                    <a:pt x="1598" y="0"/>
                  </a:lnTo>
                  <a:lnTo>
                    <a:pt x="1707" y="0"/>
                  </a:lnTo>
                  <a:lnTo>
                    <a:pt x="1826" y="25"/>
                  </a:lnTo>
                  <a:lnTo>
                    <a:pt x="1928" y="94"/>
                  </a:lnTo>
                  <a:lnTo>
                    <a:pt x="2030" y="179"/>
                  </a:lnTo>
                  <a:lnTo>
                    <a:pt x="2106" y="298"/>
                  </a:lnTo>
                  <a:lnTo>
                    <a:pt x="2176" y="434"/>
                  </a:lnTo>
                  <a:lnTo>
                    <a:pt x="2250" y="417"/>
                  </a:lnTo>
                  <a:lnTo>
                    <a:pt x="2327" y="434"/>
                  </a:lnTo>
                  <a:lnTo>
                    <a:pt x="2404" y="476"/>
                  </a:lnTo>
                  <a:lnTo>
                    <a:pt x="2464" y="544"/>
                  </a:lnTo>
                  <a:lnTo>
                    <a:pt x="2515" y="628"/>
                  </a:lnTo>
                  <a:lnTo>
                    <a:pt x="2540" y="730"/>
                  </a:lnTo>
                  <a:lnTo>
                    <a:pt x="2548" y="841"/>
                  </a:lnTo>
                  <a:lnTo>
                    <a:pt x="2540" y="953"/>
                  </a:lnTo>
                  <a:lnTo>
                    <a:pt x="2515" y="1054"/>
                  </a:lnTo>
                  <a:lnTo>
                    <a:pt x="2464" y="1139"/>
                  </a:lnTo>
                  <a:lnTo>
                    <a:pt x="2404" y="1206"/>
                  </a:lnTo>
                  <a:lnTo>
                    <a:pt x="2327" y="1248"/>
                  </a:lnTo>
                  <a:lnTo>
                    <a:pt x="2250" y="1265"/>
                  </a:lnTo>
                  <a:lnTo>
                    <a:pt x="2176" y="1258"/>
                  </a:lnTo>
                  <a:lnTo>
                    <a:pt x="2106" y="1394"/>
                  </a:lnTo>
                  <a:lnTo>
                    <a:pt x="2030" y="1504"/>
                  </a:lnTo>
                  <a:lnTo>
                    <a:pt x="1928" y="1598"/>
                  </a:lnTo>
                  <a:lnTo>
                    <a:pt x="1826" y="1657"/>
                  </a:lnTo>
                  <a:lnTo>
                    <a:pt x="1707" y="1690"/>
                  </a:lnTo>
                  <a:lnTo>
                    <a:pt x="1598" y="1690"/>
                  </a:lnTo>
                  <a:lnTo>
                    <a:pt x="1479" y="1657"/>
                  </a:lnTo>
                  <a:lnTo>
                    <a:pt x="1377" y="1598"/>
                  </a:lnTo>
                  <a:lnTo>
                    <a:pt x="1275" y="1504"/>
                  </a:lnTo>
                  <a:lnTo>
                    <a:pt x="1181" y="1598"/>
                  </a:lnTo>
                  <a:lnTo>
                    <a:pt x="1070" y="1657"/>
                  </a:lnTo>
                  <a:lnTo>
                    <a:pt x="960" y="1690"/>
                  </a:lnTo>
                  <a:lnTo>
                    <a:pt x="841" y="1690"/>
                  </a:lnTo>
                  <a:lnTo>
                    <a:pt x="730" y="1657"/>
                  </a:lnTo>
                  <a:lnTo>
                    <a:pt x="620" y="1598"/>
                  </a:lnTo>
                  <a:lnTo>
                    <a:pt x="526" y="1504"/>
                  </a:lnTo>
                  <a:lnTo>
                    <a:pt x="442" y="1394"/>
                  </a:lnTo>
                  <a:lnTo>
                    <a:pt x="373" y="1258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36800" y="4860720"/>
              <a:ext cx="1930320" cy="1171440"/>
            </a:xfrm>
            <a:custGeom>
              <a:avLst/>
              <a:gdLst/>
              <a:ahLst/>
              <a:rect l="l" t="t" r="r" b="b"/>
              <a:pathLst>
                <a:path w="2548" h="1690">
                  <a:moveTo>
                    <a:pt x="373" y="1258"/>
                  </a:moveTo>
                  <a:lnTo>
                    <a:pt x="298" y="1265"/>
                  </a:lnTo>
                  <a:lnTo>
                    <a:pt x="221" y="1248"/>
                  </a:lnTo>
                  <a:lnTo>
                    <a:pt x="152" y="1206"/>
                  </a:lnTo>
                  <a:lnTo>
                    <a:pt x="85" y="1139"/>
                  </a:lnTo>
                  <a:lnTo>
                    <a:pt x="43" y="1054"/>
                  </a:lnTo>
                  <a:lnTo>
                    <a:pt x="8" y="953"/>
                  </a:lnTo>
                  <a:lnTo>
                    <a:pt x="0" y="841"/>
                  </a:lnTo>
                  <a:lnTo>
                    <a:pt x="8" y="730"/>
                  </a:lnTo>
                  <a:lnTo>
                    <a:pt x="43" y="628"/>
                  </a:lnTo>
                  <a:lnTo>
                    <a:pt x="85" y="544"/>
                  </a:lnTo>
                  <a:lnTo>
                    <a:pt x="152" y="476"/>
                  </a:lnTo>
                  <a:lnTo>
                    <a:pt x="221" y="434"/>
                  </a:lnTo>
                  <a:lnTo>
                    <a:pt x="298" y="417"/>
                  </a:lnTo>
                  <a:lnTo>
                    <a:pt x="373" y="434"/>
                  </a:lnTo>
                  <a:lnTo>
                    <a:pt x="442" y="298"/>
                  </a:lnTo>
                  <a:lnTo>
                    <a:pt x="526" y="179"/>
                  </a:lnTo>
                  <a:lnTo>
                    <a:pt x="620" y="94"/>
                  </a:lnTo>
                  <a:lnTo>
                    <a:pt x="730" y="25"/>
                  </a:lnTo>
                  <a:lnTo>
                    <a:pt x="841" y="0"/>
                  </a:lnTo>
                  <a:lnTo>
                    <a:pt x="960" y="0"/>
                  </a:lnTo>
                  <a:lnTo>
                    <a:pt x="1070" y="25"/>
                  </a:lnTo>
                  <a:lnTo>
                    <a:pt x="1181" y="94"/>
                  </a:lnTo>
                  <a:lnTo>
                    <a:pt x="1275" y="179"/>
                  </a:lnTo>
                  <a:lnTo>
                    <a:pt x="1377" y="94"/>
                  </a:lnTo>
                  <a:lnTo>
                    <a:pt x="1479" y="25"/>
                  </a:lnTo>
                  <a:lnTo>
                    <a:pt x="1598" y="0"/>
                  </a:lnTo>
                  <a:lnTo>
                    <a:pt x="1707" y="0"/>
                  </a:lnTo>
                  <a:lnTo>
                    <a:pt x="1826" y="25"/>
                  </a:lnTo>
                  <a:lnTo>
                    <a:pt x="1928" y="94"/>
                  </a:lnTo>
                  <a:lnTo>
                    <a:pt x="2030" y="179"/>
                  </a:lnTo>
                  <a:lnTo>
                    <a:pt x="2106" y="298"/>
                  </a:lnTo>
                  <a:lnTo>
                    <a:pt x="2176" y="434"/>
                  </a:lnTo>
                  <a:lnTo>
                    <a:pt x="2250" y="417"/>
                  </a:lnTo>
                  <a:lnTo>
                    <a:pt x="2327" y="434"/>
                  </a:lnTo>
                  <a:lnTo>
                    <a:pt x="2404" y="476"/>
                  </a:lnTo>
                  <a:lnTo>
                    <a:pt x="2464" y="544"/>
                  </a:lnTo>
                  <a:lnTo>
                    <a:pt x="2515" y="628"/>
                  </a:lnTo>
                  <a:lnTo>
                    <a:pt x="2540" y="730"/>
                  </a:lnTo>
                  <a:lnTo>
                    <a:pt x="2548" y="841"/>
                  </a:lnTo>
                  <a:lnTo>
                    <a:pt x="2540" y="953"/>
                  </a:lnTo>
                  <a:lnTo>
                    <a:pt x="2515" y="1054"/>
                  </a:lnTo>
                  <a:lnTo>
                    <a:pt x="2464" y="1139"/>
                  </a:lnTo>
                  <a:lnTo>
                    <a:pt x="2404" y="1206"/>
                  </a:lnTo>
                  <a:lnTo>
                    <a:pt x="2327" y="1248"/>
                  </a:lnTo>
                  <a:lnTo>
                    <a:pt x="2250" y="1265"/>
                  </a:lnTo>
                  <a:lnTo>
                    <a:pt x="2176" y="1258"/>
                  </a:lnTo>
                  <a:lnTo>
                    <a:pt x="2106" y="1394"/>
                  </a:lnTo>
                  <a:lnTo>
                    <a:pt x="2030" y="1504"/>
                  </a:lnTo>
                  <a:lnTo>
                    <a:pt x="1928" y="1598"/>
                  </a:lnTo>
                  <a:lnTo>
                    <a:pt x="1826" y="1657"/>
                  </a:lnTo>
                  <a:lnTo>
                    <a:pt x="1707" y="1690"/>
                  </a:lnTo>
                  <a:lnTo>
                    <a:pt x="1598" y="1690"/>
                  </a:lnTo>
                  <a:lnTo>
                    <a:pt x="1479" y="1657"/>
                  </a:lnTo>
                  <a:lnTo>
                    <a:pt x="1377" y="1598"/>
                  </a:lnTo>
                  <a:lnTo>
                    <a:pt x="1275" y="1504"/>
                  </a:lnTo>
                  <a:lnTo>
                    <a:pt x="1181" y="1598"/>
                  </a:lnTo>
                  <a:lnTo>
                    <a:pt x="1070" y="1657"/>
                  </a:lnTo>
                  <a:lnTo>
                    <a:pt x="960" y="1690"/>
                  </a:lnTo>
                  <a:lnTo>
                    <a:pt x="841" y="1690"/>
                  </a:lnTo>
                  <a:lnTo>
                    <a:pt x="730" y="1657"/>
                  </a:lnTo>
                  <a:lnTo>
                    <a:pt x="620" y="1598"/>
                  </a:lnTo>
                  <a:lnTo>
                    <a:pt x="526" y="1504"/>
                  </a:lnTo>
                  <a:lnTo>
                    <a:pt x="442" y="1394"/>
                  </a:lnTo>
                  <a:lnTo>
                    <a:pt x="373" y="12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28880" y="4827600"/>
              <a:ext cx="1930320" cy="1171080"/>
            </a:xfrm>
            <a:custGeom>
              <a:avLst/>
              <a:gdLst/>
              <a:ahLst/>
              <a:rect l="l" t="t" r="r" b="b"/>
              <a:pathLst>
                <a:path w="2548" h="1690">
                  <a:moveTo>
                    <a:pt x="373" y="1258"/>
                  </a:moveTo>
                  <a:lnTo>
                    <a:pt x="298" y="1265"/>
                  </a:lnTo>
                  <a:lnTo>
                    <a:pt x="221" y="1248"/>
                  </a:lnTo>
                  <a:lnTo>
                    <a:pt x="152" y="1206"/>
                  </a:lnTo>
                  <a:lnTo>
                    <a:pt x="85" y="1139"/>
                  </a:lnTo>
                  <a:lnTo>
                    <a:pt x="42" y="1054"/>
                  </a:lnTo>
                  <a:lnTo>
                    <a:pt x="8" y="952"/>
                  </a:lnTo>
                  <a:lnTo>
                    <a:pt x="0" y="841"/>
                  </a:lnTo>
                  <a:lnTo>
                    <a:pt x="8" y="730"/>
                  </a:lnTo>
                  <a:lnTo>
                    <a:pt x="42" y="628"/>
                  </a:lnTo>
                  <a:lnTo>
                    <a:pt x="85" y="544"/>
                  </a:lnTo>
                  <a:lnTo>
                    <a:pt x="152" y="476"/>
                  </a:lnTo>
                  <a:lnTo>
                    <a:pt x="221" y="434"/>
                  </a:lnTo>
                  <a:lnTo>
                    <a:pt x="298" y="417"/>
                  </a:lnTo>
                  <a:lnTo>
                    <a:pt x="373" y="434"/>
                  </a:lnTo>
                  <a:lnTo>
                    <a:pt x="442" y="298"/>
                  </a:lnTo>
                  <a:lnTo>
                    <a:pt x="526" y="179"/>
                  </a:lnTo>
                  <a:lnTo>
                    <a:pt x="620" y="94"/>
                  </a:lnTo>
                  <a:lnTo>
                    <a:pt x="730" y="25"/>
                  </a:lnTo>
                  <a:lnTo>
                    <a:pt x="841" y="0"/>
                  </a:lnTo>
                  <a:lnTo>
                    <a:pt x="960" y="0"/>
                  </a:lnTo>
                  <a:lnTo>
                    <a:pt x="1070" y="25"/>
                  </a:lnTo>
                  <a:lnTo>
                    <a:pt x="1181" y="94"/>
                  </a:lnTo>
                  <a:lnTo>
                    <a:pt x="1275" y="179"/>
                  </a:lnTo>
                  <a:lnTo>
                    <a:pt x="1377" y="94"/>
                  </a:lnTo>
                  <a:lnTo>
                    <a:pt x="1479" y="25"/>
                  </a:lnTo>
                  <a:lnTo>
                    <a:pt x="1598" y="0"/>
                  </a:lnTo>
                  <a:lnTo>
                    <a:pt x="1707" y="0"/>
                  </a:lnTo>
                  <a:lnTo>
                    <a:pt x="1826" y="25"/>
                  </a:lnTo>
                  <a:lnTo>
                    <a:pt x="1928" y="94"/>
                  </a:lnTo>
                  <a:lnTo>
                    <a:pt x="2030" y="179"/>
                  </a:lnTo>
                  <a:lnTo>
                    <a:pt x="2106" y="298"/>
                  </a:lnTo>
                  <a:lnTo>
                    <a:pt x="2176" y="434"/>
                  </a:lnTo>
                  <a:lnTo>
                    <a:pt x="2250" y="417"/>
                  </a:lnTo>
                  <a:lnTo>
                    <a:pt x="2327" y="434"/>
                  </a:lnTo>
                  <a:lnTo>
                    <a:pt x="2404" y="476"/>
                  </a:lnTo>
                  <a:lnTo>
                    <a:pt x="2464" y="544"/>
                  </a:lnTo>
                  <a:lnTo>
                    <a:pt x="2515" y="628"/>
                  </a:lnTo>
                  <a:lnTo>
                    <a:pt x="2540" y="730"/>
                  </a:lnTo>
                  <a:lnTo>
                    <a:pt x="2548" y="841"/>
                  </a:lnTo>
                  <a:lnTo>
                    <a:pt x="2540" y="952"/>
                  </a:lnTo>
                  <a:lnTo>
                    <a:pt x="2515" y="1054"/>
                  </a:lnTo>
                  <a:lnTo>
                    <a:pt x="2464" y="1139"/>
                  </a:lnTo>
                  <a:lnTo>
                    <a:pt x="2404" y="1206"/>
                  </a:lnTo>
                  <a:lnTo>
                    <a:pt x="2327" y="1248"/>
                  </a:lnTo>
                  <a:lnTo>
                    <a:pt x="2250" y="1265"/>
                  </a:lnTo>
                  <a:lnTo>
                    <a:pt x="2176" y="1258"/>
                  </a:lnTo>
                  <a:lnTo>
                    <a:pt x="2106" y="1394"/>
                  </a:lnTo>
                  <a:lnTo>
                    <a:pt x="2030" y="1503"/>
                  </a:lnTo>
                  <a:lnTo>
                    <a:pt x="1928" y="1598"/>
                  </a:lnTo>
                  <a:lnTo>
                    <a:pt x="1826" y="1657"/>
                  </a:lnTo>
                  <a:lnTo>
                    <a:pt x="1707" y="1690"/>
                  </a:lnTo>
                  <a:lnTo>
                    <a:pt x="1598" y="1690"/>
                  </a:lnTo>
                  <a:lnTo>
                    <a:pt x="1479" y="1657"/>
                  </a:lnTo>
                  <a:lnTo>
                    <a:pt x="1377" y="1598"/>
                  </a:lnTo>
                  <a:lnTo>
                    <a:pt x="1275" y="1503"/>
                  </a:lnTo>
                  <a:lnTo>
                    <a:pt x="1181" y="1598"/>
                  </a:lnTo>
                  <a:lnTo>
                    <a:pt x="1070" y="1657"/>
                  </a:lnTo>
                  <a:lnTo>
                    <a:pt x="960" y="1690"/>
                  </a:lnTo>
                  <a:lnTo>
                    <a:pt x="841" y="1690"/>
                  </a:lnTo>
                  <a:lnTo>
                    <a:pt x="730" y="1657"/>
                  </a:lnTo>
                  <a:lnTo>
                    <a:pt x="620" y="1598"/>
                  </a:lnTo>
                  <a:lnTo>
                    <a:pt x="526" y="1503"/>
                  </a:lnTo>
                  <a:lnTo>
                    <a:pt x="442" y="1394"/>
                  </a:lnTo>
                  <a:lnTo>
                    <a:pt x="373" y="1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22400" y="4859280"/>
              <a:ext cx="1928880" cy="1169640"/>
            </a:xfrm>
            <a:custGeom>
              <a:avLst/>
              <a:gdLst/>
              <a:ahLst/>
              <a:rect l="l" t="t" r="r" b="b"/>
              <a:pathLst>
                <a:path w="2548" h="1690">
                  <a:moveTo>
                    <a:pt x="373" y="1258"/>
                  </a:moveTo>
                  <a:lnTo>
                    <a:pt x="298" y="1265"/>
                  </a:lnTo>
                  <a:lnTo>
                    <a:pt x="221" y="1248"/>
                  </a:lnTo>
                  <a:lnTo>
                    <a:pt x="152" y="1206"/>
                  </a:lnTo>
                  <a:lnTo>
                    <a:pt x="85" y="1139"/>
                  </a:lnTo>
                  <a:lnTo>
                    <a:pt x="42" y="1054"/>
                  </a:lnTo>
                  <a:lnTo>
                    <a:pt x="8" y="952"/>
                  </a:lnTo>
                  <a:lnTo>
                    <a:pt x="0" y="841"/>
                  </a:lnTo>
                  <a:lnTo>
                    <a:pt x="8" y="730"/>
                  </a:lnTo>
                  <a:lnTo>
                    <a:pt x="42" y="628"/>
                  </a:lnTo>
                  <a:lnTo>
                    <a:pt x="85" y="544"/>
                  </a:lnTo>
                  <a:lnTo>
                    <a:pt x="152" y="476"/>
                  </a:lnTo>
                  <a:lnTo>
                    <a:pt x="221" y="434"/>
                  </a:lnTo>
                  <a:lnTo>
                    <a:pt x="298" y="417"/>
                  </a:lnTo>
                  <a:lnTo>
                    <a:pt x="373" y="434"/>
                  </a:lnTo>
                  <a:lnTo>
                    <a:pt x="442" y="298"/>
                  </a:lnTo>
                  <a:lnTo>
                    <a:pt x="526" y="179"/>
                  </a:lnTo>
                  <a:lnTo>
                    <a:pt x="620" y="94"/>
                  </a:lnTo>
                  <a:lnTo>
                    <a:pt x="730" y="25"/>
                  </a:lnTo>
                  <a:lnTo>
                    <a:pt x="841" y="0"/>
                  </a:lnTo>
                  <a:lnTo>
                    <a:pt x="960" y="0"/>
                  </a:lnTo>
                  <a:lnTo>
                    <a:pt x="1070" y="25"/>
                  </a:lnTo>
                  <a:lnTo>
                    <a:pt x="1181" y="94"/>
                  </a:lnTo>
                  <a:lnTo>
                    <a:pt x="1275" y="179"/>
                  </a:lnTo>
                  <a:lnTo>
                    <a:pt x="1377" y="94"/>
                  </a:lnTo>
                  <a:lnTo>
                    <a:pt x="1479" y="25"/>
                  </a:lnTo>
                  <a:lnTo>
                    <a:pt x="1598" y="0"/>
                  </a:lnTo>
                  <a:lnTo>
                    <a:pt x="1707" y="0"/>
                  </a:lnTo>
                  <a:lnTo>
                    <a:pt x="1826" y="25"/>
                  </a:lnTo>
                  <a:lnTo>
                    <a:pt x="1928" y="94"/>
                  </a:lnTo>
                  <a:lnTo>
                    <a:pt x="2030" y="179"/>
                  </a:lnTo>
                  <a:lnTo>
                    <a:pt x="2106" y="298"/>
                  </a:lnTo>
                  <a:lnTo>
                    <a:pt x="2176" y="434"/>
                  </a:lnTo>
                  <a:lnTo>
                    <a:pt x="2250" y="417"/>
                  </a:lnTo>
                  <a:lnTo>
                    <a:pt x="2327" y="434"/>
                  </a:lnTo>
                  <a:lnTo>
                    <a:pt x="2404" y="476"/>
                  </a:lnTo>
                  <a:lnTo>
                    <a:pt x="2464" y="544"/>
                  </a:lnTo>
                  <a:lnTo>
                    <a:pt x="2515" y="628"/>
                  </a:lnTo>
                  <a:lnTo>
                    <a:pt x="2540" y="730"/>
                  </a:lnTo>
                  <a:lnTo>
                    <a:pt x="2548" y="841"/>
                  </a:lnTo>
                  <a:lnTo>
                    <a:pt x="2540" y="952"/>
                  </a:lnTo>
                  <a:lnTo>
                    <a:pt x="2515" y="1054"/>
                  </a:lnTo>
                  <a:lnTo>
                    <a:pt x="2464" y="1139"/>
                  </a:lnTo>
                  <a:lnTo>
                    <a:pt x="2404" y="1206"/>
                  </a:lnTo>
                  <a:lnTo>
                    <a:pt x="2327" y="1248"/>
                  </a:lnTo>
                  <a:lnTo>
                    <a:pt x="2250" y="1265"/>
                  </a:lnTo>
                  <a:lnTo>
                    <a:pt x="2176" y="1258"/>
                  </a:lnTo>
                  <a:lnTo>
                    <a:pt x="2106" y="1394"/>
                  </a:lnTo>
                  <a:lnTo>
                    <a:pt x="2030" y="1503"/>
                  </a:lnTo>
                  <a:lnTo>
                    <a:pt x="1928" y="1598"/>
                  </a:lnTo>
                  <a:lnTo>
                    <a:pt x="1826" y="1657"/>
                  </a:lnTo>
                  <a:lnTo>
                    <a:pt x="1707" y="1690"/>
                  </a:lnTo>
                  <a:lnTo>
                    <a:pt x="1598" y="1690"/>
                  </a:lnTo>
                  <a:lnTo>
                    <a:pt x="1479" y="1657"/>
                  </a:lnTo>
                  <a:lnTo>
                    <a:pt x="1377" y="1598"/>
                  </a:lnTo>
                  <a:lnTo>
                    <a:pt x="1275" y="1503"/>
                  </a:lnTo>
                  <a:lnTo>
                    <a:pt x="1181" y="1598"/>
                  </a:lnTo>
                  <a:lnTo>
                    <a:pt x="1070" y="1657"/>
                  </a:lnTo>
                  <a:lnTo>
                    <a:pt x="960" y="1690"/>
                  </a:lnTo>
                  <a:lnTo>
                    <a:pt x="841" y="1690"/>
                  </a:lnTo>
                  <a:lnTo>
                    <a:pt x="730" y="1657"/>
                  </a:lnTo>
                  <a:lnTo>
                    <a:pt x="620" y="1598"/>
                  </a:lnTo>
                  <a:lnTo>
                    <a:pt x="526" y="1503"/>
                  </a:lnTo>
                  <a:lnTo>
                    <a:pt x="442" y="1394"/>
                  </a:lnTo>
                  <a:lnTo>
                    <a:pt x="373" y="1258"/>
                  </a:lnTo>
                </a:path>
              </a:pathLst>
            </a:cu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05000" y="3279600"/>
              <a:ext cx="1770120" cy="1171440"/>
            </a:xfrm>
            <a:custGeom>
              <a:avLst/>
              <a:gdLst/>
              <a:ahLst/>
              <a:rect l="l" t="t" r="r" b="b"/>
              <a:pathLst>
                <a:path w="2337" h="1687">
                  <a:moveTo>
                    <a:pt x="342" y="1255"/>
                  </a:moveTo>
                  <a:lnTo>
                    <a:pt x="273" y="1263"/>
                  </a:lnTo>
                  <a:lnTo>
                    <a:pt x="202" y="1248"/>
                  </a:lnTo>
                  <a:lnTo>
                    <a:pt x="140" y="1205"/>
                  </a:lnTo>
                  <a:lnTo>
                    <a:pt x="77" y="1136"/>
                  </a:lnTo>
                  <a:lnTo>
                    <a:pt x="38" y="1052"/>
                  </a:lnTo>
                  <a:lnTo>
                    <a:pt x="8" y="950"/>
                  </a:lnTo>
                  <a:lnTo>
                    <a:pt x="0" y="841"/>
                  </a:lnTo>
                  <a:lnTo>
                    <a:pt x="8" y="729"/>
                  </a:lnTo>
                  <a:lnTo>
                    <a:pt x="38" y="627"/>
                  </a:lnTo>
                  <a:lnTo>
                    <a:pt x="77" y="543"/>
                  </a:lnTo>
                  <a:lnTo>
                    <a:pt x="140" y="474"/>
                  </a:lnTo>
                  <a:lnTo>
                    <a:pt x="202" y="432"/>
                  </a:lnTo>
                  <a:lnTo>
                    <a:pt x="273" y="416"/>
                  </a:lnTo>
                  <a:lnTo>
                    <a:pt x="342" y="432"/>
                  </a:lnTo>
                  <a:lnTo>
                    <a:pt x="405" y="297"/>
                  </a:lnTo>
                  <a:lnTo>
                    <a:pt x="482" y="178"/>
                  </a:lnTo>
                  <a:lnTo>
                    <a:pt x="568" y="94"/>
                  </a:lnTo>
                  <a:lnTo>
                    <a:pt x="670" y="25"/>
                  </a:lnTo>
                  <a:lnTo>
                    <a:pt x="772" y="0"/>
                  </a:lnTo>
                  <a:lnTo>
                    <a:pt x="879" y="0"/>
                  </a:lnTo>
                  <a:lnTo>
                    <a:pt x="981" y="25"/>
                  </a:lnTo>
                  <a:lnTo>
                    <a:pt x="1083" y="94"/>
                  </a:lnTo>
                  <a:lnTo>
                    <a:pt x="1169" y="178"/>
                  </a:lnTo>
                  <a:lnTo>
                    <a:pt x="1261" y="94"/>
                  </a:lnTo>
                  <a:lnTo>
                    <a:pt x="1356" y="25"/>
                  </a:lnTo>
                  <a:lnTo>
                    <a:pt x="1465" y="0"/>
                  </a:lnTo>
                  <a:lnTo>
                    <a:pt x="1565" y="0"/>
                  </a:lnTo>
                  <a:lnTo>
                    <a:pt x="1674" y="25"/>
                  </a:lnTo>
                  <a:lnTo>
                    <a:pt x="1768" y="94"/>
                  </a:lnTo>
                  <a:lnTo>
                    <a:pt x="1862" y="178"/>
                  </a:lnTo>
                  <a:lnTo>
                    <a:pt x="1932" y="297"/>
                  </a:lnTo>
                  <a:lnTo>
                    <a:pt x="1995" y="432"/>
                  </a:lnTo>
                  <a:lnTo>
                    <a:pt x="2064" y="416"/>
                  </a:lnTo>
                  <a:lnTo>
                    <a:pt x="2135" y="432"/>
                  </a:lnTo>
                  <a:lnTo>
                    <a:pt x="2204" y="474"/>
                  </a:lnTo>
                  <a:lnTo>
                    <a:pt x="2260" y="543"/>
                  </a:lnTo>
                  <a:lnTo>
                    <a:pt x="2306" y="627"/>
                  </a:lnTo>
                  <a:lnTo>
                    <a:pt x="2329" y="729"/>
                  </a:lnTo>
                  <a:lnTo>
                    <a:pt x="2337" y="841"/>
                  </a:lnTo>
                  <a:lnTo>
                    <a:pt x="2329" y="950"/>
                  </a:lnTo>
                  <a:lnTo>
                    <a:pt x="2306" y="1052"/>
                  </a:lnTo>
                  <a:lnTo>
                    <a:pt x="2260" y="1136"/>
                  </a:lnTo>
                  <a:lnTo>
                    <a:pt x="2204" y="1205"/>
                  </a:lnTo>
                  <a:lnTo>
                    <a:pt x="2135" y="1248"/>
                  </a:lnTo>
                  <a:lnTo>
                    <a:pt x="2064" y="1263"/>
                  </a:lnTo>
                  <a:lnTo>
                    <a:pt x="1995" y="1255"/>
                  </a:lnTo>
                  <a:lnTo>
                    <a:pt x="1932" y="1392"/>
                  </a:lnTo>
                  <a:lnTo>
                    <a:pt x="1862" y="1501"/>
                  </a:lnTo>
                  <a:lnTo>
                    <a:pt x="1768" y="1595"/>
                  </a:lnTo>
                  <a:lnTo>
                    <a:pt x="1674" y="1655"/>
                  </a:lnTo>
                  <a:lnTo>
                    <a:pt x="1565" y="1687"/>
                  </a:lnTo>
                  <a:lnTo>
                    <a:pt x="1465" y="1687"/>
                  </a:lnTo>
                  <a:lnTo>
                    <a:pt x="1356" y="1655"/>
                  </a:lnTo>
                  <a:lnTo>
                    <a:pt x="1261" y="1595"/>
                  </a:lnTo>
                  <a:lnTo>
                    <a:pt x="1169" y="1501"/>
                  </a:lnTo>
                  <a:lnTo>
                    <a:pt x="1083" y="1595"/>
                  </a:lnTo>
                  <a:lnTo>
                    <a:pt x="981" y="1655"/>
                  </a:lnTo>
                  <a:lnTo>
                    <a:pt x="879" y="1687"/>
                  </a:lnTo>
                  <a:lnTo>
                    <a:pt x="772" y="1687"/>
                  </a:lnTo>
                  <a:lnTo>
                    <a:pt x="670" y="1655"/>
                  </a:lnTo>
                  <a:lnTo>
                    <a:pt x="568" y="1595"/>
                  </a:lnTo>
                  <a:lnTo>
                    <a:pt x="482" y="1501"/>
                  </a:lnTo>
                  <a:lnTo>
                    <a:pt x="405" y="1392"/>
                  </a:lnTo>
                  <a:lnTo>
                    <a:pt x="342" y="1255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260360" y="3246480"/>
              <a:ext cx="1770120" cy="1171080"/>
            </a:xfrm>
            <a:custGeom>
              <a:avLst/>
              <a:gdLst/>
              <a:ahLst/>
              <a:rect l="l" t="t" r="r" b="b"/>
              <a:pathLst>
                <a:path w="2337" h="1687">
                  <a:moveTo>
                    <a:pt x="342" y="1255"/>
                  </a:moveTo>
                  <a:lnTo>
                    <a:pt x="273" y="1263"/>
                  </a:lnTo>
                  <a:lnTo>
                    <a:pt x="202" y="1248"/>
                  </a:lnTo>
                  <a:lnTo>
                    <a:pt x="140" y="1205"/>
                  </a:lnTo>
                  <a:lnTo>
                    <a:pt x="77" y="1136"/>
                  </a:lnTo>
                  <a:lnTo>
                    <a:pt x="38" y="1052"/>
                  </a:lnTo>
                  <a:lnTo>
                    <a:pt x="8" y="950"/>
                  </a:lnTo>
                  <a:lnTo>
                    <a:pt x="0" y="841"/>
                  </a:lnTo>
                  <a:lnTo>
                    <a:pt x="8" y="729"/>
                  </a:lnTo>
                  <a:lnTo>
                    <a:pt x="38" y="627"/>
                  </a:lnTo>
                  <a:lnTo>
                    <a:pt x="77" y="543"/>
                  </a:lnTo>
                  <a:lnTo>
                    <a:pt x="140" y="474"/>
                  </a:lnTo>
                  <a:lnTo>
                    <a:pt x="202" y="432"/>
                  </a:lnTo>
                  <a:lnTo>
                    <a:pt x="273" y="416"/>
                  </a:lnTo>
                  <a:lnTo>
                    <a:pt x="342" y="432"/>
                  </a:lnTo>
                  <a:lnTo>
                    <a:pt x="405" y="297"/>
                  </a:lnTo>
                  <a:lnTo>
                    <a:pt x="482" y="178"/>
                  </a:lnTo>
                  <a:lnTo>
                    <a:pt x="568" y="94"/>
                  </a:lnTo>
                  <a:lnTo>
                    <a:pt x="670" y="25"/>
                  </a:lnTo>
                  <a:lnTo>
                    <a:pt x="772" y="0"/>
                  </a:lnTo>
                  <a:lnTo>
                    <a:pt x="879" y="0"/>
                  </a:lnTo>
                  <a:lnTo>
                    <a:pt x="981" y="25"/>
                  </a:lnTo>
                  <a:lnTo>
                    <a:pt x="1083" y="94"/>
                  </a:lnTo>
                  <a:lnTo>
                    <a:pt x="1169" y="178"/>
                  </a:lnTo>
                  <a:lnTo>
                    <a:pt x="1261" y="94"/>
                  </a:lnTo>
                  <a:lnTo>
                    <a:pt x="1356" y="25"/>
                  </a:lnTo>
                  <a:lnTo>
                    <a:pt x="1465" y="0"/>
                  </a:lnTo>
                  <a:lnTo>
                    <a:pt x="1565" y="0"/>
                  </a:lnTo>
                  <a:lnTo>
                    <a:pt x="1674" y="25"/>
                  </a:lnTo>
                  <a:lnTo>
                    <a:pt x="1768" y="94"/>
                  </a:lnTo>
                  <a:lnTo>
                    <a:pt x="1862" y="178"/>
                  </a:lnTo>
                  <a:lnTo>
                    <a:pt x="1932" y="297"/>
                  </a:lnTo>
                  <a:lnTo>
                    <a:pt x="1995" y="432"/>
                  </a:lnTo>
                  <a:lnTo>
                    <a:pt x="2064" y="416"/>
                  </a:lnTo>
                  <a:lnTo>
                    <a:pt x="2135" y="432"/>
                  </a:lnTo>
                  <a:lnTo>
                    <a:pt x="2204" y="474"/>
                  </a:lnTo>
                  <a:lnTo>
                    <a:pt x="2260" y="543"/>
                  </a:lnTo>
                  <a:lnTo>
                    <a:pt x="2306" y="627"/>
                  </a:lnTo>
                  <a:lnTo>
                    <a:pt x="2329" y="729"/>
                  </a:lnTo>
                  <a:lnTo>
                    <a:pt x="2337" y="841"/>
                  </a:lnTo>
                  <a:lnTo>
                    <a:pt x="2329" y="950"/>
                  </a:lnTo>
                  <a:lnTo>
                    <a:pt x="2306" y="1052"/>
                  </a:lnTo>
                  <a:lnTo>
                    <a:pt x="2260" y="1136"/>
                  </a:lnTo>
                  <a:lnTo>
                    <a:pt x="2204" y="1205"/>
                  </a:lnTo>
                  <a:lnTo>
                    <a:pt x="2135" y="1248"/>
                  </a:lnTo>
                  <a:lnTo>
                    <a:pt x="2064" y="1263"/>
                  </a:lnTo>
                  <a:lnTo>
                    <a:pt x="1995" y="1255"/>
                  </a:lnTo>
                  <a:lnTo>
                    <a:pt x="1932" y="1392"/>
                  </a:lnTo>
                  <a:lnTo>
                    <a:pt x="1862" y="1501"/>
                  </a:lnTo>
                  <a:lnTo>
                    <a:pt x="1768" y="1595"/>
                  </a:lnTo>
                  <a:lnTo>
                    <a:pt x="1674" y="1655"/>
                  </a:lnTo>
                  <a:lnTo>
                    <a:pt x="1565" y="1687"/>
                  </a:lnTo>
                  <a:lnTo>
                    <a:pt x="1465" y="1687"/>
                  </a:lnTo>
                  <a:lnTo>
                    <a:pt x="1356" y="1655"/>
                  </a:lnTo>
                  <a:lnTo>
                    <a:pt x="1261" y="1595"/>
                  </a:lnTo>
                  <a:lnTo>
                    <a:pt x="1169" y="1501"/>
                  </a:lnTo>
                  <a:lnTo>
                    <a:pt x="1083" y="1595"/>
                  </a:lnTo>
                  <a:lnTo>
                    <a:pt x="981" y="1655"/>
                  </a:lnTo>
                  <a:lnTo>
                    <a:pt x="879" y="1687"/>
                  </a:lnTo>
                  <a:lnTo>
                    <a:pt x="772" y="1687"/>
                  </a:lnTo>
                  <a:lnTo>
                    <a:pt x="670" y="1655"/>
                  </a:lnTo>
                  <a:lnTo>
                    <a:pt x="568" y="1595"/>
                  </a:lnTo>
                  <a:lnTo>
                    <a:pt x="482" y="1501"/>
                  </a:lnTo>
                  <a:lnTo>
                    <a:pt x="405" y="1392"/>
                  </a:lnTo>
                  <a:lnTo>
                    <a:pt x="342" y="125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680800" y="60958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933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95640" y="3390840"/>
              <a:ext cx="1800360" cy="1101240"/>
            </a:xfrm>
            <a:custGeom>
              <a:avLst/>
              <a:gdLst/>
              <a:ahLst/>
              <a:rect l="l" t="t" r="r" b="b"/>
              <a:pathLst>
                <a:path w="2378" h="1587">
                  <a:moveTo>
                    <a:pt x="349" y="1180"/>
                  </a:moveTo>
                  <a:lnTo>
                    <a:pt x="278" y="1188"/>
                  </a:lnTo>
                  <a:lnTo>
                    <a:pt x="207" y="1172"/>
                  </a:lnTo>
                  <a:lnTo>
                    <a:pt x="142" y="1132"/>
                  </a:lnTo>
                  <a:lnTo>
                    <a:pt x="78" y="1069"/>
                  </a:lnTo>
                  <a:lnTo>
                    <a:pt x="40" y="988"/>
                  </a:lnTo>
                  <a:lnTo>
                    <a:pt x="7" y="892"/>
                  </a:lnTo>
                  <a:lnTo>
                    <a:pt x="0" y="790"/>
                  </a:lnTo>
                  <a:lnTo>
                    <a:pt x="7" y="687"/>
                  </a:lnTo>
                  <a:lnTo>
                    <a:pt x="40" y="591"/>
                  </a:lnTo>
                  <a:lnTo>
                    <a:pt x="78" y="510"/>
                  </a:lnTo>
                  <a:lnTo>
                    <a:pt x="142" y="447"/>
                  </a:lnTo>
                  <a:lnTo>
                    <a:pt x="207" y="407"/>
                  </a:lnTo>
                  <a:lnTo>
                    <a:pt x="278" y="391"/>
                  </a:lnTo>
                  <a:lnTo>
                    <a:pt x="349" y="407"/>
                  </a:lnTo>
                  <a:lnTo>
                    <a:pt x="412" y="280"/>
                  </a:lnTo>
                  <a:lnTo>
                    <a:pt x="491" y="168"/>
                  </a:lnTo>
                  <a:lnTo>
                    <a:pt x="579" y="88"/>
                  </a:lnTo>
                  <a:lnTo>
                    <a:pt x="681" y="24"/>
                  </a:lnTo>
                  <a:lnTo>
                    <a:pt x="785" y="0"/>
                  </a:lnTo>
                  <a:lnTo>
                    <a:pt x="896" y="0"/>
                  </a:lnTo>
                  <a:lnTo>
                    <a:pt x="998" y="24"/>
                  </a:lnTo>
                  <a:lnTo>
                    <a:pt x="1102" y="88"/>
                  </a:lnTo>
                  <a:lnTo>
                    <a:pt x="1190" y="168"/>
                  </a:lnTo>
                  <a:lnTo>
                    <a:pt x="1284" y="88"/>
                  </a:lnTo>
                  <a:lnTo>
                    <a:pt x="1380" y="24"/>
                  </a:lnTo>
                  <a:lnTo>
                    <a:pt x="1489" y="0"/>
                  </a:lnTo>
                  <a:lnTo>
                    <a:pt x="1593" y="0"/>
                  </a:lnTo>
                  <a:lnTo>
                    <a:pt x="1704" y="24"/>
                  </a:lnTo>
                  <a:lnTo>
                    <a:pt x="1799" y="88"/>
                  </a:lnTo>
                  <a:lnTo>
                    <a:pt x="1895" y="168"/>
                  </a:lnTo>
                  <a:lnTo>
                    <a:pt x="1966" y="280"/>
                  </a:lnTo>
                  <a:lnTo>
                    <a:pt x="2029" y="407"/>
                  </a:lnTo>
                  <a:lnTo>
                    <a:pt x="2100" y="391"/>
                  </a:lnTo>
                  <a:lnTo>
                    <a:pt x="2173" y="407"/>
                  </a:lnTo>
                  <a:lnTo>
                    <a:pt x="2244" y="447"/>
                  </a:lnTo>
                  <a:lnTo>
                    <a:pt x="2300" y="510"/>
                  </a:lnTo>
                  <a:lnTo>
                    <a:pt x="2346" y="591"/>
                  </a:lnTo>
                  <a:lnTo>
                    <a:pt x="2371" y="687"/>
                  </a:lnTo>
                  <a:lnTo>
                    <a:pt x="2378" y="790"/>
                  </a:lnTo>
                  <a:lnTo>
                    <a:pt x="2371" y="892"/>
                  </a:lnTo>
                  <a:lnTo>
                    <a:pt x="2346" y="988"/>
                  </a:lnTo>
                  <a:lnTo>
                    <a:pt x="2300" y="1069"/>
                  </a:lnTo>
                  <a:lnTo>
                    <a:pt x="2244" y="1132"/>
                  </a:lnTo>
                  <a:lnTo>
                    <a:pt x="2173" y="1172"/>
                  </a:lnTo>
                  <a:lnTo>
                    <a:pt x="2100" y="1188"/>
                  </a:lnTo>
                  <a:lnTo>
                    <a:pt x="2029" y="1180"/>
                  </a:lnTo>
                  <a:lnTo>
                    <a:pt x="1966" y="1307"/>
                  </a:lnTo>
                  <a:lnTo>
                    <a:pt x="1895" y="1411"/>
                  </a:lnTo>
                  <a:lnTo>
                    <a:pt x="1799" y="1499"/>
                  </a:lnTo>
                  <a:lnTo>
                    <a:pt x="1704" y="1555"/>
                  </a:lnTo>
                  <a:lnTo>
                    <a:pt x="1593" y="1587"/>
                  </a:lnTo>
                  <a:lnTo>
                    <a:pt x="1489" y="1587"/>
                  </a:lnTo>
                  <a:lnTo>
                    <a:pt x="1380" y="1555"/>
                  </a:lnTo>
                  <a:lnTo>
                    <a:pt x="1284" y="1499"/>
                  </a:lnTo>
                  <a:lnTo>
                    <a:pt x="1190" y="1411"/>
                  </a:lnTo>
                  <a:lnTo>
                    <a:pt x="1102" y="1499"/>
                  </a:lnTo>
                  <a:lnTo>
                    <a:pt x="998" y="1555"/>
                  </a:lnTo>
                  <a:lnTo>
                    <a:pt x="896" y="1587"/>
                  </a:lnTo>
                  <a:lnTo>
                    <a:pt x="785" y="1587"/>
                  </a:lnTo>
                  <a:lnTo>
                    <a:pt x="681" y="1555"/>
                  </a:lnTo>
                  <a:lnTo>
                    <a:pt x="579" y="1499"/>
                  </a:lnTo>
                  <a:lnTo>
                    <a:pt x="491" y="1411"/>
                  </a:lnTo>
                  <a:lnTo>
                    <a:pt x="412" y="1307"/>
                  </a:lnTo>
                  <a:lnTo>
                    <a:pt x="349" y="118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87960" y="3606840"/>
              <a:ext cx="116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Inform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56720" y="3894120"/>
              <a:ext cx="77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Litera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27640" y="1903320"/>
              <a:ext cx="1930680" cy="1169640"/>
            </a:xfrm>
            <a:custGeom>
              <a:avLst/>
              <a:gdLst/>
              <a:ahLst/>
              <a:rect l="l" t="t" r="r" b="b"/>
              <a:pathLst>
                <a:path w="2548" h="1688">
                  <a:moveTo>
                    <a:pt x="372" y="1256"/>
                  </a:moveTo>
                  <a:lnTo>
                    <a:pt x="298" y="1264"/>
                  </a:lnTo>
                  <a:lnTo>
                    <a:pt x="221" y="1248"/>
                  </a:lnTo>
                  <a:lnTo>
                    <a:pt x="152" y="1206"/>
                  </a:lnTo>
                  <a:lnTo>
                    <a:pt x="84" y="1137"/>
                  </a:lnTo>
                  <a:lnTo>
                    <a:pt x="42" y="1053"/>
                  </a:lnTo>
                  <a:lnTo>
                    <a:pt x="8" y="951"/>
                  </a:lnTo>
                  <a:lnTo>
                    <a:pt x="0" y="841"/>
                  </a:lnTo>
                  <a:lnTo>
                    <a:pt x="8" y="730"/>
                  </a:lnTo>
                  <a:lnTo>
                    <a:pt x="42" y="628"/>
                  </a:lnTo>
                  <a:lnTo>
                    <a:pt x="84" y="544"/>
                  </a:lnTo>
                  <a:lnTo>
                    <a:pt x="152" y="475"/>
                  </a:lnTo>
                  <a:lnTo>
                    <a:pt x="221" y="432"/>
                  </a:lnTo>
                  <a:lnTo>
                    <a:pt x="298" y="417"/>
                  </a:lnTo>
                  <a:lnTo>
                    <a:pt x="372" y="432"/>
                  </a:lnTo>
                  <a:lnTo>
                    <a:pt x="442" y="298"/>
                  </a:lnTo>
                  <a:lnTo>
                    <a:pt x="526" y="179"/>
                  </a:lnTo>
                  <a:lnTo>
                    <a:pt x="620" y="95"/>
                  </a:lnTo>
                  <a:lnTo>
                    <a:pt x="730" y="25"/>
                  </a:lnTo>
                  <a:lnTo>
                    <a:pt x="841" y="0"/>
                  </a:lnTo>
                  <a:lnTo>
                    <a:pt x="960" y="0"/>
                  </a:lnTo>
                  <a:lnTo>
                    <a:pt x="1069" y="25"/>
                  </a:lnTo>
                  <a:lnTo>
                    <a:pt x="1181" y="95"/>
                  </a:lnTo>
                  <a:lnTo>
                    <a:pt x="1275" y="179"/>
                  </a:lnTo>
                  <a:lnTo>
                    <a:pt x="1377" y="95"/>
                  </a:lnTo>
                  <a:lnTo>
                    <a:pt x="1478" y="25"/>
                  </a:lnTo>
                  <a:lnTo>
                    <a:pt x="1597" y="0"/>
                  </a:lnTo>
                  <a:lnTo>
                    <a:pt x="1707" y="0"/>
                  </a:lnTo>
                  <a:lnTo>
                    <a:pt x="1826" y="25"/>
                  </a:lnTo>
                  <a:lnTo>
                    <a:pt x="1928" y="95"/>
                  </a:lnTo>
                  <a:lnTo>
                    <a:pt x="2029" y="179"/>
                  </a:lnTo>
                  <a:lnTo>
                    <a:pt x="2106" y="298"/>
                  </a:lnTo>
                  <a:lnTo>
                    <a:pt x="2175" y="432"/>
                  </a:lnTo>
                  <a:lnTo>
                    <a:pt x="2250" y="417"/>
                  </a:lnTo>
                  <a:lnTo>
                    <a:pt x="2327" y="432"/>
                  </a:lnTo>
                  <a:lnTo>
                    <a:pt x="2404" y="475"/>
                  </a:lnTo>
                  <a:lnTo>
                    <a:pt x="2463" y="544"/>
                  </a:lnTo>
                  <a:lnTo>
                    <a:pt x="2515" y="628"/>
                  </a:lnTo>
                  <a:lnTo>
                    <a:pt x="2540" y="730"/>
                  </a:lnTo>
                  <a:lnTo>
                    <a:pt x="2548" y="841"/>
                  </a:lnTo>
                  <a:lnTo>
                    <a:pt x="2540" y="951"/>
                  </a:lnTo>
                  <a:lnTo>
                    <a:pt x="2515" y="1053"/>
                  </a:lnTo>
                  <a:lnTo>
                    <a:pt x="2463" y="1137"/>
                  </a:lnTo>
                  <a:lnTo>
                    <a:pt x="2404" y="1206"/>
                  </a:lnTo>
                  <a:lnTo>
                    <a:pt x="2327" y="1248"/>
                  </a:lnTo>
                  <a:lnTo>
                    <a:pt x="2250" y="1264"/>
                  </a:lnTo>
                  <a:lnTo>
                    <a:pt x="2175" y="1256"/>
                  </a:lnTo>
                  <a:lnTo>
                    <a:pt x="2106" y="1392"/>
                  </a:lnTo>
                  <a:lnTo>
                    <a:pt x="2029" y="1502"/>
                  </a:lnTo>
                  <a:lnTo>
                    <a:pt x="1928" y="1596"/>
                  </a:lnTo>
                  <a:lnTo>
                    <a:pt x="1826" y="1655"/>
                  </a:lnTo>
                  <a:lnTo>
                    <a:pt x="1707" y="1688"/>
                  </a:lnTo>
                  <a:lnTo>
                    <a:pt x="1597" y="1688"/>
                  </a:lnTo>
                  <a:lnTo>
                    <a:pt x="1478" y="1655"/>
                  </a:lnTo>
                  <a:lnTo>
                    <a:pt x="1377" y="1596"/>
                  </a:lnTo>
                  <a:lnTo>
                    <a:pt x="1275" y="1502"/>
                  </a:lnTo>
                  <a:lnTo>
                    <a:pt x="1181" y="1596"/>
                  </a:lnTo>
                  <a:lnTo>
                    <a:pt x="1069" y="1655"/>
                  </a:lnTo>
                  <a:lnTo>
                    <a:pt x="960" y="1688"/>
                  </a:lnTo>
                  <a:lnTo>
                    <a:pt x="841" y="1688"/>
                  </a:lnTo>
                  <a:lnTo>
                    <a:pt x="730" y="1655"/>
                  </a:lnTo>
                  <a:lnTo>
                    <a:pt x="620" y="1596"/>
                  </a:lnTo>
                  <a:lnTo>
                    <a:pt x="526" y="1502"/>
                  </a:lnTo>
                  <a:lnTo>
                    <a:pt x="442" y="1392"/>
                  </a:lnTo>
                  <a:lnTo>
                    <a:pt x="372" y="1256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84800" y="1879560"/>
              <a:ext cx="1930680" cy="1169640"/>
            </a:xfrm>
            <a:custGeom>
              <a:avLst/>
              <a:gdLst/>
              <a:ahLst/>
              <a:rect l="l" t="t" r="r" b="b"/>
              <a:pathLst>
                <a:path w="2548" h="1688">
                  <a:moveTo>
                    <a:pt x="372" y="1256"/>
                  </a:moveTo>
                  <a:lnTo>
                    <a:pt x="298" y="1264"/>
                  </a:lnTo>
                  <a:lnTo>
                    <a:pt x="221" y="1248"/>
                  </a:lnTo>
                  <a:lnTo>
                    <a:pt x="152" y="1206"/>
                  </a:lnTo>
                  <a:lnTo>
                    <a:pt x="84" y="1137"/>
                  </a:lnTo>
                  <a:lnTo>
                    <a:pt x="42" y="1053"/>
                  </a:lnTo>
                  <a:lnTo>
                    <a:pt x="8" y="951"/>
                  </a:lnTo>
                  <a:lnTo>
                    <a:pt x="0" y="841"/>
                  </a:lnTo>
                  <a:lnTo>
                    <a:pt x="8" y="730"/>
                  </a:lnTo>
                  <a:lnTo>
                    <a:pt x="42" y="628"/>
                  </a:lnTo>
                  <a:lnTo>
                    <a:pt x="84" y="544"/>
                  </a:lnTo>
                  <a:lnTo>
                    <a:pt x="152" y="475"/>
                  </a:lnTo>
                  <a:lnTo>
                    <a:pt x="221" y="432"/>
                  </a:lnTo>
                  <a:lnTo>
                    <a:pt x="298" y="417"/>
                  </a:lnTo>
                  <a:lnTo>
                    <a:pt x="372" y="432"/>
                  </a:lnTo>
                  <a:lnTo>
                    <a:pt x="442" y="298"/>
                  </a:lnTo>
                  <a:lnTo>
                    <a:pt x="526" y="179"/>
                  </a:lnTo>
                  <a:lnTo>
                    <a:pt x="620" y="95"/>
                  </a:lnTo>
                  <a:lnTo>
                    <a:pt x="730" y="25"/>
                  </a:lnTo>
                  <a:lnTo>
                    <a:pt x="841" y="0"/>
                  </a:lnTo>
                  <a:lnTo>
                    <a:pt x="960" y="0"/>
                  </a:lnTo>
                  <a:lnTo>
                    <a:pt x="1069" y="25"/>
                  </a:lnTo>
                  <a:lnTo>
                    <a:pt x="1181" y="95"/>
                  </a:lnTo>
                  <a:lnTo>
                    <a:pt x="1275" y="179"/>
                  </a:lnTo>
                  <a:lnTo>
                    <a:pt x="1377" y="95"/>
                  </a:lnTo>
                  <a:lnTo>
                    <a:pt x="1478" y="25"/>
                  </a:lnTo>
                  <a:lnTo>
                    <a:pt x="1597" y="0"/>
                  </a:lnTo>
                  <a:lnTo>
                    <a:pt x="1707" y="0"/>
                  </a:lnTo>
                  <a:lnTo>
                    <a:pt x="1826" y="25"/>
                  </a:lnTo>
                  <a:lnTo>
                    <a:pt x="1928" y="95"/>
                  </a:lnTo>
                  <a:lnTo>
                    <a:pt x="2029" y="179"/>
                  </a:lnTo>
                  <a:lnTo>
                    <a:pt x="2106" y="298"/>
                  </a:lnTo>
                  <a:lnTo>
                    <a:pt x="2175" y="432"/>
                  </a:lnTo>
                  <a:lnTo>
                    <a:pt x="2250" y="417"/>
                  </a:lnTo>
                  <a:lnTo>
                    <a:pt x="2327" y="432"/>
                  </a:lnTo>
                  <a:lnTo>
                    <a:pt x="2404" y="475"/>
                  </a:lnTo>
                  <a:lnTo>
                    <a:pt x="2463" y="544"/>
                  </a:lnTo>
                  <a:lnTo>
                    <a:pt x="2515" y="628"/>
                  </a:lnTo>
                  <a:lnTo>
                    <a:pt x="2540" y="730"/>
                  </a:lnTo>
                  <a:lnTo>
                    <a:pt x="2548" y="841"/>
                  </a:lnTo>
                  <a:lnTo>
                    <a:pt x="2540" y="951"/>
                  </a:lnTo>
                  <a:lnTo>
                    <a:pt x="2515" y="1053"/>
                  </a:lnTo>
                  <a:lnTo>
                    <a:pt x="2463" y="1137"/>
                  </a:lnTo>
                  <a:lnTo>
                    <a:pt x="2404" y="1206"/>
                  </a:lnTo>
                  <a:lnTo>
                    <a:pt x="2327" y="1248"/>
                  </a:lnTo>
                  <a:lnTo>
                    <a:pt x="2250" y="1264"/>
                  </a:lnTo>
                  <a:lnTo>
                    <a:pt x="2175" y="1256"/>
                  </a:lnTo>
                  <a:lnTo>
                    <a:pt x="2106" y="1392"/>
                  </a:lnTo>
                  <a:lnTo>
                    <a:pt x="2029" y="1502"/>
                  </a:lnTo>
                  <a:lnTo>
                    <a:pt x="1928" y="1596"/>
                  </a:lnTo>
                  <a:lnTo>
                    <a:pt x="1826" y="1655"/>
                  </a:lnTo>
                  <a:lnTo>
                    <a:pt x="1707" y="1688"/>
                  </a:lnTo>
                  <a:lnTo>
                    <a:pt x="1597" y="1688"/>
                  </a:lnTo>
                  <a:lnTo>
                    <a:pt x="1478" y="1655"/>
                  </a:lnTo>
                  <a:lnTo>
                    <a:pt x="1377" y="1596"/>
                  </a:lnTo>
                  <a:lnTo>
                    <a:pt x="1275" y="1502"/>
                  </a:lnTo>
                  <a:lnTo>
                    <a:pt x="1181" y="1596"/>
                  </a:lnTo>
                  <a:lnTo>
                    <a:pt x="1069" y="1655"/>
                  </a:lnTo>
                  <a:lnTo>
                    <a:pt x="960" y="1688"/>
                  </a:lnTo>
                  <a:lnTo>
                    <a:pt x="841" y="1688"/>
                  </a:lnTo>
                  <a:lnTo>
                    <a:pt x="730" y="1655"/>
                  </a:lnTo>
                  <a:lnTo>
                    <a:pt x="620" y="1596"/>
                  </a:lnTo>
                  <a:lnTo>
                    <a:pt x="526" y="1502"/>
                  </a:lnTo>
                  <a:lnTo>
                    <a:pt x="442" y="1392"/>
                  </a:lnTo>
                  <a:lnTo>
                    <a:pt x="372" y="125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665400" y="2130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66840" y="241596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Edu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7080" y="3246480"/>
              <a:ext cx="1920960" cy="1172520"/>
            </a:xfrm>
            <a:custGeom>
              <a:avLst/>
              <a:gdLst/>
              <a:ahLst/>
              <a:rect l="l" t="t" r="r" b="b"/>
              <a:pathLst>
                <a:path w="2538" h="1689">
                  <a:moveTo>
                    <a:pt x="373" y="1257"/>
                  </a:moveTo>
                  <a:lnTo>
                    <a:pt x="296" y="1265"/>
                  </a:lnTo>
                  <a:lnTo>
                    <a:pt x="219" y="1248"/>
                  </a:lnTo>
                  <a:lnTo>
                    <a:pt x="152" y="1205"/>
                  </a:lnTo>
                  <a:lnTo>
                    <a:pt x="85" y="1138"/>
                  </a:lnTo>
                  <a:lnTo>
                    <a:pt x="42" y="1054"/>
                  </a:lnTo>
                  <a:lnTo>
                    <a:pt x="8" y="952"/>
                  </a:lnTo>
                  <a:lnTo>
                    <a:pt x="0" y="841"/>
                  </a:lnTo>
                  <a:lnTo>
                    <a:pt x="8" y="729"/>
                  </a:lnTo>
                  <a:lnTo>
                    <a:pt x="42" y="627"/>
                  </a:lnTo>
                  <a:lnTo>
                    <a:pt x="85" y="543"/>
                  </a:lnTo>
                  <a:lnTo>
                    <a:pt x="152" y="476"/>
                  </a:lnTo>
                  <a:lnTo>
                    <a:pt x="219" y="434"/>
                  </a:lnTo>
                  <a:lnTo>
                    <a:pt x="296" y="416"/>
                  </a:lnTo>
                  <a:lnTo>
                    <a:pt x="373" y="434"/>
                  </a:lnTo>
                  <a:lnTo>
                    <a:pt x="440" y="297"/>
                  </a:lnTo>
                  <a:lnTo>
                    <a:pt x="524" y="178"/>
                  </a:lnTo>
                  <a:lnTo>
                    <a:pt x="616" y="94"/>
                  </a:lnTo>
                  <a:lnTo>
                    <a:pt x="728" y="25"/>
                  </a:lnTo>
                  <a:lnTo>
                    <a:pt x="837" y="0"/>
                  </a:lnTo>
                  <a:lnTo>
                    <a:pt x="956" y="0"/>
                  </a:lnTo>
                  <a:lnTo>
                    <a:pt x="1066" y="25"/>
                  </a:lnTo>
                  <a:lnTo>
                    <a:pt x="1175" y="94"/>
                  </a:lnTo>
                  <a:lnTo>
                    <a:pt x="1269" y="178"/>
                  </a:lnTo>
                  <a:lnTo>
                    <a:pt x="1371" y="94"/>
                  </a:lnTo>
                  <a:lnTo>
                    <a:pt x="1473" y="25"/>
                  </a:lnTo>
                  <a:lnTo>
                    <a:pt x="1592" y="0"/>
                  </a:lnTo>
                  <a:lnTo>
                    <a:pt x="1701" y="0"/>
                  </a:lnTo>
                  <a:lnTo>
                    <a:pt x="1820" y="25"/>
                  </a:lnTo>
                  <a:lnTo>
                    <a:pt x="1922" y="94"/>
                  </a:lnTo>
                  <a:lnTo>
                    <a:pt x="2022" y="178"/>
                  </a:lnTo>
                  <a:lnTo>
                    <a:pt x="2099" y="297"/>
                  </a:lnTo>
                  <a:lnTo>
                    <a:pt x="2166" y="434"/>
                  </a:lnTo>
                  <a:lnTo>
                    <a:pt x="2243" y="416"/>
                  </a:lnTo>
                  <a:lnTo>
                    <a:pt x="2319" y="434"/>
                  </a:lnTo>
                  <a:lnTo>
                    <a:pt x="2394" y="476"/>
                  </a:lnTo>
                  <a:lnTo>
                    <a:pt x="2454" y="543"/>
                  </a:lnTo>
                  <a:lnTo>
                    <a:pt x="2506" y="627"/>
                  </a:lnTo>
                  <a:lnTo>
                    <a:pt x="2531" y="729"/>
                  </a:lnTo>
                  <a:lnTo>
                    <a:pt x="2538" y="841"/>
                  </a:lnTo>
                  <a:lnTo>
                    <a:pt x="2531" y="952"/>
                  </a:lnTo>
                  <a:lnTo>
                    <a:pt x="2506" y="1054"/>
                  </a:lnTo>
                  <a:lnTo>
                    <a:pt x="2454" y="1138"/>
                  </a:lnTo>
                  <a:lnTo>
                    <a:pt x="2394" y="1205"/>
                  </a:lnTo>
                  <a:lnTo>
                    <a:pt x="2319" y="1248"/>
                  </a:lnTo>
                  <a:lnTo>
                    <a:pt x="2243" y="1265"/>
                  </a:lnTo>
                  <a:lnTo>
                    <a:pt x="2166" y="1257"/>
                  </a:lnTo>
                  <a:lnTo>
                    <a:pt x="2099" y="1393"/>
                  </a:lnTo>
                  <a:lnTo>
                    <a:pt x="2022" y="1503"/>
                  </a:lnTo>
                  <a:lnTo>
                    <a:pt x="1922" y="1597"/>
                  </a:lnTo>
                  <a:lnTo>
                    <a:pt x="1820" y="1656"/>
                  </a:lnTo>
                  <a:lnTo>
                    <a:pt x="1701" y="1689"/>
                  </a:lnTo>
                  <a:lnTo>
                    <a:pt x="1592" y="1689"/>
                  </a:lnTo>
                  <a:lnTo>
                    <a:pt x="1473" y="1656"/>
                  </a:lnTo>
                  <a:lnTo>
                    <a:pt x="1371" y="1597"/>
                  </a:lnTo>
                  <a:lnTo>
                    <a:pt x="1269" y="1503"/>
                  </a:lnTo>
                  <a:lnTo>
                    <a:pt x="1175" y="1597"/>
                  </a:lnTo>
                  <a:lnTo>
                    <a:pt x="1066" y="1656"/>
                  </a:lnTo>
                  <a:lnTo>
                    <a:pt x="956" y="1689"/>
                  </a:lnTo>
                  <a:lnTo>
                    <a:pt x="837" y="1689"/>
                  </a:lnTo>
                  <a:lnTo>
                    <a:pt x="728" y="1656"/>
                  </a:lnTo>
                  <a:lnTo>
                    <a:pt x="616" y="1597"/>
                  </a:lnTo>
                  <a:lnTo>
                    <a:pt x="524" y="1503"/>
                  </a:lnTo>
                  <a:lnTo>
                    <a:pt x="440" y="1393"/>
                  </a:lnTo>
                  <a:lnTo>
                    <a:pt x="373" y="12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099920" y="3540240"/>
              <a:ext cx="135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Bibliograph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9080" y="3733560"/>
              <a:ext cx="1046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Instruc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71120" y="173880"/>
              <a:ext cx="4726080" cy="433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595" y="20477"/>
                  </a:moveTo>
                  <a:arcTo wR="10800" hR="10800" stAng="3818388" swAng="3332805"/>
                  <a:lnTo>
                    <a:pt x="10800" y="10800"/>
                  </a:lnTo>
                  <a:close/>
                </a:path>
                <a:path fill="none" w="21600" h="21600">
                  <a:moveTo>
                    <a:pt x="15595" y="20477"/>
                  </a:moveTo>
                  <a:arcTo wR="10800" hR="10800" stAng="3818388" swAng="3332805"/>
                </a:path>
              </a:pathLst>
            </a:custGeom>
            <a:noFill/>
            <a:ln w="270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494320" y="4195800"/>
              <a:ext cx="146160" cy="109080"/>
            </a:xfrm>
            <a:custGeom>
              <a:avLst/>
              <a:gdLst/>
              <a:ahLst/>
              <a:rect l="l" t="t" r="r" b="b"/>
              <a:pathLst>
                <a:path w="193" h="160">
                  <a:moveTo>
                    <a:pt x="0" y="0"/>
                  </a:moveTo>
                  <a:lnTo>
                    <a:pt x="193" y="19"/>
                  </a:lnTo>
                  <a:lnTo>
                    <a:pt x="111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14920" y="2933640"/>
              <a:ext cx="1546200" cy="717120"/>
            </a:xfrm>
            <a:custGeom>
              <a:avLst/>
              <a:gdLst/>
              <a:ahLst/>
              <a:rect l="l" t="t" r="r" b="b"/>
              <a:pathLst>
                <a:path w="2043" h="1033">
                  <a:moveTo>
                    <a:pt x="0" y="1033"/>
                  </a:moveTo>
                  <a:lnTo>
                    <a:pt x="199" y="995"/>
                  </a:lnTo>
                  <a:lnTo>
                    <a:pt x="357" y="958"/>
                  </a:lnTo>
                  <a:lnTo>
                    <a:pt x="489" y="920"/>
                  </a:lnTo>
                  <a:lnTo>
                    <a:pt x="606" y="883"/>
                  </a:lnTo>
                  <a:lnTo>
                    <a:pt x="712" y="845"/>
                  </a:lnTo>
                  <a:lnTo>
                    <a:pt x="808" y="809"/>
                  </a:lnTo>
                  <a:lnTo>
                    <a:pt x="898" y="772"/>
                  </a:lnTo>
                  <a:lnTo>
                    <a:pt x="981" y="734"/>
                  </a:lnTo>
                  <a:lnTo>
                    <a:pt x="1060" y="697"/>
                  </a:lnTo>
                  <a:lnTo>
                    <a:pt x="1134" y="659"/>
                  </a:lnTo>
                  <a:lnTo>
                    <a:pt x="1204" y="622"/>
                  </a:lnTo>
                  <a:lnTo>
                    <a:pt x="1271" y="586"/>
                  </a:lnTo>
                  <a:lnTo>
                    <a:pt x="1334" y="547"/>
                  </a:lnTo>
                  <a:lnTo>
                    <a:pt x="1396" y="511"/>
                  </a:lnTo>
                  <a:lnTo>
                    <a:pt x="1453" y="473"/>
                  </a:lnTo>
                  <a:lnTo>
                    <a:pt x="1511" y="436"/>
                  </a:lnTo>
                  <a:lnTo>
                    <a:pt x="1565" y="398"/>
                  </a:lnTo>
                  <a:lnTo>
                    <a:pt x="1616" y="361"/>
                  </a:lnTo>
                  <a:lnTo>
                    <a:pt x="1666" y="325"/>
                  </a:lnTo>
                  <a:lnTo>
                    <a:pt x="1714" y="286"/>
                  </a:lnTo>
                  <a:lnTo>
                    <a:pt x="1762" y="250"/>
                  </a:lnTo>
                  <a:lnTo>
                    <a:pt x="1806" y="212"/>
                  </a:lnTo>
                  <a:lnTo>
                    <a:pt x="1851" y="175"/>
                  </a:lnTo>
                  <a:lnTo>
                    <a:pt x="1895" y="139"/>
                  </a:lnTo>
                  <a:lnTo>
                    <a:pt x="1935" y="100"/>
                  </a:lnTo>
                  <a:lnTo>
                    <a:pt x="1975" y="64"/>
                  </a:lnTo>
                  <a:lnTo>
                    <a:pt x="2014" y="25"/>
                  </a:lnTo>
                  <a:lnTo>
                    <a:pt x="2043" y="0"/>
                  </a:lnTo>
                </a:path>
              </a:pathLst>
            </a:custGeom>
            <a:noFill/>
            <a:ln w="270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516640" y="3589200"/>
              <a:ext cx="142920" cy="109080"/>
            </a:xfrm>
            <a:custGeom>
              <a:avLst/>
              <a:gdLst/>
              <a:ahLst/>
              <a:rect l="l" t="t" r="r" b="b"/>
              <a:pathLst>
                <a:path w="188" h="157">
                  <a:moveTo>
                    <a:pt x="0" y="105"/>
                  </a:moveTo>
                  <a:lnTo>
                    <a:pt x="163" y="0"/>
                  </a:lnTo>
                  <a:lnTo>
                    <a:pt x="188" y="157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14600" y="2456280"/>
              <a:ext cx="3539520" cy="3246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6178" y="1434"/>
                  </a:moveTo>
                  <a:arcTo wR="10800" hR="10800" stAng="-3608153" swAng="2428603"/>
                  <a:lnTo>
                    <a:pt x="10800" y="10800"/>
                  </a:lnTo>
                  <a:close/>
                </a:path>
                <a:path fill="none" w="21600" h="21600">
                  <a:moveTo>
                    <a:pt x="16178" y="1434"/>
                  </a:moveTo>
                  <a:arcTo wR="10800" hR="10800" stAng="-3608153" swAng="2428603"/>
                </a:path>
              </a:pathLst>
            </a:custGeom>
            <a:noFill/>
            <a:ln w="270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98960" y="3514680"/>
              <a:ext cx="114120" cy="136080"/>
            </a:xfrm>
            <a:custGeom>
              <a:avLst/>
              <a:gdLst/>
              <a:ahLst/>
              <a:rect l="l" t="t" r="r" b="b"/>
              <a:pathLst>
                <a:path w="150" h="194">
                  <a:moveTo>
                    <a:pt x="133" y="194"/>
                  </a:moveTo>
                  <a:lnTo>
                    <a:pt x="0" y="52"/>
                  </a:lnTo>
                  <a:lnTo>
                    <a:pt x="150" y="0"/>
                  </a:lnTo>
                  <a:lnTo>
                    <a:pt x="133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960800" y="2427120"/>
              <a:ext cx="774720" cy="893520"/>
            </a:xfrm>
            <a:custGeom>
              <a:avLst/>
              <a:gdLst/>
              <a:ahLst/>
              <a:rect l="l" t="t" r="r" b="b"/>
              <a:pathLst>
                <a:path w="1266" h="2060">
                  <a:moveTo>
                    <a:pt x="0" y="2060"/>
                  </a:moveTo>
                  <a:lnTo>
                    <a:pt x="35" y="2033"/>
                  </a:lnTo>
                  <a:lnTo>
                    <a:pt x="69" y="2006"/>
                  </a:lnTo>
                  <a:lnTo>
                    <a:pt x="102" y="1980"/>
                  </a:lnTo>
                  <a:lnTo>
                    <a:pt x="135" y="1953"/>
                  </a:lnTo>
                  <a:lnTo>
                    <a:pt x="165" y="1926"/>
                  </a:lnTo>
                  <a:lnTo>
                    <a:pt x="196" y="1899"/>
                  </a:lnTo>
                  <a:lnTo>
                    <a:pt x="227" y="1872"/>
                  </a:lnTo>
                  <a:lnTo>
                    <a:pt x="256" y="1845"/>
                  </a:lnTo>
                  <a:lnTo>
                    <a:pt x="285" y="1818"/>
                  </a:lnTo>
                  <a:lnTo>
                    <a:pt x="311" y="1791"/>
                  </a:lnTo>
                  <a:lnTo>
                    <a:pt x="340" y="1765"/>
                  </a:lnTo>
                  <a:lnTo>
                    <a:pt x="365" y="1740"/>
                  </a:lnTo>
                  <a:lnTo>
                    <a:pt x="392" y="1713"/>
                  </a:lnTo>
                  <a:lnTo>
                    <a:pt x="417" y="1686"/>
                  </a:lnTo>
                  <a:lnTo>
                    <a:pt x="442" y="1659"/>
                  </a:lnTo>
                  <a:lnTo>
                    <a:pt x="467" y="1632"/>
                  </a:lnTo>
                  <a:lnTo>
                    <a:pt x="490" y="1605"/>
                  </a:lnTo>
                  <a:lnTo>
                    <a:pt x="513" y="1578"/>
                  </a:lnTo>
                  <a:lnTo>
                    <a:pt x="536" y="1551"/>
                  </a:lnTo>
                  <a:lnTo>
                    <a:pt x="559" y="1525"/>
                  </a:lnTo>
                  <a:lnTo>
                    <a:pt x="580" y="1498"/>
                  </a:lnTo>
                  <a:lnTo>
                    <a:pt x="601" y="1471"/>
                  </a:lnTo>
                  <a:lnTo>
                    <a:pt x="622" y="1446"/>
                  </a:lnTo>
                  <a:lnTo>
                    <a:pt x="644" y="1419"/>
                  </a:lnTo>
                  <a:lnTo>
                    <a:pt x="665" y="1392"/>
                  </a:lnTo>
                  <a:lnTo>
                    <a:pt x="684" y="1365"/>
                  </a:lnTo>
                  <a:lnTo>
                    <a:pt x="703" y="1338"/>
                  </a:lnTo>
                  <a:lnTo>
                    <a:pt x="722" y="1311"/>
                  </a:lnTo>
                  <a:lnTo>
                    <a:pt x="740" y="1285"/>
                  </a:lnTo>
                  <a:lnTo>
                    <a:pt x="759" y="1258"/>
                  </a:lnTo>
                  <a:lnTo>
                    <a:pt x="776" y="1231"/>
                  </a:lnTo>
                  <a:lnTo>
                    <a:pt x="793" y="1204"/>
                  </a:lnTo>
                  <a:lnTo>
                    <a:pt x="811" y="1177"/>
                  </a:lnTo>
                  <a:lnTo>
                    <a:pt x="826" y="1152"/>
                  </a:lnTo>
                  <a:lnTo>
                    <a:pt x="843" y="1125"/>
                  </a:lnTo>
                  <a:lnTo>
                    <a:pt x="859" y="1098"/>
                  </a:lnTo>
                  <a:lnTo>
                    <a:pt x="874" y="1071"/>
                  </a:lnTo>
                  <a:lnTo>
                    <a:pt x="889" y="1045"/>
                  </a:lnTo>
                  <a:lnTo>
                    <a:pt x="905" y="1018"/>
                  </a:lnTo>
                  <a:lnTo>
                    <a:pt x="920" y="991"/>
                  </a:lnTo>
                  <a:lnTo>
                    <a:pt x="933" y="964"/>
                  </a:lnTo>
                  <a:lnTo>
                    <a:pt x="947" y="937"/>
                  </a:lnTo>
                  <a:lnTo>
                    <a:pt x="962" y="910"/>
                  </a:lnTo>
                  <a:lnTo>
                    <a:pt x="974" y="883"/>
                  </a:lnTo>
                  <a:lnTo>
                    <a:pt x="987" y="858"/>
                  </a:lnTo>
                  <a:lnTo>
                    <a:pt x="1001" y="832"/>
                  </a:lnTo>
                  <a:lnTo>
                    <a:pt x="1012" y="805"/>
                  </a:lnTo>
                  <a:lnTo>
                    <a:pt x="1026" y="778"/>
                  </a:lnTo>
                  <a:lnTo>
                    <a:pt x="1037" y="751"/>
                  </a:lnTo>
                  <a:lnTo>
                    <a:pt x="1049" y="724"/>
                  </a:lnTo>
                  <a:lnTo>
                    <a:pt x="1060" y="697"/>
                  </a:lnTo>
                  <a:lnTo>
                    <a:pt x="1072" y="670"/>
                  </a:lnTo>
                  <a:lnTo>
                    <a:pt x="1081" y="643"/>
                  </a:lnTo>
                  <a:lnTo>
                    <a:pt x="1093" y="617"/>
                  </a:lnTo>
                  <a:lnTo>
                    <a:pt x="1102" y="590"/>
                  </a:lnTo>
                  <a:lnTo>
                    <a:pt x="1112" y="565"/>
                  </a:lnTo>
                  <a:lnTo>
                    <a:pt x="1124" y="538"/>
                  </a:lnTo>
                  <a:lnTo>
                    <a:pt x="1131" y="511"/>
                  </a:lnTo>
                  <a:lnTo>
                    <a:pt x="1141" y="484"/>
                  </a:lnTo>
                  <a:lnTo>
                    <a:pt x="1150" y="457"/>
                  </a:lnTo>
                  <a:lnTo>
                    <a:pt x="1158" y="430"/>
                  </a:lnTo>
                  <a:lnTo>
                    <a:pt x="1168" y="403"/>
                  </a:lnTo>
                  <a:lnTo>
                    <a:pt x="1175" y="377"/>
                  </a:lnTo>
                  <a:lnTo>
                    <a:pt x="1183" y="350"/>
                  </a:lnTo>
                  <a:lnTo>
                    <a:pt x="1191" y="323"/>
                  </a:lnTo>
                  <a:lnTo>
                    <a:pt x="1198" y="296"/>
                  </a:lnTo>
                  <a:lnTo>
                    <a:pt x="1206" y="271"/>
                  </a:lnTo>
                  <a:lnTo>
                    <a:pt x="1214" y="244"/>
                  </a:lnTo>
                  <a:lnTo>
                    <a:pt x="1220" y="217"/>
                  </a:lnTo>
                  <a:lnTo>
                    <a:pt x="1227" y="190"/>
                  </a:lnTo>
                  <a:lnTo>
                    <a:pt x="1233" y="163"/>
                  </a:lnTo>
                  <a:lnTo>
                    <a:pt x="1239" y="137"/>
                  </a:lnTo>
                  <a:lnTo>
                    <a:pt x="1245" y="110"/>
                  </a:lnTo>
                  <a:lnTo>
                    <a:pt x="1250" y="83"/>
                  </a:lnTo>
                  <a:lnTo>
                    <a:pt x="1256" y="56"/>
                  </a:lnTo>
                  <a:lnTo>
                    <a:pt x="1262" y="29"/>
                  </a:lnTo>
                  <a:lnTo>
                    <a:pt x="1266" y="2"/>
                  </a:lnTo>
                  <a:lnTo>
                    <a:pt x="1266" y="0"/>
                  </a:lnTo>
                </a:path>
              </a:pathLst>
            </a:custGeom>
            <a:noFill/>
            <a:ln w="270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59280" y="3305160"/>
              <a:ext cx="142920" cy="115560"/>
            </a:xfrm>
            <a:custGeom>
              <a:avLst/>
              <a:gdLst/>
              <a:ahLst/>
              <a:rect l="l" t="t" r="r" b="b"/>
              <a:pathLst>
                <a:path w="190" h="169">
                  <a:moveTo>
                    <a:pt x="0" y="169"/>
                  </a:moveTo>
                  <a:lnTo>
                    <a:pt x="96" y="0"/>
                  </a:lnTo>
                  <a:lnTo>
                    <a:pt x="190" y="130"/>
                  </a:lnTo>
                  <a:lnTo>
                    <a:pt x="0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-663480" y="3275640"/>
              <a:ext cx="5428800" cy="49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826" y="192"/>
                  </a:moveTo>
                  <a:arcTo wR="10800" hR="10800" stAng="-4751155" swAng="18116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826" y="192"/>
                  </a:moveTo>
                  <a:arcTo wR="10800" hR="10800" stAng="-4751155" swAng="1811601"/>
                </a:path>
              </a:pathLst>
            </a:custGeom>
            <a:noFill/>
            <a:ln w="270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786120" y="3787560"/>
              <a:ext cx="141480" cy="123480"/>
            </a:xfrm>
            <a:custGeom>
              <a:avLst/>
              <a:gdLst/>
              <a:ahLst/>
              <a:rect l="l" t="t" r="r" b="b"/>
              <a:pathLst>
                <a:path w="187" h="178">
                  <a:moveTo>
                    <a:pt x="187" y="178"/>
                  </a:moveTo>
                  <a:lnTo>
                    <a:pt x="0" y="119"/>
                  </a:lnTo>
                  <a:lnTo>
                    <a:pt x="110" y="0"/>
                  </a:lnTo>
                  <a:lnTo>
                    <a:pt x="187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397400" y="1966680"/>
              <a:ext cx="116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Inform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93160" y="2182680"/>
              <a:ext cx="765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Flu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024280" y="2076480"/>
              <a:ext cx="132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 </a:t>
              </a: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055240" y="2276280"/>
              <a:ext cx="136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of 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022480" y="2476440"/>
              <a:ext cx="65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Ski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86680" y="4521240"/>
              <a:ext cx="1957320" cy="1174320"/>
            </a:xfrm>
            <a:custGeom>
              <a:avLst/>
              <a:gdLst/>
              <a:ahLst/>
              <a:rect l="l" t="t" r="r" b="b"/>
              <a:pathLst>
                <a:path w="2584" h="1695">
                  <a:moveTo>
                    <a:pt x="378" y="1261"/>
                  </a:moveTo>
                  <a:lnTo>
                    <a:pt x="301" y="1269"/>
                  </a:lnTo>
                  <a:lnTo>
                    <a:pt x="224" y="1253"/>
                  </a:lnTo>
                  <a:lnTo>
                    <a:pt x="155" y="1209"/>
                  </a:lnTo>
                  <a:lnTo>
                    <a:pt x="86" y="1142"/>
                  </a:lnTo>
                  <a:lnTo>
                    <a:pt x="42" y="1056"/>
                  </a:lnTo>
                  <a:lnTo>
                    <a:pt x="7" y="954"/>
                  </a:lnTo>
                  <a:lnTo>
                    <a:pt x="0" y="844"/>
                  </a:lnTo>
                  <a:lnTo>
                    <a:pt x="7" y="733"/>
                  </a:lnTo>
                  <a:lnTo>
                    <a:pt x="42" y="631"/>
                  </a:lnTo>
                  <a:lnTo>
                    <a:pt x="86" y="545"/>
                  </a:lnTo>
                  <a:lnTo>
                    <a:pt x="155" y="478"/>
                  </a:lnTo>
                  <a:lnTo>
                    <a:pt x="224" y="434"/>
                  </a:lnTo>
                  <a:lnTo>
                    <a:pt x="301" y="418"/>
                  </a:lnTo>
                  <a:lnTo>
                    <a:pt x="378" y="434"/>
                  </a:lnTo>
                  <a:lnTo>
                    <a:pt x="447" y="297"/>
                  </a:lnTo>
                  <a:lnTo>
                    <a:pt x="533" y="178"/>
                  </a:lnTo>
                  <a:lnTo>
                    <a:pt x="628" y="94"/>
                  </a:lnTo>
                  <a:lnTo>
                    <a:pt x="741" y="25"/>
                  </a:lnTo>
                  <a:lnTo>
                    <a:pt x="852" y="0"/>
                  </a:lnTo>
                  <a:lnTo>
                    <a:pt x="973" y="0"/>
                  </a:lnTo>
                  <a:lnTo>
                    <a:pt x="1085" y="25"/>
                  </a:lnTo>
                  <a:lnTo>
                    <a:pt x="1198" y="94"/>
                  </a:lnTo>
                  <a:lnTo>
                    <a:pt x="1292" y="178"/>
                  </a:lnTo>
                  <a:lnTo>
                    <a:pt x="1396" y="94"/>
                  </a:lnTo>
                  <a:lnTo>
                    <a:pt x="1499" y="25"/>
                  </a:lnTo>
                  <a:lnTo>
                    <a:pt x="1620" y="0"/>
                  </a:lnTo>
                  <a:lnTo>
                    <a:pt x="1732" y="0"/>
                  </a:lnTo>
                  <a:lnTo>
                    <a:pt x="1853" y="25"/>
                  </a:lnTo>
                  <a:lnTo>
                    <a:pt x="1956" y="94"/>
                  </a:lnTo>
                  <a:lnTo>
                    <a:pt x="2058" y="178"/>
                  </a:lnTo>
                  <a:lnTo>
                    <a:pt x="2137" y="297"/>
                  </a:lnTo>
                  <a:lnTo>
                    <a:pt x="2206" y="434"/>
                  </a:lnTo>
                  <a:lnTo>
                    <a:pt x="2283" y="418"/>
                  </a:lnTo>
                  <a:lnTo>
                    <a:pt x="2359" y="434"/>
                  </a:lnTo>
                  <a:lnTo>
                    <a:pt x="2438" y="478"/>
                  </a:lnTo>
                  <a:lnTo>
                    <a:pt x="2498" y="545"/>
                  </a:lnTo>
                  <a:lnTo>
                    <a:pt x="2549" y="631"/>
                  </a:lnTo>
                  <a:lnTo>
                    <a:pt x="2576" y="733"/>
                  </a:lnTo>
                  <a:lnTo>
                    <a:pt x="2584" y="844"/>
                  </a:lnTo>
                  <a:lnTo>
                    <a:pt x="2576" y="954"/>
                  </a:lnTo>
                  <a:lnTo>
                    <a:pt x="2549" y="1056"/>
                  </a:lnTo>
                  <a:lnTo>
                    <a:pt x="2498" y="1142"/>
                  </a:lnTo>
                  <a:lnTo>
                    <a:pt x="2438" y="1209"/>
                  </a:lnTo>
                  <a:lnTo>
                    <a:pt x="2359" y="1253"/>
                  </a:lnTo>
                  <a:lnTo>
                    <a:pt x="2283" y="1269"/>
                  </a:lnTo>
                  <a:lnTo>
                    <a:pt x="2206" y="1261"/>
                  </a:lnTo>
                  <a:lnTo>
                    <a:pt x="2137" y="1397"/>
                  </a:lnTo>
                  <a:lnTo>
                    <a:pt x="2058" y="1509"/>
                  </a:lnTo>
                  <a:lnTo>
                    <a:pt x="1956" y="1601"/>
                  </a:lnTo>
                  <a:lnTo>
                    <a:pt x="1853" y="1662"/>
                  </a:lnTo>
                  <a:lnTo>
                    <a:pt x="1732" y="1695"/>
                  </a:lnTo>
                  <a:lnTo>
                    <a:pt x="1620" y="1695"/>
                  </a:lnTo>
                  <a:lnTo>
                    <a:pt x="1499" y="1662"/>
                  </a:lnTo>
                  <a:lnTo>
                    <a:pt x="1396" y="1601"/>
                  </a:lnTo>
                  <a:lnTo>
                    <a:pt x="1292" y="1509"/>
                  </a:lnTo>
                  <a:lnTo>
                    <a:pt x="1198" y="1601"/>
                  </a:lnTo>
                  <a:lnTo>
                    <a:pt x="1085" y="1662"/>
                  </a:lnTo>
                  <a:lnTo>
                    <a:pt x="973" y="1695"/>
                  </a:lnTo>
                  <a:lnTo>
                    <a:pt x="852" y="1695"/>
                  </a:lnTo>
                  <a:lnTo>
                    <a:pt x="741" y="1662"/>
                  </a:lnTo>
                  <a:lnTo>
                    <a:pt x="628" y="1601"/>
                  </a:lnTo>
                  <a:lnTo>
                    <a:pt x="533" y="1509"/>
                  </a:lnTo>
                  <a:lnTo>
                    <a:pt x="447" y="1397"/>
                  </a:lnTo>
                  <a:lnTo>
                    <a:pt x="378" y="1261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227640" y="4543200"/>
              <a:ext cx="1957680" cy="1174680"/>
            </a:xfrm>
            <a:custGeom>
              <a:avLst/>
              <a:gdLst/>
              <a:ahLst/>
              <a:rect l="l" t="t" r="r" b="b"/>
              <a:pathLst>
                <a:path w="2584" h="1695">
                  <a:moveTo>
                    <a:pt x="378" y="1261"/>
                  </a:moveTo>
                  <a:lnTo>
                    <a:pt x="301" y="1269"/>
                  </a:lnTo>
                  <a:lnTo>
                    <a:pt x="224" y="1253"/>
                  </a:lnTo>
                  <a:lnTo>
                    <a:pt x="155" y="1209"/>
                  </a:lnTo>
                  <a:lnTo>
                    <a:pt x="86" y="1142"/>
                  </a:lnTo>
                  <a:lnTo>
                    <a:pt x="42" y="1056"/>
                  </a:lnTo>
                  <a:lnTo>
                    <a:pt x="7" y="954"/>
                  </a:lnTo>
                  <a:lnTo>
                    <a:pt x="0" y="844"/>
                  </a:lnTo>
                  <a:lnTo>
                    <a:pt x="7" y="733"/>
                  </a:lnTo>
                  <a:lnTo>
                    <a:pt x="42" y="631"/>
                  </a:lnTo>
                  <a:lnTo>
                    <a:pt x="86" y="545"/>
                  </a:lnTo>
                  <a:lnTo>
                    <a:pt x="155" y="478"/>
                  </a:lnTo>
                  <a:lnTo>
                    <a:pt x="224" y="434"/>
                  </a:lnTo>
                  <a:lnTo>
                    <a:pt x="301" y="418"/>
                  </a:lnTo>
                  <a:lnTo>
                    <a:pt x="378" y="434"/>
                  </a:lnTo>
                  <a:lnTo>
                    <a:pt x="447" y="297"/>
                  </a:lnTo>
                  <a:lnTo>
                    <a:pt x="533" y="178"/>
                  </a:lnTo>
                  <a:lnTo>
                    <a:pt x="628" y="94"/>
                  </a:lnTo>
                  <a:lnTo>
                    <a:pt x="741" y="25"/>
                  </a:lnTo>
                  <a:lnTo>
                    <a:pt x="852" y="0"/>
                  </a:lnTo>
                  <a:lnTo>
                    <a:pt x="973" y="0"/>
                  </a:lnTo>
                  <a:lnTo>
                    <a:pt x="1085" y="25"/>
                  </a:lnTo>
                  <a:lnTo>
                    <a:pt x="1198" y="94"/>
                  </a:lnTo>
                  <a:lnTo>
                    <a:pt x="1292" y="178"/>
                  </a:lnTo>
                  <a:lnTo>
                    <a:pt x="1396" y="94"/>
                  </a:lnTo>
                  <a:lnTo>
                    <a:pt x="1499" y="25"/>
                  </a:lnTo>
                  <a:lnTo>
                    <a:pt x="1620" y="0"/>
                  </a:lnTo>
                  <a:lnTo>
                    <a:pt x="1732" y="0"/>
                  </a:lnTo>
                  <a:lnTo>
                    <a:pt x="1853" y="25"/>
                  </a:lnTo>
                  <a:lnTo>
                    <a:pt x="1956" y="94"/>
                  </a:lnTo>
                  <a:lnTo>
                    <a:pt x="2058" y="178"/>
                  </a:lnTo>
                  <a:lnTo>
                    <a:pt x="2137" y="297"/>
                  </a:lnTo>
                  <a:lnTo>
                    <a:pt x="2206" y="434"/>
                  </a:lnTo>
                  <a:lnTo>
                    <a:pt x="2283" y="418"/>
                  </a:lnTo>
                  <a:lnTo>
                    <a:pt x="2359" y="434"/>
                  </a:lnTo>
                  <a:lnTo>
                    <a:pt x="2438" y="478"/>
                  </a:lnTo>
                  <a:lnTo>
                    <a:pt x="2498" y="545"/>
                  </a:lnTo>
                  <a:lnTo>
                    <a:pt x="2549" y="631"/>
                  </a:lnTo>
                  <a:lnTo>
                    <a:pt x="2576" y="733"/>
                  </a:lnTo>
                  <a:lnTo>
                    <a:pt x="2584" y="844"/>
                  </a:lnTo>
                  <a:lnTo>
                    <a:pt x="2576" y="954"/>
                  </a:lnTo>
                  <a:lnTo>
                    <a:pt x="2549" y="1056"/>
                  </a:lnTo>
                  <a:lnTo>
                    <a:pt x="2498" y="1142"/>
                  </a:lnTo>
                  <a:lnTo>
                    <a:pt x="2438" y="1209"/>
                  </a:lnTo>
                  <a:lnTo>
                    <a:pt x="2359" y="1253"/>
                  </a:lnTo>
                  <a:lnTo>
                    <a:pt x="2283" y="1269"/>
                  </a:lnTo>
                  <a:lnTo>
                    <a:pt x="2206" y="1261"/>
                  </a:lnTo>
                  <a:lnTo>
                    <a:pt x="2137" y="1397"/>
                  </a:lnTo>
                  <a:lnTo>
                    <a:pt x="2058" y="1509"/>
                  </a:lnTo>
                  <a:lnTo>
                    <a:pt x="1956" y="1601"/>
                  </a:lnTo>
                  <a:lnTo>
                    <a:pt x="1853" y="1662"/>
                  </a:lnTo>
                  <a:lnTo>
                    <a:pt x="1732" y="1695"/>
                  </a:lnTo>
                  <a:lnTo>
                    <a:pt x="1620" y="1695"/>
                  </a:lnTo>
                  <a:lnTo>
                    <a:pt x="1499" y="1662"/>
                  </a:lnTo>
                  <a:lnTo>
                    <a:pt x="1396" y="1601"/>
                  </a:lnTo>
                  <a:lnTo>
                    <a:pt x="1292" y="1509"/>
                  </a:lnTo>
                  <a:lnTo>
                    <a:pt x="1198" y="1601"/>
                  </a:lnTo>
                  <a:lnTo>
                    <a:pt x="1085" y="1662"/>
                  </a:lnTo>
                  <a:lnTo>
                    <a:pt x="973" y="1695"/>
                  </a:lnTo>
                  <a:lnTo>
                    <a:pt x="852" y="1695"/>
                  </a:lnTo>
                  <a:lnTo>
                    <a:pt x="741" y="1662"/>
                  </a:lnTo>
                  <a:lnTo>
                    <a:pt x="628" y="1601"/>
                  </a:lnTo>
                  <a:lnTo>
                    <a:pt x="533" y="1509"/>
                  </a:lnTo>
                  <a:lnTo>
                    <a:pt x="447" y="1397"/>
                  </a:lnTo>
                  <a:lnTo>
                    <a:pt x="378" y="126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771240" y="490356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735600" y="5102280"/>
              <a:ext cx="107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Orient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373640" y="5462640"/>
              <a:ext cx="1558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Other concep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98880" y="5173560"/>
              <a:ext cx="1169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Inform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239920" y="5389560"/>
              <a:ext cx="1384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Competenc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19280" y="358920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 </a:t>
              </a:r>
              <a:r>
                <a:rPr b="1" lang="es-ES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91640" y="3819600"/>
              <a:ext cx="79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600" spc="-1" strike="noStrike">
                  <a:solidFill>
                    <a:srgbClr val="993300"/>
                  </a:solidFill>
                  <a:latin typeface="Arial"/>
                  <a:ea typeface="Arial"/>
                </a:rPr>
                <a:t>Train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81200" y="4334400"/>
              <a:ext cx="2965680" cy="2715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64" y="6341"/>
                  </a:moveTo>
                  <a:arcTo wR="10800" hR="10800" stAng="-9336818" swAng="2394220"/>
                  <a:lnTo>
                    <a:pt x="10800" y="10800"/>
                  </a:lnTo>
                  <a:close/>
                </a:path>
                <a:path fill="none" w="21600" h="21600">
                  <a:moveTo>
                    <a:pt x="964" y="6341"/>
                  </a:moveTo>
                  <a:arcTo wR="10800" hR="10800" stAng="-9336818" swAng="2394220"/>
                </a:path>
              </a:pathLst>
            </a:custGeom>
            <a:noFill/>
            <a:ln w="270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260960" y="4419360"/>
              <a:ext cx="147600" cy="101520"/>
            </a:xfrm>
            <a:custGeom>
              <a:avLst/>
              <a:gdLst/>
              <a:ahLst/>
              <a:rect l="l" t="t" r="r" b="b"/>
              <a:pathLst>
                <a:path w="194" h="146">
                  <a:moveTo>
                    <a:pt x="194" y="2"/>
                  </a:moveTo>
                  <a:lnTo>
                    <a:pt x="64" y="146"/>
                  </a:lnTo>
                  <a:lnTo>
                    <a:pt x="0" y="0"/>
                  </a:lnTo>
                  <a:lnTo>
                    <a:pt x="1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807080" y="3975120"/>
              <a:ext cx="1288440" cy="117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391" y="20148"/>
                  </a:moveTo>
                  <a:arcTo wR="10800" hR="10800" stAng="7203392" swAng="4251839"/>
                  <a:lnTo>
                    <a:pt x="10800" y="10800"/>
                  </a:lnTo>
                  <a:close/>
                </a:path>
                <a:path fill="none" w="21600" h="21600">
                  <a:moveTo>
                    <a:pt x="5391" y="20148"/>
                  </a:moveTo>
                  <a:arcTo wR="10800" hR="10800" stAng="7203392" swAng="4251839"/>
                </a:path>
              </a:pathLst>
            </a:custGeom>
            <a:noFill/>
            <a:ln w="270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40120" y="4362480"/>
              <a:ext cx="113040" cy="132840"/>
            </a:xfrm>
            <a:custGeom>
              <a:avLst/>
              <a:gdLst/>
              <a:ahLst/>
              <a:rect l="l" t="t" r="r" b="b"/>
              <a:pathLst>
                <a:path w="154" h="192">
                  <a:moveTo>
                    <a:pt x="125" y="0"/>
                  </a:moveTo>
                  <a:lnTo>
                    <a:pt x="154" y="192"/>
                  </a:lnTo>
                  <a:lnTo>
                    <a:pt x="0" y="15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711680" y="1926000"/>
              <a:ext cx="3149280" cy="287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564" y="21455"/>
                  </a:moveTo>
                  <a:arcTo wR="10800" hR="10800" stAng="4836039" swAng="28142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2564" y="21455"/>
                  </a:moveTo>
                  <a:arcTo wR="10800" hR="10800" stAng="4836039" swAng="2814271"/>
                </a:path>
              </a:pathLst>
            </a:custGeom>
            <a:noFill/>
            <a:ln w="270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245200" y="4457520"/>
              <a:ext cx="142920" cy="120240"/>
            </a:xfrm>
            <a:custGeom>
              <a:avLst/>
              <a:gdLst/>
              <a:ahLst/>
              <a:rect l="l" t="t" r="r" b="b"/>
              <a:pathLst>
                <a:path w="188" h="174">
                  <a:moveTo>
                    <a:pt x="0" y="0"/>
                  </a:moveTo>
                  <a:lnTo>
                    <a:pt x="188" y="49"/>
                  </a:lnTo>
                  <a:lnTo>
                    <a:pt x="85" y="17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1600" y="57657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9933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8F91-BF7F-48D8-ABCE-35E0005EC1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43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Skill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76320" y="1521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apability to do something; presumably with increasing ability (P. Attewell, 1990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Evocates an image of experience, mastery and excellence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t is the ability to demonstrate a systematic and sequential behavior that is functionally related to attain a goal (R. Boyatzis, 1982)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815-68EB-4310-9AC2-6416D0C77D4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35120" y="188640"/>
            <a:ext cx="8229600" cy="79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Competenc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920" y="1558440"/>
            <a:ext cx="77724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 a certain skill, it is related to how well the actions are performed and put together to attain the go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t of mutually related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AD4-E7C3-4FE3-BDAB-02591384F4E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06400" y="184320"/>
            <a:ext cx="8229600" cy="1157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00"/>
                </a:solidFill>
                <a:latin typeface="Arial"/>
                <a:ea typeface="Times New Roman"/>
              </a:rPr>
              <a:t>What is Information? </a:t>
            </a:r>
            <a:endParaRPr b="0" lang="en-US" sz="45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58560" y="1456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Encapsulated knowledg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Packaged human experien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source that can provide a myriad of dat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resource that takes different formats, packaging, transfer media, and varied methods of delive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eople: family, friends, tutors, fellow stud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78880" indent="-578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stitutions, i.e., national health service professionals or help facil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C3D4-9D4E-4A21-821E-59A7E3B504D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64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The Need for Effective Use of Information</a:t>
            </a:r>
            <a:r>
              <a:rPr b="1" lang="es-E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02920" y="134100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vital element for creativity and innov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basic resource for learning and human though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key resource in creating more knowledgeable citize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 factor that enables citizens to achieve better results in their academic lives, with regard to health, and at 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0520" indent="-5605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0000"/>
                </a:solidFill>
                <a:latin typeface="Arial"/>
              </a:rPr>
              <a:t>An important resource for national socio-economic develop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1CB-B2A5-4E57-A4C2-3D7FE5434F8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560" y="19800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en-US" sz="45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</a:t>
            </a:r>
            <a:r>
              <a:rPr b="1" lang="es-ES" sz="45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5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5" name=""/>
          <p:cNvSpPr/>
          <p:nvPr/>
        </p:nvSpPr>
        <p:spPr>
          <a:xfrm>
            <a:off x="2627280" y="3860640"/>
            <a:ext cx="4897440" cy="165600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70560" y="2852640"/>
            <a:ext cx="2376720" cy="65088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427640" y="2852640"/>
            <a:ext cx="1439640" cy="64764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58920" y="2852640"/>
            <a:ext cx="2879640" cy="65088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075280" y="2421000"/>
            <a:ext cx="0" cy="22536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411280" y="2637000"/>
            <a:ext cx="0" cy="19044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5280" y="2637000"/>
            <a:ext cx="0" cy="19044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38920" y="2651040"/>
            <a:ext cx="0" cy="19044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2637000"/>
            <a:ext cx="2654280" cy="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81760" y="2651040"/>
            <a:ext cx="2652480" cy="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357560" y="3021120"/>
            <a:ext cx="273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Encapsulated knowled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76720" y="3500280"/>
            <a:ext cx="0" cy="347760"/>
          </a:xfrm>
          <a:prstGeom prst="line">
            <a:avLst/>
          </a:prstGeom>
          <a:ln w="316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98120" y="4019400"/>
            <a:ext cx="1335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Informati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89160" y="4451400"/>
            <a:ext cx="2820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Different  type of source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51720" y="4956120"/>
            <a:ext cx="4345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Recording  formats,  and delivery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859640" y="3052800"/>
            <a:ext cx="494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553800" y="3021120"/>
            <a:ext cx="203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Human exper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778200" y="1700280"/>
            <a:ext cx="2592360" cy="65088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395960" y="1887480"/>
            <a:ext cx="132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993300"/>
                </a:solidFill>
                <a:latin typeface="Arial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2F4-09D1-4F41-905F-9E76F57834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64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Other “Literacy” Concepts - Computer</a:t>
            </a:r>
            <a:endParaRPr b="0" lang="en-US" sz="32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04560" y="162828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Computer Literacy. The knowledge and skills necessary to understand information and communication technologies (ICTs)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cluding the hardware, the software, systems, networks (both local area networks and the Internet), and all of the other components of computer and telecommunications system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5D08-F338-4441-87A2-F55552EFB8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1912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Media Literacy</a:t>
            </a:r>
            <a:endParaRPr b="0" lang="en-US" sz="3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31640" y="14839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 knowledge and skills necessary to understand all of the mediums and formats in which data, information and knowledge are created, stored, communicated, and presented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544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54400" indent="-55440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.e., print newspapers and journals, magazines, radio, television broadcasts, cable, CD-ROM, DVD, mobile telephones, PDF text formats, and JPEG format for photos and graph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4F85-9757-4041-B126-9E336C730A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198000"/>
            <a:ext cx="8229600" cy="854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Competencies</a:t>
            </a:r>
            <a:r>
              <a:rPr b="1" lang="es-E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80880" y="134100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Prospect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1160" indent="-490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The ability to locate relevant information, to sift it, to sort it, and to select i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1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Interpret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1160" indent="-490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The ability to translate the data and information into knowledge, insight, and understanding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9111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560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0000"/>
                </a:solidFill>
                <a:latin typeface="Arial"/>
              </a:rPr>
              <a:t>Creating new idea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1160" indent="-49068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cc0000"/>
                </a:solidFill>
                <a:latin typeface="Arial"/>
              </a:rPr>
              <a:t>Developing new insights”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1D22-84B1-4E78-AE76-0E8F093506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861840" y="0"/>
            <a:ext cx="8281800" cy="1582560"/>
            <a:chOff x="861840" y="0"/>
            <a:chExt cx="8281800" cy="1582560"/>
          </a:xfrm>
        </p:grpSpPr>
        <p:sp>
          <p:nvSpPr>
            <p:cNvPr id="151" name=""/>
            <p:cNvSpPr/>
            <p:nvPr/>
          </p:nvSpPr>
          <p:spPr>
            <a:xfrm>
              <a:off x="861840" y="0"/>
              <a:ext cx="8281800" cy="1582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37800" y="120240"/>
              <a:ext cx="7993080" cy="1439640"/>
            </a:xfrm>
            <a:prstGeom prst="roundRect">
              <a:avLst>
                <a:gd name="adj" fmla="val 16667"/>
              </a:avLst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964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Literacy</a:t>
            </a:r>
            <a:r>
              <a:rPr b="1" lang="es-ES" sz="3300" spc="-1" strike="noStrike">
                <a:solidFill>
                  <a:srgbClr val="cc0000"/>
                </a:solidFill>
                <a:latin typeface="Arial"/>
                <a:ea typeface="Times New Roman"/>
              </a:rPr>
              <a:t> – </a:t>
            </a:r>
            <a:br>
              <a:rPr sz="3300"/>
            </a:br>
            <a:r>
              <a:rPr b="1" lang="es-ES" sz="3300" spc="-1" strike="noStrike">
                <a:solidFill>
                  <a:srgbClr val="cc0000"/>
                </a:solidFill>
                <a:latin typeface="Arial"/>
                <a:ea typeface="Times New Roman"/>
              </a:rPr>
              <a:t>Related Terms</a:t>
            </a:r>
            <a:endParaRPr b="0" lang="en-US" sz="33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6920" y="1961640"/>
            <a:ext cx="7688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formation fluency – Capability or mastering of information competenc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User education – Global approach to teach information access to us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ibrary instruction – Focuses on library skill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Bibliographic instruction – User training on information search and retrieva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BFE-858F-4762-8971-270A682B80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3333cc"/>
                </a:solidFill>
                <a:latin typeface="Gill Sans MT"/>
              </a:rPr>
              <a:t>Information Literacy – Related Terms (2)</a:t>
            </a:r>
            <a:endParaRPr b="0" lang="en-US" sz="32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Information competencies – Compound skills and goals of information literacy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cc0000"/>
                </a:solidFill>
                <a:latin typeface="Arial"/>
              </a:rPr>
              <a:t>Information skills – Focuses on information abilities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cc0000"/>
              </a:buClr>
              <a:buFont typeface="Verdana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Arial"/>
              </a:rPr>
              <a:t>Development of information skills – Process of facilitating information skills</a:t>
            </a: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521-C03A-4A92-B70A-C40A7A8AAD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8:24:09Z</dcterms:modified>
  <cp:revision>172</cp:revision>
  <dc:subject/>
  <dc:title>Presentación de PowerPoint</dc:title>
</cp:coreProperties>
</file>