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4BF-ADE9-4BD9-B168-3612145E6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95E4-6AAD-4068-87F1-E92ED792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A84-C7E6-4DC9-8CDF-C03C4446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C783-EE3F-4263-A87A-DF64EA3EC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F474-DC55-4C19-8628-78881F78E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21E5C-041A-4E80-9354-A8BADC84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43CEC-2312-420A-AF21-EF718D0C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3C08-D982-4AE2-B4C4-D9C97CEE9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E3358-01EA-4307-A227-B6F6D558F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924E-0836-4627-A3E9-A17B9C54B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53AC7-DDF0-4081-AC03-A0ECA3C5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BD86-D024-4FF7-92C1-78108B174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1DCD4-9FA8-4125-A0C9-B211A7E4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44DB-A4FF-4C7D-BEDC-20807BE23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87C9-C99A-4065-8AA4-2A028A92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440F-ED17-4088-9EF0-03FB5B05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39C52-196C-417A-959E-D065BE6F5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9A07-27B0-49C6-BB55-D8E1E8EA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858E-2082-4D89-8002-27E8278AB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6397-DB22-4A91-9B96-86A47249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E257-E527-4E23-A4F2-C6B6CBA2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E7AB-3C1C-4D34-A59B-3081A990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4C7D-9E52-47DA-8713-FD3511F1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8E21-9BA8-4499-B225-60821A10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AE03-539A-4FA0-A2ED-9A5224DA4202}" type="slidenum">
              <a:rPr b="1" lang="es-E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440" y="0"/>
            <a:ext cx="914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0" y="1125000"/>
            <a:ext cx="9144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0739-247D-4652-9E0F-A8ACD627E105}" type="slidenum">
              <a:rPr b="1" lang="es-E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jesuslau.com/" TargetMode="External"/><Relationship Id="rId3" Type="http://schemas.openxmlformats.org/officeDocument/2006/relationships/hyperlink" Target="http://www.uv.mx/usbi_ver" TargetMode="External"/><Relationship Id="rId4" Type="http://schemas.openxmlformats.org/officeDocument/2006/relationships/hyperlink" Target="http://www.uv.mx/usbi_ver" TargetMode="External"/><Relationship Id="rId5" Type="http://schemas.openxmlformats.org/officeDocument/2006/relationships/hyperlink" Target="http://www.uv.mx/usbi_ver" TargetMode="External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16000" y="620640"/>
            <a:ext cx="7777080" cy="5904000"/>
          </a:xfrm>
          <a:prstGeom prst="roundRect">
            <a:avLst>
              <a:gd name="adj" fmla="val 6130"/>
            </a:avLst>
          </a:prstGeom>
          <a:blipFill rotWithShape="0">
            <a:blip r:embed="rId1">
              <a:alphaModFix amt="48000"/>
            </a:blip>
            <a:srcRect/>
            <a:tile tx="0" ty="0" sx="100000" sy="100000" algn="ctr"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16000" y="1341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How to Create an Institutional Infolit Program</a:t>
            </a:r>
            <a:br>
              <a:rPr sz="2000"/>
            </a:b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( Based on the IFLA Information Literacy Guidelines)</a:t>
            </a:r>
            <a:br>
              <a:rPr sz="2800"/>
            </a:br>
            <a:br>
              <a:rPr sz="3200"/>
            </a:br>
            <a:r>
              <a:rPr b="0" lang="es-MX" sz="4000" spc="-1" strike="noStrike" u="sng">
                <a:solidFill>
                  <a:srgbClr val="cc0000"/>
                </a:solidFill>
                <a:uFillTx/>
                <a:latin typeface="Arial"/>
              </a:rPr>
              <a:t>7. Personnel Development</a:t>
            </a:r>
            <a:endParaRPr b="0" lang="en-US" sz="40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835280" y="393372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ill Sans MT"/>
              </a:rPr>
              <a:t>Jesús Lau, Ph.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Gill Sans MT"/>
                <a:hlinkClick r:id="rId2"/>
              </a:rPr>
              <a:t>www.jesuslau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Director, USBI Veracruz  Library, an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UV Virtual Library Coordinat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Veracruz, Méxic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cc0000"/>
                </a:solidFill>
                <a:uFillTx/>
                <a:latin typeface="Gill Sans MT"/>
                <a:hlinkClick r:id="rId3"/>
              </a:rPr>
              <a:t>www.uv.mx</a:t>
            </a:r>
            <a:r>
              <a:rPr b="0" lang="es-MX" sz="1800" spc="-1" strike="noStrike" u="sng">
                <a:solidFill>
                  <a:srgbClr val="cc0000"/>
                </a:solidFill>
                <a:uFillTx/>
                <a:latin typeface="Gill Sans MT"/>
                <a:hlinkClick r:id="rId4"/>
              </a:rPr>
              <a:t>/</a:t>
            </a:r>
            <a:r>
              <a:rPr b="0" lang="es-MX" sz="1800" spc="-1" strike="noStrike" u="sng">
                <a:solidFill>
                  <a:srgbClr val="cc0000"/>
                </a:solidFill>
                <a:uFillTx/>
                <a:latin typeface="Gill Sans MT"/>
                <a:hlinkClick r:id="rId5"/>
              </a:rPr>
              <a:t>usbi_v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Gill Sans MT"/>
              </a:rPr>
              <a:t>www.uv.mx/bvirtu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3761-E98C-408E-A542-05517B8D85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Learning Strategie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2022120"/>
            <a:ext cx="75438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Ways to learn by do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Exercis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Hands-on experienc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-60336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Active learn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3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A033-8061-48E9-85AA-F6807A10A7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63000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8496" dir="3825519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Strategies needed to comply with pedagogical adopted method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03280" y="1700280"/>
            <a:ext cx="3697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403280" y="2421000"/>
          <a:ext cx="7272360" cy="2952360"/>
        </p:xfrm>
        <a:graphic>
          <a:graphicData uri="http://schemas.openxmlformats.org/drawingml/2006/table">
            <a:tbl>
              <a:tblPr/>
              <a:tblGrid>
                <a:gridCol w="3673440"/>
                <a:gridCol w="3598920"/>
              </a:tblGrid>
              <a:tr h="295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Coope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Collabor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Eval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Inquis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Observ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cc0000"/>
                      </a:solidFill>
                    </a:lnL>
                    <a:lnR w="576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Researc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roblem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Projec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Reflective/Thoughfu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Resource-bas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cc0000"/>
                      </a:solidFill>
                    </a:lnL>
                    <a:lnR w="18720">
                      <a:solidFill>
                        <a:srgbClr val="cc0000"/>
                      </a:solidFill>
                    </a:lnR>
                    <a:lnT w="18720">
                      <a:solidFill>
                        <a:srgbClr val="cc0000"/>
                      </a:solidFill>
                    </a:lnT>
                    <a:lnB w="18720">
                      <a:solidFill>
                        <a:srgbClr val="cc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09FE-49BD-4D16-A068-A6171130269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92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Course Design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00"/>
                </a:solidFill>
                <a:latin typeface="Arial"/>
              </a:rPr>
              <a:t>Offer different strateg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00"/>
                </a:solidFill>
                <a:latin typeface="Arial"/>
              </a:rPr>
              <a:t>Learned appreciates diversit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00"/>
                </a:solidFill>
                <a:latin typeface="Arial"/>
              </a:rPr>
              <a:t>Focus on competencies development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00"/>
                </a:solidFill>
                <a:latin typeface="Arial"/>
              </a:rPr>
              <a:t>Write them cl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0000"/>
                </a:solidFill>
                <a:latin typeface="Arial"/>
              </a:rPr>
              <a:t>Focus exercise on real significance to stud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17C09-457A-420B-9098-7D65EDBC6A0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640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Exercise Component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Arial"/>
              </a:rPr>
              <a:t>General information: Department, course, facilitator name, date, etc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Arial"/>
              </a:rPr>
              <a:t>Student inform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Arial"/>
              </a:rPr>
              <a:t>Title of exerc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Arial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Arial"/>
              </a:rPr>
              <a:t>Instructions on how to do 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cc0000"/>
                </a:solidFill>
                <a:latin typeface="Arial"/>
              </a:rPr>
              <a:t>Create a standard identity to exercices´ for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F2E79-AE70-4841-B777-29C771A94E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0000"/>
                </a:solidFill>
                <a:latin typeface="Arial"/>
              </a:rPr>
              <a:t>Institutional Training</a:t>
            </a:r>
            <a:r>
              <a:rPr b="0" lang="es-ES" sz="4400" spc="-1" strike="noStrike">
                <a:solidFill>
                  <a:srgbClr val="3333cc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omprehensive training program for whole library team, including the staff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The program can be divided into separate sessions for basic, medium and advanced trai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Suggested timeframe for workshops and courses that take place over more than one year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1550-31BC-46B6-919C-AC1F72A8E3B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edagogical Component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The pedagogical component of the program should include topics on how to create a course, instructional design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assessment and evaluation, class communication, conflict and group management, among other basic teaching skill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5CC5-EBF0-4CD2-83CA-92C628E5C4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Technological Component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02920" y="206064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The technological training should include courses on office software, course management, 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web software design, and equipment managemen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CE56-EAB6-43E0-A25F-20C2FFFF77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0000"/>
                </a:solidFill>
                <a:latin typeface="Arial"/>
              </a:rPr>
              <a:t>Self-Management Component</a:t>
            </a:r>
            <a:endParaRPr b="0" lang="en-US" sz="40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989000"/>
            <a:ext cx="75438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Under self-management, the program must include time management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planning, motivational workshops, and general management</a:t>
            </a:r>
            <a:r>
              <a:rPr b="0" lang="es-E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895DC-248E-4CB3-A427-EA9AA1D722A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700" spc="-1" strike="noStrike">
                <a:solidFill>
                  <a:srgbClr val="cc0000"/>
                </a:solidFill>
                <a:latin typeface="Arial"/>
              </a:rPr>
              <a:t>Information-Related Competencies</a:t>
            </a:r>
            <a:r>
              <a:rPr b="0" lang="es-ES" sz="4400" spc="-1" strike="noStrike">
                <a:solidFill>
                  <a:srgbClr val="3333cc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The information-related training should make librarians proficient in the tools and information resources available in the library as well as on the Internet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</a:rPr>
              <a:t>including search engines, databases, and electronic publications, among other information content available within or outside of the library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751BA-43CD-41B9-9879-18E2ACBA8D3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1692360" y="1628640"/>
            <a:ext cx="6553080" cy="4653000"/>
            <a:chOff x="1692360" y="1628640"/>
            <a:chExt cx="6553080" cy="4653000"/>
          </a:xfrm>
        </p:grpSpPr>
        <p:sp>
          <p:nvSpPr>
            <p:cNvPr id="147" name=""/>
            <p:cNvSpPr/>
            <p:nvPr/>
          </p:nvSpPr>
          <p:spPr>
            <a:xfrm>
              <a:off x="2167200" y="1628640"/>
              <a:ext cx="5698080" cy="84564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Be responsible for your own learni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541760" y="2558880"/>
              <a:ext cx="853920" cy="59256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057480" y="3214800"/>
              <a:ext cx="4083840" cy="76140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Develop/Reinforc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Competenci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92360" y="4335840"/>
              <a:ext cx="2944440" cy="76140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edagogical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1000" y="4335840"/>
              <a:ext cx="2944440" cy="76140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Technological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92360" y="5520240"/>
              <a:ext cx="2944440" cy="76140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Self-Management</a:t>
              </a:r>
              <a:r>
                <a:rPr b="1" lang="es-ES" sz="16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01000" y="5520240"/>
              <a:ext cx="2944440" cy="76140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4140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  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Information Skills</a:t>
              </a:r>
              <a:r>
                <a:rPr b="1" lang="es-ES" sz="1600" spc="-1" strike="noStrike">
                  <a:solidFill>
                    <a:srgbClr val="cc0000"/>
                  </a:solidFill>
                  <a:latin typeface="Arial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495960" y="3997800"/>
              <a:ext cx="855000" cy="253800"/>
            </a:xfrm>
            <a:prstGeom prst="line">
              <a:avLst/>
            </a:prstGeom>
            <a:ln w="4140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789160" y="3958200"/>
              <a:ext cx="827640" cy="332280"/>
            </a:xfrm>
            <a:prstGeom prst="line">
              <a:avLst/>
            </a:prstGeom>
            <a:ln w="4140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636800" y="3997800"/>
              <a:ext cx="285120" cy="1437840"/>
            </a:xfrm>
            <a:prstGeom prst="line">
              <a:avLst/>
            </a:prstGeom>
            <a:ln w="4140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015880" y="3997800"/>
              <a:ext cx="285120" cy="1437840"/>
            </a:xfrm>
            <a:prstGeom prst="line">
              <a:avLst/>
            </a:prstGeom>
            <a:ln w="41400">
              <a:solidFill>
                <a:srgbClr val="99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65520" rIns="6552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195640" y="333360"/>
            <a:ext cx="5905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ersonnel Development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4FA4A-68DB-4A40-8A14-E2A17A982F3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064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  <a:ea typeface="Times New Roman"/>
              </a:rPr>
              <a:t>Instructional Librarian Role </a:t>
            </a:r>
            <a:endParaRPr b="0" lang="en-US" sz="40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6920" y="1341360"/>
            <a:ext cx="75438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Take the new roles as knowledge and instructional facilitat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ovide essential expertise o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a) Accessing information,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b) Selecting information resources, and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0000"/>
              </a:lnSpc>
              <a:spcBef>
                <a:spcPts val="4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c) Facilitating the use of information in the learning process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(Kuhltahu, as cited in Stripling, 1999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Learn and teach new information formats (linear and non-linea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Facilitate non-traditional or constantly changing points of access as information media and resources evol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C06A-7375-410E-9E2E-BA610E333A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Librarians´ Self-Growth </a:t>
            </a:r>
            <a:endParaRPr b="0" lang="en-US" sz="36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31640" y="1557000"/>
            <a:ext cx="754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Develop your own information literacy ski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Develop the ability to facilitate learning and to teach critical thinking and inqui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Be responsible for your own learning, and their own technological ski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Receive constant library training, a crucial form of learning new skills and concep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articipate in professional organizations, attend conferences, and purchase technical litera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llow adequate time for opportunities to collaborate with peers, have/give ongoing support, and offer/receive task-related curriculum ad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49F0-DF8E-484F-8664-001456A7E9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39152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nfoLit Staff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8320" y="1773000"/>
            <a:ext cx="838224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corporate librarians, managers, program coordinators, graphic designers, teaching-learning specialists and professors from different disciplines, and other types of professionals as necessar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ncourage this personnel to serve as models, as an example promoting IL and lifelong learnin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ave enough people, in number and skills, for promoting the program 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velop experience in teaching/learning and student performance assessm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734C0-4EE8-46E0-A9FE-9AA117E77A47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700" spc="-1" strike="noStrike">
                <a:solidFill>
                  <a:srgbClr val="cc0000"/>
                </a:solidFill>
                <a:latin typeface="Arial"/>
              </a:rPr>
              <a:t>Infolit Staff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Train in curricular planning to create, coordinate, implement, maintain and assess IL progra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Encourage teamwork, have them work with other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Foster active professional development in a systematic and continuous manner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8.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Request regular evaluations about the quality of their contributions to the program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6A646-51C1-4F4A-9202-932842BC61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7920" y="75960"/>
            <a:ext cx="726120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Types of Instruction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omplex research consul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ersonalized instru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inted or electronic instruction materia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ocal instruction in traditional or electronic classroo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EB708-A61B-4C16-8BAD-2310A75003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Gill Sans MT"/>
              </a:rPr>
              <a:t>Types of Instruction (2)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Web-based tutorials and web-based instruction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Asynchronous instruction (newsletters, e-mail, forums)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Arial"/>
              <a:buAutoNum type="arabicPeriod" startAt="8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Synchronous instruction (chat, videoconference)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9.</a:t>
            </a: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Course management software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7830-2F4A-4BC7-9D0D-6AE0897847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8001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Font typeface="Arial"/>
              <a:buAutoNum type="arabicPeriod" startAt="10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Arial"/>
              </a:rPr>
              <a:t>Distributed learning, distance learning or hybrid, using combinations of this method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Font typeface="Arial"/>
              <a:buAutoNum type="arabi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Arial"/>
              </a:rPr>
              <a:t>Program structure 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Font typeface="Arial"/>
              <a:buAutoNum type="arabicPeriod" startAt="11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Arial"/>
              </a:rPr>
              <a:t>Seminars for freshmen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Font typeface="Arial"/>
              <a:buAutoNum type="arabicPeriod" startAt="1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Arial"/>
              </a:rPr>
              <a:t>General curricular course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Types of Instruction (3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1B84-4CFF-4EE9-A43E-9888F87B9D0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700" spc="-1" strike="noStrike">
                <a:solidFill>
                  <a:srgbClr val="cc0000"/>
                </a:solidFill>
                <a:latin typeface="Arial"/>
              </a:rPr>
              <a:t>Types of Instruction (4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Font typeface="Arial"/>
              <a:buAutoNum type="arabicPeriod" startAt="1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Research methods in different discipline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Font typeface="Arial"/>
              <a:buAutoNum type="arabicPeriod" startAt="1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Short courses on learning communities and alike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Font typeface="Arial"/>
              <a:buAutoNum type="arabicPeriod" startAt="1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Research experiences and student essay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624"/>
              </a:spcBef>
              <a:buClr>
                <a:srgbClr val="cc0000"/>
              </a:buClr>
              <a:buFont typeface="Arial"/>
              <a:buAutoNum type="arabicPeriod" startAt="1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Credit course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18.</a:t>
            </a: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cc0000"/>
                </a:solidFill>
                <a:latin typeface="Arial"/>
              </a:rPr>
              <a:t>Courses based on learning or service experiences</a:t>
            </a: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9C61B-6266-403E-AE71-588982A7C6D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7:36:22Z</dcterms:created>
  <dc:creator>guardar</dc:creator>
  <dc:description/>
  <dc:language>en-US</dc:language>
  <cp:lastModifiedBy>Prácticas BiV / USBI VER</cp:lastModifiedBy>
  <dcterms:modified xsi:type="dcterms:W3CDTF">2007-11-29T19:05:14Z</dcterms:modified>
  <cp:revision>172</cp:revision>
  <dc:subject/>
  <dc:title>Presentación de PowerPoint</dc:title>
</cp:coreProperties>
</file>