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7EF0-DB45-4F02-87D1-2B7000BE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7C3B-1249-473B-BB96-45F085CA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EBAE-3F7A-4456-9659-644066938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BF2A-B5D3-4B25-A2CB-0521B7943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F088-547F-48E7-91A3-30A262C3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161FD-567A-4E02-995C-4459E4AB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6CD1C-CB50-4FE3-8D4A-271FE78A2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34AD3-7FEF-43D8-B8BB-3F446231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9137C-8C05-4953-B763-FA7126B66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8F4E2-50F6-47C9-9F65-921C13F95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0DC4-92DD-48B2-8418-71AEC7DF7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B048-09E6-44B9-8A93-0966BA18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88B2-FDF2-469A-804F-D65D97EDE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B6969-D2A7-4F83-BC7D-8A6355F4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56CB-8B3F-476D-A952-6397D9585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EBA8A-DF59-46C5-B349-1F97EA6A7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95352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04480" y="170028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4029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95352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04480" y="4008600"/>
            <a:ext cx="242892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352E-45C7-4761-8C79-881657FF9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0C6D-1749-44A2-8A84-A7F34EB88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A103-12B7-470F-A471-ACC397C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1353-05C8-439A-9A7A-4FBC85C8F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01F2-97AA-495D-81D3-274FD3C9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E7AC-9661-4BA1-A12A-1BF65767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268600" y="400860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B396-7D07-4767-9274-CF61983D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68600" y="1700280"/>
            <a:ext cx="3681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008600"/>
            <a:ext cx="75438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AC40-5839-42E1-AEF1-AE2B555E6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89120" y="142920"/>
            <a:ext cx="8316720" cy="6626160"/>
          </a:xfrm>
          <a:prstGeom prst="rect">
            <a:avLst/>
          </a:prstGeom>
          <a:blipFill rotWithShape="0">
            <a:blip r:embed="rId2"/>
            <a:srcRect/>
            <a:stretch/>
          </a:blip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5440" cy="6858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44360" y="115920"/>
            <a:ext cx="8964720" cy="404640"/>
          </a:xfrm>
          <a:prstGeom prst="rect">
            <a:avLst/>
          </a:prstGeom>
          <a:gradFill rotWithShape="0">
            <a:gsLst>
              <a:gs pos="0">
                <a:srgbClr val="ff9900">
                  <a:alpha val="78039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V="1">
            <a:off x="950760" y="442440"/>
            <a:ext cx="8028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5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826920" y="1125360"/>
            <a:ext cx="0" cy="554220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C338-911E-4481-96D5-F22E0E12B3FB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440" y="0"/>
            <a:ext cx="914544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0" y="1125000"/>
            <a:ext cx="9144000" cy="1800"/>
          </a:xfrm>
          <a:prstGeom prst="line">
            <a:avLst/>
          </a:prstGeom>
          <a:ln w="7308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08000" y="1916280"/>
            <a:ext cx="552240" cy="6238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11592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788160"/>
            <a:ext cx="9144000" cy="698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ill Sans M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1218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6572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dddd"/>
                </a:solidFill>
                <a:latin typeface="Gill Sans M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6320" y="4292640"/>
            <a:ext cx="628560" cy="720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90360" y="2708280"/>
            <a:ext cx="648000" cy="5666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gradFill rotWithShape="0">
            <a:gsLst>
              <a:gs pos="0">
                <a:srgbClr val="ff9900">
                  <a:alpha val="57254"/>
                </a:srgbClr>
              </a:gs>
              <a:gs pos="100000">
                <a:srgbClr val="ff9900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125360"/>
            <a:ext cx="0" cy="5399280"/>
          </a:xfrm>
          <a:prstGeom prst="line">
            <a:avLst/>
          </a:prstGeom>
          <a:ln w="698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074160" y="0"/>
            <a:ext cx="69840" cy="685800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89000"/>
            <a:ext cx="8064720" cy="792000"/>
          </a:xfrm>
          <a:prstGeom prst="roundRect">
            <a:avLst>
              <a:gd name="adj" fmla="val 13426"/>
            </a:avLst>
          </a:prstGeom>
          <a:solidFill>
            <a:srgbClr val="ff9900">
              <a:alpha val="27000"/>
            </a:srgbClr>
          </a:solidFill>
          <a:ln cap="sq" w="255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E1D7-2670-4CFB-B060-FE5C0BCD3AEA}" type="slidenum">
              <a:rPr b="1" lang="es-E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80880" y="927000"/>
            <a:ext cx="7467480" cy="228600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9933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How to Create an Institutional Infolit Program</a:t>
            </a:r>
            <a:br>
              <a:rPr sz="1800"/>
            </a:br>
            <a:r>
              <a:rPr b="1" lang="en-GB" sz="1800" spc="-1" strike="noStrike">
                <a:solidFill>
                  <a:srgbClr val="cc6600"/>
                </a:solidFill>
                <a:latin typeface="Arial"/>
              </a:rPr>
              <a:t>( Based on the IFLA Information Literacy Guidelines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MX" sz="4000" spc="-1" strike="noStrike" u="sng">
                <a:solidFill>
                  <a:srgbClr val="cc0000"/>
                </a:solidFill>
                <a:uFillTx/>
                <a:latin typeface="Arial"/>
              </a:rPr>
              <a:t>2. InfoLit and Lifelong Learning</a:t>
            </a:r>
            <a:endParaRPr b="0" lang="en-US" sz="40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186920" y="3860280"/>
            <a:ext cx="762012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Jesús Lau, Ph.D.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www.jesuslau.co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rector, USBI Veracruz  Library, and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UV Virtual Library Coordinato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eracruz, México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www.uv.mx/usbi_ve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7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www.uv.mx/bvirtu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"/>
          <p:cNvSpPr/>
          <p:nvPr/>
        </p:nvSpPr>
        <p:spPr>
          <a:xfrm>
            <a:off x="1273320" y="1946160"/>
            <a:ext cx="76197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6CD2-8CCC-4F24-BD97-753D702EB0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"/>
          <p:cNvGrpSpPr/>
          <p:nvPr/>
        </p:nvGrpSpPr>
        <p:grpSpPr>
          <a:xfrm>
            <a:off x="1332000" y="1989000"/>
            <a:ext cx="7227720" cy="3527280"/>
            <a:chOff x="1332000" y="1989000"/>
            <a:chExt cx="7227720" cy="3527280"/>
          </a:xfrm>
        </p:grpSpPr>
        <p:sp>
          <p:nvSpPr>
            <p:cNvPr id="128" name=""/>
            <p:cNvSpPr/>
            <p:nvPr/>
          </p:nvSpPr>
          <p:spPr>
            <a:xfrm>
              <a:off x="2728800" y="4259520"/>
              <a:ext cx="3951360" cy="1256760"/>
            </a:xfrm>
            <a:prstGeom prst="foldedCorner">
              <a:avLst>
                <a:gd name="adj" fmla="val 12500"/>
              </a:avLst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0000"/>
                  </a:solidFill>
                  <a:uFillTx/>
                  <a:latin typeface="Arial"/>
                </a:rPr>
                <a:t>Differenc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Information literacy is a set of skill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Lifelong learning is a good hab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332000" y="1989000"/>
              <a:ext cx="2168280" cy="1712880"/>
            </a:xfrm>
            <a:prstGeom prst="foldedCorner">
              <a:avLst>
                <a:gd name="adj" fmla="val 12500"/>
              </a:avLst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0000"/>
                  </a:solidFill>
                  <a:uFillTx/>
                  <a:latin typeface="Arial"/>
                </a:rPr>
                <a:t>Inter-relationship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lf-motiva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lf-direct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lf-empowe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lf-actu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897440" y="2001600"/>
              <a:ext cx="3662280" cy="1700280"/>
            </a:xfrm>
            <a:prstGeom prst="foldedCorner">
              <a:avLst>
                <a:gd name="adj" fmla="val 12500"/>
              </a:avLst>
            </a:prstGeom>
            <a:solidFill>
              <a:srgbClr val="ff9900">
                <a:alpha val="27000"/>
              </a:srgbClr>
            </a:solidFill>
            <a:ln cap="sq" w="255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cc0000"/>
                  </a:solidFill>
                  <a:uFillTx/>
                  <a:latin typeface="Arial"/>
                </a:rPr>
                <a:t>Both improv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t of personal choices and op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Quality and utility of education and train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Prospects of finding and keeping a jo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Effective participation in social contex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732360" y="3750480"/>
              <a:ext cx="481320" cy="862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flipV="1">
              <a:off x="2052360" y="3769200"/>
              <a:ext cx="579240" cy="89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565440" y="2808360"/>
              <a:ext cx="1252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938160" y="345960"/>
            <a:ext cx="799308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Information Literacy and Lifelong Learning</a:t>
            </a:r>
            <a:r>
              <a:rPr b="1" lang="es-ES" sz="30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6C2C-3BA9-4AFA-A47F-3F7A40B33F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-18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ter-Relations of Both Concepts 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9984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y are largely self-motivated and self-direct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y do not require the mediation of an outside individual, an organization, or a system beyond the individual himself or herself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although advice and assistance from a respected friend such as a mentor or coach can be helpful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F7F7-7142-4FAB-AE53-ED0A540C39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ter-Relation – Self-Empowering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6920" y="2205000"/>
            <a:ext cx="7543800" cy="322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They are aimed at helping individuals of all age groups to help themselves, regardless of their social or economic status,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role or place in society, gender, race, religion or ethnic background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93149-0C37-4ACA-886E-25A921C1FC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35120" y="-18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nter-Relation – Self-Actuating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6920" y="177336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more information literate an individual becomes, and the longer the individual sustains good information literacy learning and practices those habits,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the greater the self-enlightenment that will occur, especially if practiced over an entire lifetime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40D25-8302-4E5A-A4CD-BDF345386D8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6400" y="-27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Harnessed Together, They Improve: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162828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Set of personal choices and options opened up for, and offered to, an individual in the context of personal, family and societal matter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Quality and utility of education and training in both formal school settings preceding entry into the workforce, and later in informal vocational or on-the-job training setting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48B1-4E31-46B2-B810-E1C8991F5C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0640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700" spc="-1" strike="noStrike">
                <a:solidFill>
                  <a:srgbClr val="cc0000"/>
                </a:solidFill>
                <a:latin typeface="Arial"/>
                <a:ea typeface="Times New Roman"/>
              </a:rPr>
              <a:t>IL-LL Contributions</a:t>
            </a:r>
            <a:endParaRPr b="0" lang="en-US" sz="37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3164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rospects of finding and keeping a satisfying job and moving up the career ladder rapidly and with appropriate rewards, and making cost-effective and wise economic and business decision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Participation of the individual effectively in social, cultural and political contexts, both at the local community level and at higher levels, and in identifying and fulfilling professional goals and aspirations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172BB-E800-4B63-95AA-B4A89BE599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640" y="43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Big or Small, Your Library Has an IL Role</a:t>
            </a:r>
            <a:r>
              <a:rPr b="1" lang="es-ES" sz="32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31640" y="1628280"/>
            <a:ext cx="75438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An information reservoir in multiple forma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A center with librarians who are information exper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A place with learning spaces 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A facility for interaction with learning peers and team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A2CEA-FE63-4122-B142-AF2678EB1E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Times New Roman"/>
              </a:rPr>
              <a:t>Big or Small, Your Library… (2) </a:t>
            </a:r>
            <a:endParaRPr b="0" lang="en-US" sz="36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170028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Space for knowledge socialization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Place with information advisers / reference specialists and consultant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Center with computer access, processing and communication of knowledg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cc0000"/>
                </a:solidFill>
                <a:latin typeface="Arial"/>
              </a:rPr>
              <a:t>Gateway to the Internet, a world of information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26A61-742F-4D7E-B395-4F7F4B6624A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35120" y="-1800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  <a:ea typeface="Times New Roman"/>
              </a:rPr>
              <a:t>Inter-Relation - Important Factors</a:t>
            </a:r>
            <a:r>
              <a:rPr b="1" lang="es-ES" sz="34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endParaRPr b="0" lang="en-US" sz="3400" spc="-1" strike="noStrike">
              <a:solidFill>
                <a:srgbClr val="3333cc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08000" y="1700280"/>
            <a:ext cx="64627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Principle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Policie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Program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Pilot Project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Model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Workshop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Tutorial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Brainstorming session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0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cc0000"/>
                </a:solidFill>
                <a:latin typeface="Arial"/>
              </a:rPr>
              <a:t>Techniques, tools, methods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2BD78-383F-45F0-ADDE-7C0EAB48F3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9T17:36:22Z</dcterms:created>
  <dc:creator>guardar</dc:creator>
  <dc:description/>
  <dc:language>en-US</dc:language>
  <cp:lastModifiedBy>Prácticas BiV / USBI VER</cp:lastModifiedBy>
  <dcterms:modified xsi:type="dcterms:W3CDTF">2007-11-29T19:02:05Z</dcterms:modified>
  <cp:revision>168</cp:revision>
  <dc:subject/>
  <dc:title>Presentación de PowerPoint</dc:title>
</cp:coreProperties>
</file>