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EDF-A9DD-4C39-8533-B1BDF993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B118-069F-4E53-84FC-C114B99A4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B833-4127-486E-9095-143A7F3E2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79D8-4C7D-45D8-89B9-623A930F4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9949-FD6D-4B15-AC67-B22D625E4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FE95F-5985-44D4-B100-2EEC808F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455EA-6BD5-457B-A477-457189C7F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27C0-B2CC-41D2-8BCA-60BE2772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4A5EC-43B3-4124-B187-46495642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DA99-3DC1-46FF-93BF-1426BCFAF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3ADDC-4B2F-4BF4-B248-9B0C68DD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D966-5186-4FB5-86EC-BE97865E4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03A1-AE8B-44C0-9A78-6408F1B2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69C7-7292-4AD8-A892-1F7D66CC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AB55D-0A50-4E3F-AE86-2412D74E7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2441-7911-41B2-9AC8-56A5C8662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3F8E-FDF4-4973-9368-5EDA0F111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A88B0-4214-4102-9112-AD7819534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889-2E9A-47AE-8247-B2A113E3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DCBA-1B6D-49AE-AB89-762647B9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9B6F-C0A0-40BB-8F99-79F0DE1A8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DB45-FE0B-4E03-BF48-32E8B023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882-3C6C-4C9E-96EA-B798A73F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02AC-EF46-454A-B543-F91062FF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440" y="0"/>
            <a:ext cx="9145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0" y="1125000"/>
            <a:ext cx="9144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ff9900">
                  <a:alpha val="57254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26920" y="1125360"/>
            <a:ext cx="0" cy="539928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900000" y="189000"/>
            <a:ext cx="8064720" cy="792000"/>
          </a:xfrm>
          <a:prstGeom prst="roundRect">
            <a:avLst>
              <a:gd name="adj" fmla="val 13426"/>
            </a:avLst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48634-6466-4E48-B816-9C21B73432B7}" type="slidenum">
              <a:rPr b="1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89120" y="142920"/>
            <a:ext cx="8316720" cy="6626160"/>
          </a:xfrm>
          <a:prstGeom prst="rect">
            <a:avLst/>
          </a:prstGeom>
          <a:blipFill rotWithShape="0">
            <a:blip r:embed="rId2"/>
            <a:srcRect/>
            <a:stretch/>
          </a:blip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544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360" y="115920"/>
            <a:ext cx="8964720" cy="404640"/>
          </a:xfrm>
          <a:prstGeom prst="rect">
            <a:avLst/>
          </a:prstGeom>
          <a:gradFill rotWithShape="0">
            <a:gsLst>
              <a:gs pos="0">
                <a:srgbClr val="ff9900">
                  <a:alpha val="78039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950760" y="442440"/>
            <a:ext cx="8028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826920" y="1125360"/>
            <a:ext cx="0" cy="554220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3A9F-0146-4D68-B832-941FE3430571}" type="slidenum">
              <a:rPr b="1" lang="es-E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403280" y="836640"/>
            <a:ext cx="7201080" cy="2879640"/>
          </a:xfrm>
          <a:prstGeom prst="roundRect">
            <a:avLst>
              <a:gd name="adj" fmla="val 16667"/>
            </a:avLst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80880" y="927000"/>
            <a:ext cx="7467480" cy="2286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Arial"/>
              </a:rPr>
              <a:t>How to Create an Institutional Infolit Program</a:t>
            </a:r>
            <a:br>
              <a:rPr sz="1800"/>
            </a:br>
            <a:r>
              <a:rPr b="1" lang="en-GB" sz="1800" spc="-1" strike="noStrike">
                <a:solidFill>
                  <a:srgbClr val="cc6600"/>
                </a:solidFill>
                <a:latin typeface="Arial"/>
              </a:rPr>
              <a:t>( Based on the IFLA Information Literacy Guidelines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MX" sz="3300" spc="-1" strike="noStrike" u="sng">
                <a:solidFill>
                  <a:srgbClr val="cc0000"/>
                </a:solidFill>
                <a:uFillTx/>
                <a:latin typeface="Arial"/>
              </a:rPr>
              <a:t>11. Electronic Classroom Design</a:t>
            </a:r>
            <a:endParaRPr b="0" lang="en-US" sz="33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86920" y="4149720"/>
            <a:ext cx="76201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Gill Sans MT"/>
              </a:rPr>
              <a:t>Jesús Lau, Ph.D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www.jesuslau.com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Director, USBI Veracruz  Library, and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UV Virtual Library Coordinat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Gill Sans MT"/>
              </a:rPr>
              <a:t>Veracruz, Méxic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Gill Sans MT"/>
              </a:rPr>
              <a:t>www.uv.mx/usbi_ve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Gill Sans MT"/>
              </a:rPr>
              <a:t>www.uv.mx/bvirtu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7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205A1-AA1B-4BFE-ACC7-720DB8CD3B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43920"/>
            <a:ext cx="81705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cc0000"/>
                </a:solidFill>
                <a:latin typeface="Arial"/>
                <a:ea typeface="Times New Roman"/>
              </a:rPr>
              <a:t>Electronic Classroom: A Learning Space  </a:t>
            </a:r>
            <a:endParaRPr b="0" lang="en-US" sz="25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2" name=""/>
          <p:cNvSpPr/>
          <p:nvPr/>
        </p:nvSpPr>
        <p:spPr>
          <a:xfrm>
            <a:off x="4819680" y="4332240"/>
            <a:ext cx="2435040" cy="1014480"/>
          </a:xfrm>
          <a:prstGeom prst="rect">
            <a:avLst/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19680" y="2948040"/>
            <a:ext cx="2435040" cy="1014480"/>
          </a:xfrm>
          <a:prstGeom prst="rect">
            <a:avLst/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Other libr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sp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114640" y="4332240"/>
            <a:ext cx="2523960" cy="1014480"/>
          </a:xfrm>
          <a:prstGeom prst="rect">
            <a:avLst/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14640" y="2948040"/>
            <a:ext cx="2523960" cy="1014480"/>
          </a:xfrm>
          <a:prstGeom prst="rect">
            <a:avLst/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Renov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132000" y="1844640"/>
            <a:ext cx="3246480" cy="646200"/>
          </a:xfrm>
          <a:prstGeom prst="rect">
            <a:avLst/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1. Option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21576000">
            <a:off x="2474640" y="4608000"/>
            <a:ext cx="19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Adap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rot="25200">
            <a:off x="4787640" y="460800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Times New Roman"/>
              </a:rPr>
              <a:t>New facilities</a:t>
            </a:r>
            <a:r>
              <a:rPr b="1" lang="es-ES" sz="2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4098600" y="2487600"/>
            <a:ext cx="630360" cy="368280"/>
          </a:xfrm>
          <a:prstGeom prst="line">
            <a:avLst/>
          </a:prstGeom>
          <a:ln w="442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8000" y="2492280"/>
            <a:ext cx="722160" cy="368280"/>
          </a:xfrm>
          <a:prstGeom prst="line">
            <a:avLst/>
          </a:prstGeom>
          <a:ln w="442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376440" y="3962520"/>
            <a:ext cx="1800" cy="369720"/>
          </a:xfrm>
          <a:prstGeom prst="line">
            <a:avLst/>
          </a:prstGeom>
          <a:ln w="442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91120" y="3962520"/>
            <a:ext cx="1800" cy="369720"/>
          </a:xfrm>
          <a:prstGeom prst="line">
            <a:avLst/>
          </a:prstGeom>
          <a:ln w="442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A8CB-84DF-4CF8-9651-1BB079A16C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403280" y="907920"/>
            <a:ext cx="6933960" cy="4572000"/>
            <a:chOff x="1403280" y="907920"/>
            <a:chExt cx="6933960" cy="4572000"/>
          </a:xfrm>
        </p:grpSpPr>
        <p:sp>
          <p:nvSpPr>
            <p:cNvPr id="124" name=""/>
            <p:cNvSpPr/>
            <p:nvPr/>
          </p:nvSpPr>
          <p:spPr>
            <a:xfrm>
              <a:off x="6661080" y="2584440"/>
              <a:ext cx="1676160" cy="99072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Space size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0160" y="2660760"/>
              <a:ext cx="1905120" cy="99036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2. Standards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203880" y="907920"/>
              <a:ext cx="1676160" cy="99072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Building</a:t>
              </a: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codes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403280" y="3193920"/>
              <a:ext cx="1676160" cy="99072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Lighting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Darkness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89080" y="4489560"/>
              <a:ext cx="1676160" cy="99036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Layout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70160" y="4413240"/>
              <a:ext cx="1676520" cy="99072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Equipment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936440" y="1670040"/>
              <a:ext cx="1676520" cy="99072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Acoustics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0160" y="907920"/>
              <a:ext cx="1676520" cy="99072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Location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508440" y="4184640"/>
              <a:ext cx="1676520" cy="99072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Furniture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36640" y="2432160"/>
              <a:ext cx="685800" cy="45720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3079440" y="3270240"/>
              <a:ext cx="990720" cy="38088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3536640" y="3574800"/>
              <a:ext cx="914400" cy="106668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908240" y="3650760"/>
              <a:ext cx="76320" cy="7621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4984560" y="1898280"/>
              <a:ext cx="0" cy="7621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670360" y="1822320"/>
              <a:ext cx="838080" cy="9907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975280" y="3193920"/>
              <a:ext cx="685800" cy="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94040" y="3575160"/>
              <a:ext cx="1219320" cy="76176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3E87-6A28-47E1-A73A-4EDEF0E475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1332000" y="1060560"/>
            <a:ext cx="7279920" cy="4889160"/>
            <a:chOff x="1332000" y="1060560"/>
            <a:chExt cx="7279920" cy="4889160"/>
          </a:xfrm>
        </p:grpSpPr>
        <p:sp>
          <p:nvSpPr>
            <p:cNvPr id="142" name=""/>
            <p:cNvSpPr/>
            <p:nvPr/>
          </p:nvSpPr>
          <p:spPr>
            <a:xfrm>
              <a:off x="1332000" y="1060560"/>
              <a:ext cx="2151000" cy="1023840"/>
            </a:xfrm>
            <a:prstGeom prst="flowChartAlternateProcess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Walls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32000" y="2340360"/>
              <a:ext cx="2151000" cy="1024560"/>
            </a:xfrm>
            <a:prstGeom prst="flowChartAlternateProcess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Col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332000" y="4901400"/>
              <a:ext cx="2151000" cy="1023840"/>
            </a:xfrm>
            <a:prstGeom prst="flowChartAlternateProcess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Doorways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332000" y="3620880"/>
              <a:ext cx="2151000" cy="1023840"/>
            </a:xfrm>
            <a:prstGeom prst="flowChartAlternateProcess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Window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1280" y="1083960"/>
              <a:ext cx="2150640" cy="1024560"/>
            </a:xfrm>
            <a:prstGeom prst="flowChartAlternateProcess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Wheelchair-u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461280" y="2364480"/>
              <a:ext cx="2150640" cy="1023840"/>
            </a:xfrm>
            <a:prstGeom prst="flowChartAlternateProcess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Signs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61280" y="4925160"/>
              <a:ext cx="2150640" cy="1024560"/>
            </a:xfrm>
            <a:prstGeom prst="flowChartAlternateProcess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Wiring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461280" y="3645000"/>
              <a:ext cx="2150640" cy="1023840"/>
            </a:xfrm>
            <a:prstGeom prst="flowChartAlternateProcess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Ceilings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948120" y="2468520"/>
              <a:ext cx="2068200" cy="179208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3. Building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3482640" y="1572120"/>
              <a:ext cx="330480" cy="3840480"/>
              <a:chOff x="3482640" y="1572120"/>
              <a:chExt cx="330480" cy="3840480"/>
            </a:xfrm>
          </p:grpSpPr>
          <p:sp>
            <p:nvSpPr>
              <p:cNvPr id="152" name=""/>
              <p:cNvSpPr/>
              <p:nvPr/>
            </p:nvSpPr>
            <p:spPr>
              <a:xfrm>
                <a:off x="3813120" y="1572120"/>
                <a:ext cx="0" cy="3840480"/>
              </a:xfrm>
              <a:prstGeom prst="line">
                <a:avLst/>
              </a:prstGeom>
              <a:ln cap="sq"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3482640" y="5412600"/>
                <a:ext cx="330120" cy="0"/>
              </a:xfrm>
              <a:prstGeom prst="line">
                <a:avLst/>
              </a:prstGeom>
              <a:ln cap="sq"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3482640" y="2852280"/>
                <a:ext cx="330120" cy="0"/>
              </a:xfrm>
              <a:prstGeom prst="line">
                <a:avLst/>
              </a:prstGeom>
              <a:ln cap="sq"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3482640" y="4132800"/>
                <a:ext cx="330120" cy="0"/>
              </a:xfrm>
              <a:prstGeom prst="line">
                <a:avLst/>
              </a:prstGeom>
              <a:ln cap="sq"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3482640" y="1572120"/>
                <a:ext cx="330120" cy="0"/>
              </a:xfrm>
              <a:prstGeom prst="line">
                <a:avLst/>
              </a:prstGeom>
              <a:ln cap="sq"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6135120" y="1828440"/>
              <a:ext cx="330480" cy="3840480"/>
              <a:chOff x="6135120" y="1828440"/>
              <a:chExt cx="330480" cy="3840480"/>
            </a:xfrm>
          </p:grpSpPr>
          <p:sp>
            <p:nvSpPr>
              <p:cNvPr id="158" name=""/>
              <p:cNvSpPr/>
              <p:nvPr/>
            </p:nvSpPr>
            <p:spPr>
              <a:xfrm flipV="1">
                <a:off x="6135120" y="1828440"/>
                <a:ext cx="0" cy="3840480"/>
              </a:xfrm>
              <a:prstGeom prst="line">
                <a:avLst/>
              </a:prstGeom>
              <a:ln cap="sq"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135120" y="1828440"/>
                <a:ext cx="330480" cy="0"/>
              </a:xfrm>
              <a:prstGeom prst="line">
                <a:avLst/>
              </a:prstGeom>
              <a:ln cap="sq"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135120" y="4388760"/>
                <a:ext cx="330480" cy="0"/>
              </a:xfrm>
              <a:prstGeom prst="line">
                <a:avLst/>
              </a:prstGeom>
              <a:ln cap="sq"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135120" y="3108240"/>
                <a:ext cx="330480" cy="0"/>
              </a:xfrm>
              <a:prstGeom prst="line">
                <a:avLst/>
              </a:prstGeom>
              <a:ln cap="sq"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135120" y="5668920"/>
                <a:ext cx="330480" cy="0"/>
              </a:xfrm>
              <a:prstGeom prst="line">
                <a:avLst/>
              </a:prstGeom>
              <a:ln cap="sq"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 flipH="1">
              <a:off x="3813840" y="3364920"/>
              <a:ext cx="82800" cy="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47280" y="3364920"/>
              <a:ext cx="82800" cy="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726E-72D1-4EB9-951A-EF7A758FCE8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3405240" y="765000"/>
            <a:ext cx="2895480" cy="5715000"/>
            <a:chOff x="3405240" y="765000"/>
            <a:chExt cx="2895480" cy="5715000"/>
          </a:xfrm>
        </p:grpSpPr>
        <p:sp>
          <p:nvSpPr>
            <p:cNvPr id="166" name=""/>
            <p:cNvSpPr/>
            <p:nvPr/>
          </p:nvSpPr>
          <p:spPr>
            <a:xfrm>
              <a:off x="3405240" y="1603440"/>
              <a:ext cx="2895480" cy="53316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Forward facing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05240" y="2441520"/>
              <a:ext cx="2895480" cy="53352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Horse-shoe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405240" y="3279600"/>
              <a:ext cx="2895480" cy="53352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Double-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05240" y="4118040"/>
              <a:ext cx="2895480" cy="53316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Desk clusters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05240" y="5718240"/>
              <a:ext cx="2895480" cy="76176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Periphery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desk at center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05240" y="765000"/>
              <a:ext cx="2895480" cy="53352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4. Desk Arrangment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405240" y="4956120"/>
              <a:ext cx="2895480" cy="53352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V-shaped</a:t>
              </a:r>
              <a:r>
                <a:rPr b="1" lang="es-ES" sz="20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776480" y="1298520"/>
              <a:ext cx="0" cy="3049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76480" y="2136600"/>
              <a:ext cx="0" cy="3049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76480" y="2975040"/>
              <a:ext cx="0" cy="30456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76480" y="3813120"/>
              <a:ext cx="0" cy="3049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76480" y="4651200"/>
              <a:ext cx="0" cy="3049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776480" y="5489640"/>
              <a:ext cx="0" cy="22860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F502-8914-4323-900F-18D4B0D58D3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"/>
          <p:cNvGrpSpPr/>
          <p:nvPr/>
        </p:nvGrpSpPr>
        <p:grpSpPr>
          <a:xfrm>
            <a:off x="1763640" y="1270080"/>
            <a:ext cx="6622920" cy="4102920"/>
            <a:chOff x="1763640" y="1270080"/>
            <a:chExt cx="6622920" cy="4102920"/>
          </a:xfrm>
        </p:grpSpPr>
        <p:sp>
          <p:nvSpPr>
            <p:cNvPr id="180" name=""/>
            <p:cNvSpPr/>
            <p:nvPr/>
          </p:nvSpPr>
          <p:spPr>
            <a:xfrm>
              <a:off x="3726000" y="1270080"/>
              <a:ext cx="2289600" cy="69804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5. Management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63640" y="2404800"/>
              <a:ext cx="2862000" cy="78552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Training  strategies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116320" y="4674960"/>
              <a:ext cx="3270240" cy="69804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Replacement equipment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763640" y="3627360"/>
              <a:ext cx="2862000" cy="78552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Polici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and procedur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116320" y="3627360"/>
              <a:ext cx="3270240" cy="78552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Inventory list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116320" y="2404800"/>
              <a:ext cx="3188880" cy="78552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Trouble shooting guide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763640" y="4674960"/>
              <a:ext cx="2862000" cy="69804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Maintainance plan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153960" y="1968120"/>
              <a:ext cx="1635120" cy="4363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89080" y="1968120"/>
              <a:ext cx="1962360" cy="4363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071880" y="3190680"/>
              <a:ext cx="0" cy="43668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71880" y="4413240"/>
              <a:ext cx="0" cy="2617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51440" y="3190680"/>
              <a:ext cx="0" cy="43668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51440" y="4413240"/>
              <a:ext cx="0" cy="2617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A9E3-9356-4251-977D-59012B48AC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"/>
          <p:cNvGrpSpPr/>
          <p:nvPr/>
        </p:nvGrpSpPr>
        <p:grpSpPr>
          <a:xfrm>
            <a:off x="1517760" y="1490760"/>
            <a:ext cx="7086600" cy="3809880"/>
            <a:chOff x="1517760" y="1490760"/>
            <a:chExt cx="7086600" cy="3809880"/>
          </a:xfrm>
        </p:grpSpPr>
        <p:sp>
          <p:nvSpPr>
            <p:cNvPr id="194" name=""/>
            <p:cNvSpPr/>
            <p:nvPr/>
          </p:nvSpPr>
          <p:spPr>
            <a:xfrm>
              <a:off x="1517760" y="1567080"/>
              <a:ext cx="1981440" cy="121896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Tables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08680" y="2862360"/>
              <a:ext cx="1905120" cy="99072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6. Furniture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394680" y="1490760"/>
              <a:ext cx="2133720" cy="129528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Instructo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station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46960" y="4005360"/>
              <a:ext cx="2057400" cy="129528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Materials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storag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furniture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17760" y="4005360"/>
              <a:ext cx="2057400" cy="129528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Desks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499200" y="3776760"/>
              <a:ext cx="761760" cy="5335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499200" y="2481480"/>
              <a:ext cx="685800" cy="53316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785200" y="2481480"/>
              <a:ext cx="685800" cy="38088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861160" y="3776760"/>
              <a:ext cx="838440" cy="38088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147F-1DD3-44C0-82FE-7AE8A1B7EA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"/>
          <p:cNvGrpSpPr/>
          <p:nvPr/>
        </p:nvGrpSpPr>
        <p:grpSpPr>
          <a:xfrm>
            <a:off x="1547640" y="1052640"/>
            <a:ext cx="6697440" cy="4492080"/>
            <a:chOff x="1547640" y="1052640"/>
            <a:chExt cx="6697440" cy="4492080"/>
          </a:xfrm>
        </p:grpSpPr>
        <p:sp>
          <p:nvSpPr>
            <p:cNvPr id="204" name=""/>
            <p:cNvSpPr/>
            <p:nvPr/>
          </p:nvSpPr>
          <p:spPr>
            <a:xfrm>
              <a:off x="3582360" y="1052640"/>
              <a:ext cx="2628000" cy="93240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7. Equipment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47640" y="3171600"/>
              <a:ext cx="1780200" cy="93204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Multimedi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projector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631880" y="1815120"/>
              <a:ext cx="1695960" cy="93240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Computers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47640" y="4612320"/>
              <a:ext cx="1780200" cy="93240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Overhea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projector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464880" y="4612320"/>
              <a:ext cx="1780200" cy="93240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Screen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64880" y="3171600"/>
              <a:ext cx="1780200" cy="93204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TV set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464880" y="1815120"/>
              <a:ext cx="1780200" cy="932400"/>
            </a:xfrm>
            <a:prstGeom prst="rect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DV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drives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327840" y="2239200"/>
              <a:ext cx="1526040" cy="288144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327840" y="2069280"/>
              <a:ext cx="1356120" cy="152532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412440" y="2069640"/>
              <a:ext cx="762840" cy="25416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 flipV="1">
              <a:off x="5701680" y="2069640"/>
              <a:ext cx="678240" cy="25416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5108040" y="2069280"/>
              <a:ext cx="1356120" cy="161028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5023080" y="2239200"/>
              <a:ext cx="1441080" cy="2881440"/>
            </a:xfrm>
            <a:prstGeom prst="line">
              <a:avLst/>
            </a:prstGeom>
            <a:ln cap="sq"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4B1D-3782-4C03-B80A-3AAF32FB10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1044720" y="1177920"/>
            <a:ext cx="7774920" cy="4267080"/>
            <a:chOff x="1044720" y="1177920"/>
            <a:chExt cx="7774920" cy="4267080"/>
          </a:xfrm>
        </p:grpSpPr>
        <p:sp>
          <p:nvSpPr>
            <p:cNvPr id="218" name=""/>
            <p:cNvSpPr/>
            <p:nvPr/>
          </p:nvSpPr>
          <p:spPr>
            <a:xfrm>
              <a:off x="4125240" y="1940040"/>
              <a:ext cx="1760400" cy="106668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Group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monitoring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071440" y="1177920"/>
              <a:ext cx="1760400" cy="99072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Lectureware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59240" y="4454640"/>
              <a:ext cx="1760400" cy="99036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8. Software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858560" y="3540240"/>
              <a:ext cx="1760400" cy="99036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Offi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software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98160" y="4454640"/>
              <a:ext cx="1760400" cy="99036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Secur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virus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44720" y="4149720"/>
              <a:ext cx="1760400" cy="990720"/>
            </a:xfrm>
            <a:prstGeom prst="ellipse">
              <a:avLst/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Other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software</a:t>
              </a:r>
              <a:r>
                <a:rPr b="1" lang="es-ES" sz="1800" spc="-1" strike="noStrike">
                  <a:solidFill>
                    <a:srgbClr val="cc0000"/>
                  </a:solidFill>
                  <a:latin typeface="Arial"/>
                  <a:ea typeface="Times New Roman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758400" y="1940040"/>
              <a:ext cx="439920" cy="1522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18800" y="3006720"/>
              <a:ext cx="219960" cy="4572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805120" y="4759200"/>
              <a:ext cx="2930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4858560" y="4530240"/>
              <a:ext cx="293400" cy="22860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46240" y="4302000"/>
              <a:ext cx="513000" cy="3812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F41CC-524A-4FD0-8719-C293DDC3E9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7:36:22Z</dcterms:created>
  <dc:creator>guardar</dc:creator>
  <dc:description/>
  <dc:language>en-US</dc:language>
  <cp:lastModifiedBy>Prácticas BiV / USBI VER</cp:lastModifiedBy>
  <dcterms:modified xsi:type="dcterms:W3CDTF">2007-11-29T19:06:22Z</dcterms:modified>
  <cp:revision>163</cp:revision>
  <dc:subject/>
  <dc:title>Presentación de PowerPoint</dc:title>
</cp:coreProperties>
</file>